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F92-D597-474C-8091-EA6B2AC8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8FE-B155-4417-A9B5-AC45384E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89D-6DA1-4DAA-910D-4DA8CDF1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4DB-8C4F-453D-BC73-61839C3A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ED8-C4F0-4AED-944C-5C627CA9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999-7CEA-43A4-8D7E-46CC996F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EE8-D530-4E79-8C45-9CDA4C7F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E62-5D15-4702-AE17-49B4F039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BD8-2C9B-4E12-B8EB-5B3E7AFE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AD7-C87D-45B0-B39D-43063CA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9FA-341F-4F6E-9E44-F0FFC0E1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600-882A-4F5D-A0FC-DFD9A169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5D62-1BB9-4BA4-AE1E-3EAF01382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38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0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0968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L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65360" y="249840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any player, no more than 2 spaces for you draws a Follower from the Adventure deck, roll 1D6.  The Follower will come to you on a 5-6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57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51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380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604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0968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OODSMANSH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6536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you use an axe in Combat, you may add 1 to your die roll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5732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60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61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859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083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576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NIMAL FRIE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13280" y="493704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you defeat and animal in Combat you may choose not to kill it but take it as a Follower.  You may only have one Animal Friend at a tim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052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81600" y="1066680"/>
            <a:ext cx="1282680" cy="2286000"/>
            <a:chOff x="3981600" y="1066680"/>
            <a:chExt cx="1282680" cy="2286000"/>
          </a:xfrm>
        </p:grpSpPr>
        <p:grpSp>
          <p:nvGrpSpPr>
            <p:cNvPr id="69" name=""/>
            <p:cNvGrpSpPr/>
            <p:nvPr/>
          </p:nvGrpSpPr>
          <p:grpSpPr>
            <a:xfrm>
              <a:off x="3981600" y="1066680"/>
              <a:ext cx="1280880" cy="2286000"/>
              <a:chOff x="3981600" y="1066680"/>
              <a:chExt cx="1280880" cy="2286000"/>
            </a:xfrm>
          </p:grpSpPr>
          <p:sp>
            <p:nvSpPr>
              <p:cNvPr id="70" name=""/>
              <p:cNvSpPr/>
              <p:nvPr/>
            </p:nvSpPr>
            <p:spPr>
              <a:xfrm>
                <a:off x="3981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05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627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7668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057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AN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2360" y="2498400"/>
              <a:ext cx="12319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ever you encounter another player, you may choose to panic them and send them 1 die roll away.  To do so, roll 1D6.  1-4; No effect; 5-6: Success.  If you succeed, roll a die and move them that number of spaces in any direction.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24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52920" y="1066680"/>
            <a:ext cx="1282680" cy="2286000"/>
            <a:chOff x="5452920" y="1066680"/>
            <a:chExt cx="1282680" cy="2286000"/>
          </a:xfrm>
        </p:grpSpPr>
        <p:grpSp>
          <p:nvGrpSpPr>
            <p:cNvPr id="78" name=""/>
            <p:cNvGrpSpPr/>
            <p:nvPr/>
          </p:nvGrpSpPr>
          <p:grpSpPr>
            <a:xfrm>
              <a:off x="5452920" y="1066680"/>
              <a:ext cx="1280880" cy="2286000"/>
              <a:chOff x="5452920" y="1066680"/>
              <a:chExt cx="1280880" cy="2286000"/>
            </a:xfrm>
          </p:grpSpPr>
          <p:sp>
            <p:nvSpPr>
              <p:cNvPr id="79" name=""/>
              <p:cNvSpPr/>
              <p:nvPr/>
            </p:nvSpPr>
            <p:spPr>
              <a:xfrm>
                <a:off x="54529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763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987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4800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5288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HAR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03680" y="249840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Combat you may choose to charge.  To do so, you must declare you are charging and then add 2 to your die roll.  Win or lose you must lose a turn to recover your wits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956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52920" y="3505320"/>
            <a:ext cx="1282680" cy="2286000"/>
            <a:chOff x="5452920" y="3505320"/>
            <a:chExt cx="1282680" cy="2286000"/>
          </a:xfrm>
        </p:grpSpPr>
        <p:grpSp>
          <p:nvGrpSpPr>
            <p:cNvPr id="87" name=""/>
            <p:cNvGrpSpPr/>
            <p:nvPr/>
          </p:nvGrpSpPr>
          <p:grpSpPr>
            <a:xfrm>
              <a:off x="5452920" y="3505320"/>
              <a:ext cx="1280880" cy="2286000"/>
              <a:chOff x="5452920" y="3505320"/>
              <a:chExt cx="1280880" cy="2286000"/>
            </a:xfrm>
          </p:grpSpPr>
          <p:sp>
            <p:nvSpPr>
              <p:cNvPr id="88" name=""/>
              <p:cNvSpPr/>
              <p:nvPr/>
            </p:nvSpPr>
            <p:spPr>
              <a:xfrm>
                <a:off x="54529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763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987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480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5288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SORCISI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03680" y="4937040"/>
              <a:ext cx="1231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ever you encounter a Spirit, you may move it to any space in the same Region.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56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934320" y="1066680"/>
            <a:ext cx="1282680" cy="2286000"/>
            <a:chOff x="6934320" y="1066680"/>
            <a:chExt cx="1282680" cy="2286000"/>
          </a:xfrm>
        </p:grpSpPr>
        <p:grpSp>
          <p:nvGrpSpPr>
            <p:cNvPr id="96" name=""/>
            <p:cNvGrpSpPr/>
            <p:nvPr/>
          </p:nvGrpSpPr>
          <p:grpSpPr>
            <a:xfrm>
              <a:off x="6934320" y="1066680"/>
              <a:ext cx="1280880" cy="2286000"/>
              <a:chOff x="6934320" y="1066680"/>
              <a:chExt cx="1280880" cy="2286000"/>
            </a:xfrm>
          </p:grpSpPr>
          <p:sp>
            <p:nvSpPr>
              <p:cNvPr id="97" name=""/>
              <p:cNvSpPr/>
              <p:nvPr/>
            </p:nvSpPr>
            <p:spPr>
              <a:xfrm>
                <a:off x="69343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577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5801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2940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0102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HIGHLAND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508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ever you end your turn on a hills space you may immediately take another turn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770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105" name=""/>
            <p:cNvGrpSpPr/>
            <p:nvPr/>
          </p:nvGrpSpPr>
          <p:grpSpPr>
            <a:xfrm>
              <a:off x="6934320" y="3505320"/>
              <a:ext cx="1280880" cy="2286000"/>
              <a:chOff x="6934320" y="3505320"/>
              <a:chExt cx="1280880" cy="2286000"/>
            </a:xfrm>
          </p:grpSpPr>
          <p:sp>
            <p:nvSpPr>
              <p:cNvPr id="106" name=""/>
              <p:cNvSpPr/>
              <p:nvPr/>
            </p:nvSpPr>
            <p:spPr>
              <a:xfrm>
                <a:off x="69343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577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801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294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70102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VE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8508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heal yourself by losing a turn.  You gain 1 Life for each two turns lost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770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114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115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141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858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IRIT POW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41480" y="4937040"/>
              <a:ext cx="123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ach Spirit your destroy, you gain 1 Craft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334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123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124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141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365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8580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666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IR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41480" y="24984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you end your turn on a Plains space you may immediately take another turn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334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50%20The%20South%20Wind" descr=""/>
          <p:cNvPicPr/>
          <p:nvPr/>
        </p:nvPicPr>
        <p:blipFill>
          <a:blip r:embed="rId1"/>
          <a:stretch/>
        </p:blipFill>
        <p:spPr>
          <a:xfrm>
            <a:off x="1066680" y="1378080"/>
            <a:ext cx="1100160" cy="106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87%20Young%20Robin" descr=""/>
          <p:cNvPicPr/>
          <p:nvPr/>
        </p:nvPicPr>
        <p:blipFill>
          <a:blip r:embed="rId2"/>
          <a:stretch/>
        </p:blipFill>
        <p:spPr>
          <a:xfrm>
            <a:off x="2635200" y="1397160"/>
            <a:ext cx="105264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95%20Constitution%20Drain" descr=""/>
          <p:cNvPicPr/>
          <p:nvPr/>
        </p:nvPicPr>
        <p:blipFill>
          <a:blip r:embed="rId3"/>
          <a:stretch/>
        </p:blipFill>
        <p:spPr>
          <a:xfrm>
            <a:off x="4135320" y="1390680"/>
            <a:ext cx="9684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61%20Myrmidons" descr=""/>
          <p:cNvPicPr/>
          <p:nvPr/>
        </p:nvPicPr>
        <p:blipFill>
          <a:blip r:embed="rId4"/>
          <a:stretch/>
        </p:blipFill>
        <p:spPr>
          <a:xfrm>
            <a:off x="5651640" y="1409760"/>
            <a:ext cx="91908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63%20Bloodriders" descr=""/>
          <p:cNvPicPr/>
          <p:nvPr/>
        </p:nvPicPr>
        <p:blipFill>
          <a:blip r:embed="rId5"/>
          <a:stretch/>
        </p:blipFill>
        <p:spPr>
          <a:xfrm>
            <a:off x="7162920" y="1447920"/>
            <a:ext cx="990360" cy="9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32%20Succor" descr=""/>
          <p:cNvPicPr/>
          <p:nvPr/>
        </p:nvPicPr>
        <p:blipFill>
          <a:blip r:embed="rId6"/>
          <a:stretch/>
        </p:blipFill>
        <p:spPr>
          <a:xfrm>
            <a:off x="7010280" y="3824280"/>
            <a:ext cx="1060560" cy="11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39%20Call%20Lightning" descr=""/>
          <p:cNvPicPr/>
          <p:nvPr/>
        </p:nvPicPr>
        <p:blipFill>
          <a:blip r:embed="rId7"/>
          <a:stretch/>
        </p:blipFill>
        <p:spPr>
          <a:xfrm>
            <a:off x="5605560" y="3862440"/>
            <a:ext cx="97452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36%20Animal%20Affinity" descr=""/>
          <p:cNvPicPr/>
          <p:nvPr/>
        </p:nvPicPr>
        <p:blipFill>
          <a:blip r:embed="rId8"/>
          <a:stretch/>
        </p:blipFill>
        <p:spPr>
          <a:xfrm>
            <a:off x="4089240" y="3867120"/>
            <a:ext cx="1046160" cy="103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370%20Invisibility%20to%20Undead" descr=""/>
          <p:cNvPicPr/>
          <p:nvPr/>
        </p:nvPicPr>
        <p:blipFill>
          <a:blip r:embed="rId9"/>
          <a:stretch/>
        </p:blipFill>
        <p:spPr>
          <a:xfrm>
            <a:off x="1085760" y="3844800"/>
            <a:ext cx="1046160" cy="10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185%20Thorvid" descr=""/>
          <p:cNvPicPr/>
          <p:nvPr/>
        </p:nvPicPr>
        <p:blipFill>
          <a:blip r:embed="rId10"/>
          <a:stretch/>
        </p:blipFill>
        <p:spPr>
          <a:xfrm>
            <a:off x="2622600" y="3822840"/>
            <a:ext cx="1066680" cy="104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7-03T00:02:46Z</dcterms:modified>
  <cp:revision>14</cp:revision>
  <dc:subject/>
  <dc:title>PowerPoint Presentation</dc:title>
</cp:coreProperties>
</file>