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263-8E18-4B26-A8D1-38558B90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B3E-AFC1-4125-A966-C18EBD14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A26-3718-43FD-A170-E715867F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584-6306-413B-A04E-B5DC1FD4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2D9-EBB2-463A-9D66-CF65155D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896-EA63-4A0B-808A-9B3BF725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4C4-5370-4F0F-A56B-233D1993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DA5-B2BF-4943-BAF3-81FD1E17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1BD-8160-4E65-B29C-D2DB2DD3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5DA-AB36-4D01-BEC5-2211730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883-8AF5-49BA-9BF2-0F4C02D3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1D8-2CD3-4536-8C40-5668F5E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DD0C-E963-4707-AB25-1F258A74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04760" y="1081080"/>
            <a:ext cx="1282680" cy="2286000"/>
            <a:chOff x="1004760" y="1081080"/>
            <a:chExt cx="12826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1004760" y="1081080"/>
              <a:ext cx="1280880" cy="2286000"/>
              <a:chOff x="1004760" y="108108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100476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2816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65060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9984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080720" y="12668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AFT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55520" y="25128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need not roll a die in the Crags, Forest or Chasm; you are always safe ther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47480" y="23605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990720" y="3519360"/>
            <a:ext cx="1282680" cy="2286000"/>
            <a:chOff x="990720" y="3519360"/>
            <a:chExt cx="1282680" cy="2286000"/>
          </a:xfrm>
        </p:grpSpPr>
        <p:grpSp>
          <p:nvGrpSpPr>
            <p:cNvPr id="51" name=""/>
            <p:cNvGrpSpPr/>
            <p:nvPr/>
          </p:nvGrpSpPr>
          <p:grpSpPr>
            <a:xfrm>
              <a:off x="990720" y="3519360"/>
              <a:ext cx="1280880" cy="2286000"/>
              <a:chOff x="990720" y="351936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1412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3656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8580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6668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SYCH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41480" y="495108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you encounter another player, you may chose to make the Combat Psychic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344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514600" y="3519360"/>
            <a:ext cx="1282680" cy="2286000"/>
            <a:chOff x="2514600" y="3519360"/>
            <a:chExt cx="1282680" cy="2286000"/>
          </a:xfrm>
        </p:grpSpPr>
        <p:grpSp>
          <p:nvGrpSpPr>
            <p:cNvPr id="60" name=""/>
            <p:cNvGrpSpPr/>
            <p:nvPr/>
          </p:nvGrpSpPr>
          <p:grpSpPr>
            <a:xfrm>
              <a:off x="2514600" y="3519360"/>
              <a:ext cx="1280880" cy="2286000"/>
              <a:chOff x="2514600" y="3519360"/>
              <a:chExt cx="1280880" cy="2286000"/>
            </a:xfrm>
          </p:grpSpPr>
          <p:sp>
            <p:nvSpPr>
              <p:cNvPr id="61" name=""/>
              <p:cNvSpPr/>
              <p:nvPr/>
            </p:nvSpPr>
            <p:spPr>
              <a:xfrm>
                <a:off x="251460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3800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6044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0968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9056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EGUI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65360" y="4951080"/>
              <a:ext cx="1231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you encounter another player, you may choose to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uil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m into giving you 1 Possession.  To do so, roll 1 die; you must roll a 6 to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uil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 good player; 5 or 6 for a Neutral player; or 4, 5 or 6 for an Evil player.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732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514600" y="1081080"/>
            <a:ext cx="1282680" cy="2286000"/>
            <a:chOff x="2514600" y="1081080"/>
            <a:chExt cx="1282680" cy="2286000"/>
          </a:xfrm>
        </p:grpSpPr>
        <p:grpSp>
          <p:nvGrpSpPr>
            <p:cNvPr id="69" name=""/>
            <p:cNvGrpSpPr/>
            <p:nvPr/>
          </p:nvGrpSpPr>
          <p:grpSpPr>
            <a:xfrm>
              <a:off x="2514600" y="1081080"/>
              <a:ext cx="1280880" cy="2286000"/>
              <a:chOff x="2514600" y="1081080"/>
              <a:chExt cx="1280880" cy="2286000"/>
            </a:xfrm>
          </p:grpSpPr>
          <p:sp>
            <p:nvSpPr>
              <p:cNvPr id="70" name=""/>
              <p:cNvSpPr/>
              <p:nvPr/>
            </p:nvSpPr>
            <p:spPr>
              <a:xfrm>
                <a:off x="251460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3800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6044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10968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590560" y="12668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ETEROLOG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65360" y="251280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choose to ignore the effects of any weather related events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57320" y="23605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62520" y="1085760"/>
            <a:ext cx="1282680" cy="2286000"/>
            <a:chOff x="3962520" y="1085760"/>
            <a:chExt cx="1282680" cy="2286000"/>
          </a:xfrm>
        </p:grpSpPr>
        <p:grpSp>
          <p:nvGrpSpPr>
            <p:cNvPr id="78" name=""/>
            <p:cNvGrpSpPr/>
            <p:nvPr/>
          </p:nvGrpSpPr>
          <p:grpSpPr>
            <a:xfrm>
              <a:off x="3962520" y="1085760"/>
              <a:ext cx="1280880" cy="2286000"/>
              <a:chOff x="3962520" y="1085760"/>
              <a:chExt cx="1280880" cy="2286000"/>
            </a:xfrm>
          </p:grpSpPr>
          <p:sp>
            <p:nvSpPr>
              <p:cNvPr id="79" name=""/>
              <p:cNvSpPr/>
              <p:nvPr/>
            </p:nvSpPr>
            <p:spPr>
              <a:xfrm>
                <a:off x="3962520" y="10857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985920" y="11602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08360" y="11602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557600" y="11602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038480" y="12715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IE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3280" y="2517480"/>
              <a:ext cx="123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add 1 to your die roll when praying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05240" y="23652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962520" y="3519360"/>
            <a:ext cx="1282680" cy="2286000"/>
            <a:chOff x="3962520" y="3519360"/>
            <a:chExt cx="1282680" cy="2286000"/>
          </a:xfrm>
        </p:grpSpPr>
        <p:grpSp>
          <p:nvGrpSpPr>
            <p:cNvPr id="87" name=""/>
            <p:cNvGrpSpPr/>
            <p:nvPr/>
          </p:nvGrpSpPr>
          <p:grpSpPr>
            <a:xfrm>
              <a:off x="3962520" y="3519360"/>
              <a:ext cx="1280880" cy="2286000"/>
              <a:chOff x="3962520" y="3519360"/>
              <a:chExt cx="1280880" cy="2286000"/>
            </a:xfrm>
          </p:grpSpPr>
          <p:sp>
            <p:nvSpPr>
              <p:cNvPr id="88" name=""/>
              <p:cNvSpPr/>
              <p:nvPr/>
            </p:nvSpPr>
            <p:spPr>
              <a:xfrm>
                <a:off x="396252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98592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0836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5760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03848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DMI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13280" y="495108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take 1 Follower from any player you encounter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0524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438880" y="3519360"/>
            <a:ext cx="1282680" cy="2286000"/>
            <a:chOff x="5438880" y="3519360"/>
            <a:chExt cx="1282680" cy="2286000"/>
          </a:xfrm>
        </p:grpSpPr>
        <p:grpSp>
          <p:nvGrpSpPr>
            <p:cNvPr id="96" name=""/>
            <p:cNvGrpSpPr/>
            <p:nvPr/>
          </p:nvGrpSpPr>
          <p:grpSpPr>
            <a:xfrm>
              <a:off x="5438880" y="3519360"/>
              <a:ext cx="1280880" cy="2286000"/>
              <a:chOff x="5438880" y="3519360"/>
              <a:chExt cx="1280880" cy="2286000"/>
            </a:xfrm>
          </p:grpSpPr>
          <p:sp>
            <p:nvSpPr>
              <p:cNvPr id="97" name=""/>
              <p:cNvSpPr/>
              <p:nvPr/>
            </p:nvSpPr>
            <p:spPr>
              <a:xfrm>
                <a:off x="543888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6228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8472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3396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51484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HIEV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9640" y="4951080"/>
              <a:ext cx="1231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steal 1 Object whenever you are at the Market.  Roll a D6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: Swor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: Helm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: Water Bott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: Shiel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: Mu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: Raft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8160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438880" y="1081080"/>
            <a:ext cx="1282680" cy="2286000"/>
            <a:chOff x="5438880" y="1081080"/>
            <a:chExt cx="1282680" cy="2286000"/>
          </a:xfrm>
        </p:grpSpPr>
        <p:grpSp>
          <p:nvGrpSpPr>
            <p:cNvPr id="105" name=""/>
            <p:cNvGrpSpPr/>
            <p:nvPr/>
          </p:nvGrpSpPr>
          <p:grpSpPr>
            <a:xfrm>
              <a:off x="5438880" y="1081080"/>
              <a:ext cx="1280880" cy="2286000"/>
              <a:chOff x="5438880" y="1081080"/>
              <a:chExt cx="1280880" cy="2286000"/>
            </a:xfrm>
          </p:grpSpPr>
          <p:sp>
            <p:nvSpPr>
              <p:cNvPr id="106" name=""/>
              <p:cNvSpPr/>
              <p:nvPr/>
            </p:nvSpPr>
            <p:spPr>
              <a:xfrm>
                <a:off x="543888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6228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8472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396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514840" y="12668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LL AWARE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9640" y="25128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uring the game, you always have at least 1 spell.  When you use or lose your last spell, draw another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81600" y="23605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934320" y="1081080"/>
            <a:ext cx="1282680" cy="2286000"/>
            <a:chOff x="6934320" y="1081080"/>
            <a:chExt cx="1282680" cy="2286000"/>
          </a:xfrm>
        </p:grpSpPr>
        <p:grpSp>
          <p:nvGrpSpPr>
            <p:cNvPr id="114" name=""/>
            <p:cNvGrpSpPr/>
            <p:nvPr/>
          </p:nvGrpSpPr>
          <p:grpSpPr>
            <a:xfrm>
              <a:off x="6934320" y="1081080"/>
              <a:ext cx="1280880" cy="2286000"/>
              <a:chOff x="6934320" y="1081080"/>
              <a:chExt cx="1280880" cy="2286000"/>
            </a:xfrm>
          </p:grpSpPr>
          <p:sp>
            <p:nvSpPr>
              <p:cNvPr id="115" name=""/>
              <p:cNvSpPr/>
              <p:nvPr/>
            </p:nvSpPr>
            <p:spPr>
              <a:xfrm>
                <a:off x="693432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772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8016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2940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010280" y="126684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CROLL AWARE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85080" y="25128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uring the game you always have at least 1 scroll.  When you use or lose your last scroll, draw another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7040" y="236052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934320" y="3519360"/>
            <a:ext cx="1282680" cy="2286000"/>
            <a:chOff x="6934320" y="3519360"/>
            <a:chExt cx="1282680" cy="2286000"/>
          </a:xfrm>
        </p:grpSpPr>
        <p:grpSp>
          <p:nvGrpSpPr>
            <p:cNvPr id="123" name=""/>
            <p:cNvGrpSpPr/>
            <p:nvPr/>
          </p:nvGrpSpPr>
          <p:grpSpPr>
            <a:xfrm>
              <a:off x="6934320" y="3519360"/>
              <a:ext cx="1280880" cy="2286000"/>
              <a:chOff x="6934320" y="3519360"/>
              <a:chExt cx="1280880" cy="2286000"/>
            </a:xfrm>
          </p:grpSpPr>
          <p:sp>
            <p:nvSpPr>
              <p:cNvPr id="124" name=""/>
              <p:cNvSpPr/>
              <p:nvPr/>
            </p:nvSpPr>
            <p:spPr>
              <a:xfrm>
                <a:off x="693432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5772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8016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940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701028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VASION IN WO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5080" y="4951080"/>
              <a:ext cx="123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 may Evade Enemies when in a woods space.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77040" y="4798800"/>
              <a:ext cx="590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52%20Gnomes%20of%20Samek" descr=""/>
          <p:cNvPicPr/>
          <p:nvPr/>
        </p:nvPicPr>
        <p:blipFill>
          <a:blip r:embed="rId1"/>
          <a:stretch/>
        </p:blipFill>
        <p:spPr>
          <a:xfrm>
            <a:off x="1168560" y="1428840"/>
            <a:ext cx="92700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meterology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978120" cy="101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40%20prayer" descr=""/>
          <p:cNvPicPr/>
          <p:nvPr/>
        </p:nvPicPr>
        <p:blipFill>
          <a:blip r:embed="rId3"/>
          <a:stretch/>
        </p:blipFill>
        <p:spPr>
          <a:xfrm>
            <a:off x="4108320" y="1447920"/>
            <a:ext cx="99072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83%20Reflection" descr=""/>
          <p:cNvPicPr/>
          <p:nvPr/>
        </p:nvPicPr>
        <p:blipFill>
          <a:blip r:embed="rId4"/>
          <a:stretch/>
        </p:blipFill>
        <p:spPr>
          <a:xfrm>
            <a:off x="5603760" y="1447920"/>
            <a:ext cx="97812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50%20Marco%20Volo" descr=""/>
          <p:cNvPicPr/>
          <p:nvPr/>
        </p:nvPicPr>
        <p:blipFill>
          <a:blip r:embed="rId5"/>
          <a:stretch/>
        </p:blipFill>
        <p:spPr>
          <a:xfrm>
            <a:off x="7130880" y="1447920"/>
            <a:ext cx="906480" cy="99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82%20Dagrande" descr=""/>
          <p:cNvPicPr/>
          <p:nvPr/>
        </p:nvPicPr>
        <p:blipFill>
          <a:blip r:embed="rId6"/>
          <a:stretch/>
        </p:blipFill>
        <p:spPr>
          <a:xfrm>
            <a:off x="7213680" y="3886200"/>
            <a:ext cx="77796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85%20Borrow" descr=""/>
          <p:cNvPicPr/>
          <p:nvPr/>
        </p:nvPicPr>
        <p:blipFill>
          <a:blip r:embed="rId7"/>
          <a:stretch/>
        </p:blipFill>
        <p:spPr>
          <a:xfrm>
            <a:off x="5638680" y="3873600"/>
            <a:ext cx="90324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admiration" descr=""/>
          <p:cNvPicPr/>
          <p:nvPr/>
        </p:nvPicPr>
        <p:blipFill>
          <a:blip r:embed="rId8"/>
          <a:stretch/>
        </p:blipFill>
        <p:spPr>
          <a:xfrm>
            <a:off x="4114800" y="3911760"/>
            <a:ext cx="91440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beguiling" descr=""/>
          <p:cNvPicPr/>
          <p:nvPr/>
        </p:nvPicPr>
        <p:blipFill>
          <a:blip r:embed="rId9"/>
          <a:stretch/>
        </p:blipFill>
        <p:spPr>
          <a:xfrm>
            <a:off x="2666880" y="3902040"/>
            <a:ext cx="9669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sychic" descr=""/>
          <p:cNvPicPr/>
          <p:nvPr/>
        </p:nvPicPr>
        <p:blipFill>
          <a:blip r:embed="rId10"/>
          <a:stretch/>
        </p:blipFill>
        <p:spPr>
          <a:xfrm>
            <a:off x="1143000" y="3886200"/>
            <a:ext cx="99072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7-02T15:31:52Z</dcterms:modified>
  <cp:revision>11</cp:revision>
  <dc:subject/>
  <dc:title>PowerPoint Presentation</dc:title>
</cp:coreProperties>
</file>