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FBB-98B9-4D9B-9336-3959ADC5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0B5-2896-42AA-AF0A-E8F844C5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8A2-FF63-416A-9BB0-B97FE4E1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AD1-375F-4510-BA2E-C1D95345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C67-08F2-4398-BE99-50587419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C7A-F9E8-4A2C-A5DB-45777BE7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0F7-4F39-4B24-9ACE-E597C63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DBD-27DB-473C-986A-0AD92DFB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83D-07DC-4109-824C-F1EF317E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450-56BD-47C3-98A7-908540E4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824-86F7-44EA-85E2-BE820AD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785-AD0E-41AF-AD32-A9C6968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B03-81E7-4B44-BEF7-51A7C9838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00080" y="304920"/>
            <a:ext cx="7213680" cy="5524560"/>
            <a:chOff x="1000080" y="304920"/>
            <a:chExt cx="7213680" cy="5524560"/>
          </a:xfrm>
        </p:grpSpPr>
        <p:grpSp>
          <p:nvGrpSpPr>
            <p:cNvPr id="42" name=""/>
            <p:cNvGrpSpPr/>
            <p:nvPr/>
          </p:nvGrpSpPr>
          <p:grpSpPr>
            <a:xfrm>
              <a:off x="1000080" y="1066680"/>
              <a:ext cx="7213680" cy="4762800"/>
              <a:chOff x="1000080" y="1066680"/>
              <a:chExt cx="7213680" cy="4762800"/>
            </a:xfrm>
          </p:grpSpPr>
          <p:pic>
            <p:nvPicPr>
              <p:cNvPr id="43" name="Abilities%20Card%20Back" descr=""/>
              <p:cNvPicPr/>
              <p:nvPr/>
            </p:nvPicPr>
            <p:blipFill>
              <a:blip r:embed="rId1"/>
              <a:stretch/>
            </p:blipFill>
            <p:spPr>
              <a:xfrm>
                <a:off x="1000080" y="1066680"/>
                <a:ext cx="128268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Abilities%20Card%20Back" descr=""/>
              <p:cNvPicPr/>
              <p:nvPr/>
            </p:nvPicPr>
            <p:blipFill>
              <a:blip r:embed="rId2"/>
              <a:stretch/>
            </p:blipFill>
            <p:spPr>
              <a:xfrm>
                <a:off x="1000080" y="3530520"/>
                <a:ext cx="128268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Abilities%20Card%20Back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3960" y="1066680"/>
                <a:ext cx="128304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Abilities%20Card%20Back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3960" y="3530520"/>
                <a:ext cx="128304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Abilities%20Card%20Back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4480" y="1079640"/>
                <a:ext cx="128268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Abilities%20Card%20Back" descr=""/>
              <p:cNvPicPr/>
              <p:nvPr/>
            </p:nvPicPr>
            <p:blipFill>
              <a:blip r:embed="rId6"/>
              <a:stretch/>
            </p:blipFill>
            <p:spPr>
              <a:xfrm>
                <a:off x="3984480" y="3543480"/>
                <a:ext cx="128268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Abilities%20Card%20Back" descr=""/>
              <p:cNvPicPr/>
              <p:nvPr/>
            </p:nvPicPr>
            <p:blipFill>
              <a:blip r:embed="rId7"/>
              <a:stretch/>
            </p:blipFill>
            <p:spPr>
              <a:xfrm>
                <a:off x="5508720" y="1079640"/>
                <a:ext cx="128268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Abilities%20Card%20Back" descr=""/>
              <p:cNvPicPr/>
              <p:nvPr/>
            </p:nvPicPr>
            <p:blipFill>
              <a:blip r:embed="rId8"/>
              <a:stretch/>
            </p:blipFill>
            <p:spPr>
              <a:xfrm>
                <a:off x="5508720" y="3543480"/>
                <a:ext cx="128268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Abilities%20Card%20Back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1080" y="1079640"/>
                <a:ext cx="128268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Abilities%20Card%20Back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31080" y="3543480"/>
                <a:ext cx="1282680" cy="228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"/>
            <p:cNvSpPr/>
            <p:nvPr/>
          </p:nvSpPr>
          <p:spPr>
            <a:xfrm>
              <a:off x="1676520" y="304920"/>
              <a:ext cx="68580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1-10-28T15:36:58Z</dcterms:modified>
  <cp:revision>8</cp:revision>
  <dc:subject/>
  <dc:title>PowerPoint Presentation</dc:title>
</cp:coreProperties>
</file>