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9488-1013-4465-B0E3-42023228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1EDF-15A9-4ECC-A697-0AF9D88D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29B0-35FB-4848-9A81-D112AE8E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A7B0-ED58-4D13-84DA-6A5415D0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5084-8E19-4B43-A7DE-DBFB48CC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4F83-2886-4522-AD40-E414A817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BD0D-7152-419D-9936-29C32F5D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053B-828E-45FD-A9A8-84842964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A6CE-B703-48B8-9A8C-78891F57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2AEE-004D-43ED-8FF7-719A68EE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A9BC-9183-4DA1-9A99-51532E0B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E7C1-1940-465E-983A-B1A9C914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CF7C-8BF3-4123-ADD7-5D4003011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0"/>
            <a:ext cx="7238880" cy="5800680"/>
            <a:chOff x="990720" y="0"/>
            <a:chExt cx="7238880" cy="5800680"/>
          </a:xfrm>
        </p:grpSpPr>
        <p:grpSp>
          <p:nvGrpSpPr>
            <p:cNvPr id="42" name=""/>
            <p:cNvGrpSpPr/>
            <p:nvPr/>
          </p:nvGrpSpPr>
          <p:grpSpPr>
            <a:xfrm>
              <a:off x="990720" y="1066680"/>
              <a:ext cx="7238880" cy="4734000"/>
              <a:chOff x="990720" y="1066680"/>
              <a:chExt cx="7238880" cy="4734000"/>
            </a:xfrm>
          </p:grpSpPr>
          <p:pic>
            <p:nvPicPr>
              <p:cNvPr id="43" name="Adventure%20Card%20Back" descr=""/>
              <p:cNvPicPr/>
              <p:nvPr/>
            </p:nvPicPr>
            <p:blipFill>
              <a:blip r:embed="rId1"/>
              <a:stretch/>
            </p:blipFill>
            <p:spPr>
              <a:xfrm>
                <a:off x="990720" y="1066680"/>
                <a:ext cx="1295280" cy="229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" name="Adventure%20Card%20Back" descr=""/>
              <p:cNvPicPr/>
              <p:nvPr/>
            </p:nvPicPr>
            <p:blipFill>
              <a:blip r:embed="rId2"/>
              <a:stretch/>
            </p:blipFill>
            <p:spPr>
              <a:xfrm>
                <a:off x="990720" y="3505320"/>
                <a:ext cx="1295280" cy="22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Adventure%20Card%20Back" descr=""/>
              <p:cNvPicPr/>
              <p:nvPr/>
            </p:nvPicPr>
            <p:blipFill>
              <a:blip r:embed="rId3"/>
              <a:stretch/>
            </p:blipFill>
            <p:spPr>
              <a:xfrm>
                <a:off x="2514600" y="1066680"/>
                <a:ext cx="1295280" cy="229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Adventure%20Card%20Back" descr=""/>
              <p:cNvPicPr/>
              <p:nvPr/>
            </p:nvPicPr>
            <p:blipFill>
              <a:blip r:embed="rId4"/>
              <a:stretch/>
            </p:blipFill>
            <p:spPr>
              <a:xfrm>
                <a:off x="2514600" y="3505320"/>
                <a:ext cx="1295280" cy="22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Adventure%20Card%20Back" descr=""/>
              <p:cNvPicPr/>
              <p:nvPr/>
            </p:nvPicPr>
            <p:blipFill>
              <a:blip r:embed="rId5"/>
              <a:stretch/>
            </p:blipFill>
            <p:spPr>
              <a:xfrm>
                <a:off x="3962520" y="3505320"/>
                <a:ext cx="1295280" cy="22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Adventure%20Card%20Back" descr=""/>
              <p:cNvPicPr/>
              <p:nvPr/>
            </p:nvPicPr>
            <p:blipFill>
              <a:blip r:embed="rId6"/>
              <a:stretch/>
            </p:blipFill>
            <p:spPr>
              <a:xfrm>
                <a:off x="5438880" y="3505320"/>
                <a:ext cx="1295280" cy="22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Adventure%20Card%20Back" descr=""/>
              <p:cNvPicPr/>
              <p:nvPr/>
            </p:nvPicPr>
            <p:blipFill>
              <a:blip r:embed="rId7"/>
              <a:stretch/>
            </p:blipFill>
            <p:spPr>
              <a:xfrm>
                <a:off x="6934320" y="3505320"/>
                <a:ext cx="1295280" cy="22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Adventure%20Card%20Back" descr=""/>
              <p:cNvPicPr/>
              <p:nvPr/>
            </p:nvPicPr>
            <p:blipFill>
              <a:blip r:embed="rId8"/>
              <a:stretch/>
            </p:blipFill>
            <p:spPr>
              <a:xfrm>
                <a:off x="3962520" y="1066680"/>
                <a:ext cx="1295280" cy="229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Adventure%20Card%20Back" descr=""/>
              <p:cNvPicPr/>
              <p:nvPr/>
            </p:nvPicPr>
            <p:blipFill>
              <a:blip r:embed="rId9"/>
              <a:stretch/>
            </p:blipFill>
            <p:spPr>
              <a:xfrm>
                <a:off x="5438880" y="1066680"/>
                <a:ext cx="1295280" cy="229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Adventure%20Card%20Back" descr=""/>
              <p:cNvPicPr/>
              <p:nvPr/>
            </p:nvPicPr>
            <p:blipFill>
              <a:blip r:embed="rId10"/>
              <a:stretch/>
            </p:blipFill>
            <p:spPr>
              <a:xfrm>
                <a:off x="6934320" y="1066680"/>
                <a:ext cx="1295280" cy="2295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" name=""/>
            <p:cNvSpPr/>
            <p:nvPr/>
          </p:nvSpPr>
          <p:spPr>
            <a:xfrm>
              <a:off x="1981080" y="0"/>
              <a:ext cx="38124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2-03-19T01:13:57Z</dcterms:modified>
  <cp:revision>8</cp:revision>
  <dc:subject/>
  <dc:title>PowerPoint Presentation</dc:title>
</cp:coreProperties>
</file>