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41C-C5B6-495D-ACCE-1D00D7FD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CA8-E48F-438C-9D8B-859D1275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6FE-1191-434F-ADDA-2D9C6171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8DF-CBF0-4810-AC5C-7CB2AA9B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FB6-9518-4B58-BAC8-4062AA7D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57C-86B4-4202-AAAC-04EBD2F3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DB5-4521-4712-A54F-C79D4EAF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EC9-76C1-4C81-8546-D7BAC58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6E1-120E-4257-AB59-2911D2D0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DC9-0E46-45CD-A377-294DE5E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E6C-3CD7-44E5-ACBC-1C5909C2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EFE-F045-44ED-BF52-F103F9B6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01D3-FC3D-4915-8A07-381E75B0D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6840" y="1066680"/>
            <a:ext cx="1282680" cy="2286000"/>
            <a:chOff x="99684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996840" y="1066680"/>
              <a:ext cx="1282680" cy="2286000"/>
              <a:chOff x="996840" y="1066680"/>
              <a:chExt cx="1282680" cy="2286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996840" y="1066680"/>
                <a:ext cx="1280880" cy="2286000"/>
                <a:chOff x="996840" y="1066680"/>
                <a:chExt cx="1280880" cy="22860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99684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102024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64268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59192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07280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47600" y="249840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3956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" name="72%20Mind%20Shield" descr=""/>
            <p:cNvPicPr/>
            <p:nvPr/>
          </p:nvPicPr>
          <p:blipFill>
            <a:blip r:embed="rId1"/>
            <a:stretch/>
          </p:blipFill>
          <p:spPr>
            <a:xfrm>
              <a:off x="1174680" y="139068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2521080" y="1066680"/>
            <a:ext cx="1282680" cy="2286000"/>
            <a:chOff x="2521080" y="1066680"/>
            <a:chExt cx="1282680" cy="2286000"/>
          </a:xfrm>
        </p:grpSpPr>
        <p:grpSp>
          <p:nvGrpSpPr>
            <p:cNvPr id="53" name=""/>
            <p:cNvGrpSpPr/>
            <p:nvPr/>
          </p:nvGrpSpPr>
          <p:grpSpPr>
            <a:xfrm>
              <a:off x="2521080" y="1066680"/>
              <a:ext cx="1282680" cy="2286000"/>
              <a:chOff x="2521080" y="1066680"/>
              <a:chExt cx="1282680" cy="22860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2521080" y="1066680"/>
                <a:ext cx="1280880" cy="2286000"/>
                <a:chOff x="2521080" y="1066680"/>
                <a:chExt cx="1280880" cy="2286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521080" y="10666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44480" y="11412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166920" y="11412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116160" y="11412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2597040" y="12524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71840" y="249840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63800" y="23461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2" name="72%20Mind%20Shield" descr=""/>
            <p:cNvPicPr/>
            <p:nvPr/>
          </p:nvPicPr>
          <p:blipFill>
            <a:blip r:embed="rId2"/>
            <a:stretch/>
          </p:blipFill>
          <p:spPr>
            <a:xfrm>
              <a:off x="2698920" y="139068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3981600" y="1079640"/>
            <a:ext cx="1282680" cy="2286000"/>
            <a:chOff x="3981600" y="1079640"/>
            <a:chExt cx="1282680" cy="2286000"/>
          </a:xfrm>
        </p:grpSpPr>
        <p:grpSp>
          <p:nvGrpSpPr>
            <p:cNvPr id="64" name=""/>
            <p:cNvGrpSpPr/>
            <p:nvPr/>
          </p:nvGrpSpPr>
          <p:grpSpPr>
            <a:xfrm>
              <a:off x="3981600" y="1079640"/>
              <a:ext cx="1282680" cy="2286000"/>
              <a:chOff x="3981600" y="1079640"/>
              <a:chExt cx="1282680" cy="22860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3981600" y="1079640"/>
                <a:ext cx="1280880" cy="2286000"/>
                <a:chOff x="3981600" y="1079640"/>
                <a:chExt cx="1280880" cy="22860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981600" y="107964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005000" y="115416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27440" y="115416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76680" y="115416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4057560" y="126540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32360" y="251136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24320" y="235908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3" name="72%20Mind%20Shield" descr=""/>
            <p:cNvPicPr/>
            <p:nvPr/>
          </p:nvPicPr>
          <p:blipFill>
            <a:blip r:embed="rId3"/>
            <a:stretch/>
          </p:blipFill>
          <p:spPr>
            <a:xfrm>
              <a:off x="4159440" y="140364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5505480" y="1079640"/>
            <a:ext cx="1282680" cy="2286000"/>
            <a:chOff x="5505480" y="1079640"/>
            <a:chExt cx="1282680" cy="2286000"/>
          </a:xfrm>
        </p:grpSpPr>
        <p:grpSp>
          <p:nvGrpSpPr>
            <p:cNvPr id="75" name=""/>
            <p:cNvGrpSpPr/>
            <p:nvPr/>
          </p:nvGrpSpPr>
          <p:grpSpPr>
            <a:xfrm>
              <a:off x="5505480" y="1079640"/>
              <a:ext cx="1282680" cy="2286000"/>
              <a:chOff x="5505480" y="1079640"/>
              <a:chExt cx="1282680" cy="228600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5505480" y="1079640"/>
                <a:ext cx="1280880" cy="2286000"/>
                <a:chOff x="5505480" y="1079640"/>
                <a:chExt cx="1280880" cy="2286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505480" y="107964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28880" y="115416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151320" y="115416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100560" y="115416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>
                <a:off x="5581440" y="126540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556240" y="251136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48200" y="235908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4" name="72%20Mind%20Shield" descr=""/>
            <p:cNvPicPr/>
            <p:nvPr/>
          </p:nvPicPr>
          <p:blipFill>
            <a:blip r:embed="rId4"/>
            <a:stretch/>
          </p:blipFill>
          <p:spPr>
            <a:xfrm>
              <a:off x="5683320" y="140364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6934320" y="1079640"/>
            <a:ext cx="1282680" cy="2286000"/>
            <a:chOff x="6934320" y="1079640"/>
            <a:chExt cx="1282680" cy="2286000"/>
          </a:xfrm>
        </p:grpSpPr>
        <p:grpSp>
          <p:nvGrpSpPr>
            <p:cNvPr id="86" name=""/>
            <p:cNvGrpSpPr/>
            <p:nvPr/>
          </p:nvGrpSpPr>
          <p:grpSpPr>
            <a:xfrm>
              <a:off x="6934320" y="1079640"/>
              <a:ext cx="1282680" cy="2286000"/>
              <a:chOff x="6934320" y="1079640"/>
              <a:chExt cx="1282680" cy="2286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934320" y="1079640"/>
                <a:ext cx="1280880" cy="2286000"/>
                <a:chOff x="6934320" y="1079640"/>
                <a:chExt cx="1280880" cy="22860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934320" y="107964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957720" y="115416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580160" y="115416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529400" y="115416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7010280" y="126540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85080" y="251136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77040" y="235908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72%20Mind%20Shield" descr=""/>
            <p:cNvPicPr/>
            <p:nvPr/>
          </p:nvPicPr>
          <p:blipFill>
            <a:blip r:embed="rId5"/>
            <a:stretch/>
          </p:blipFill>
          <p:spPr>
            <a:xfrm>
              <a:off x="7112160" y="140364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996840" y="3530520"/>
            <a:ext cx="1282680" cy="2286000"/>
            <a:chOff x="996840" y="3530520"/>
            <a:chExt cx="1282680" cy="2286000"/>
          </a:xfrm>
        </p:grpSpPr>
        <p:grpSp>
          <p:nvGrpSpPr>
            <p:cNvPr id="97" name=""/>
            <p:cNvGrpSpPr/>
            <p:nvPr/>
          </p:nvGrpSpPr>
          <p:grpSpPr>
            <a:xfrm>
              <a:off x="996840" y="3530520"/>
              <a:ext cx="1282680" cy="2286000"/>
              <a:chOff x="996840" y="3530520"/>
              <a:chExt cx="1282680" cy="22860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996840" y="3530520"/>
                <a:ext cx="1280880" cy="2286000"/>
                <a:chOff x="996840" y="3530520"/>
                <a:chExt cx="1280880" cy="2286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996840" y="35305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020240" y="36050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42680" y="36050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91920" y="36050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1072800" y="37162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47600" y="496224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39560" y="48099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72%20Mind%20Shield" descr=""/>
            <p:cNvPicPr/>
            <p:nvPr/>
          </p:nvPicPr>
          <p:blipFill>
            <a:blip r:embed="rId6"/>
            <a:stretch/>
          </p:blipFill>
          <p:spPr>
            <a:xfrm>
              <a:off x="1174680" y="385452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2521080" y="3530520"/>
            <a:ext cx="1282680" cy="2286000"/>
            <a:chOff x="2521080" y="3530520"/>
            <a:chExt cx="1282680" cy="2286000"/>
          </a:xfrm>
        </p:grpSpPr>
        <p:grpSp>
          <p:nvGrpSpPr>
            <p:cNvPr id="108" name=""/>
            <p:cNvGrpSpPr/>
            <p:nvPr/>
          </p:nvGrpSpPr>
          <p:grpSpPr>
            <a:xfrm>
              <a:off x="2521080" y="3530520"/>
              <a:ext cx="1282680" cy="2286000"/>
              <a:chOff x="2521080" y="3530520"/>
              <a:chExt cx="1282680" cy="22860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521080" y="3530520"/>
                <a:ext cx="1280880" cy="2286000"/>
                <a:chOff x="2521080" y="3530520"/>
                <a:chExt cx="1280880" cy="2286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521080" y="353052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544480" y="360504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66920" y="360504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116160" y="360504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597040" y="371628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71840" y="496224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63800" y="480996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" name="72%20Mind%20Shield" descr=""/>
            <p:cNvPicPr/>
            <p:nvPr/>
          </p:nvPicPr>
          <p:blipFill>
            <a:blip r:embed="rId7"/>
            <a:stretch/>
          </p:blipFill>
          <p:spPr>
            <a:xfrm>
              <a:off x="2698920" y="385452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981600" y="3556080"/>
            <a:ext cx="1282680" cy="2286000"/>
            <a:chOff x="3981600" y="3556080"/>
            <a:chExt cx="1282680" cy="2286000"/>
          </a:xfrm>
        </p:grpSpPr>
        <p:grpSp>
          <p:nvGrpSpPr>
            <p:cNvPr id="119" name=""/>
            <p:cNvGrpSpPr/>
            <p:nvPr/>
          </p:nvGrpSpPr>
          <p:grpSpPr>
            <a:xfrm>
              <a:off x="3981600" y="3556080"/>
              <a:ext cx="1282680" cy="2286000"/>
              <a:chOff x="3981600" y="3556080"/>
              <a:chExt cx="1282680" cy="228600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3981600" y="3556080"/>
                <a:ext cx="1280880" cy="2286000"/>
                <a:chOff x="3981600" y="3556080"/>
                <a:chExt cx="1280880" cy="2286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981600" y="35560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05000" y="36306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627440" y="36306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576680" y="36306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4057560" y="37418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32360" y="498780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24320" y="48355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72%20Mind%20Shield" descr=""/>
            <p:cNvPicPr/>
            <p:nvPr/>
          </p:nvPicPr>
          <p:blipFill>
            <a:blip r:embed="rId8"/>
            <a:stretch/>
          </p:blipFill>
          <p:spPr>
            <a:xfrm>
              <a:off x="4159440" y="388008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5505480" y="3556080"/>
            <a:ext cx="1282680" cy="2286000"/>
            <a:chOff x="5505480" y="3556080"/>
            <a:chExt cx="1282680" cy="2286000"/>
          </a:xfrm>
        </p:grpSpPr>
        <p:grpSp>
          <p:nvGrpSpPr>
            <p:cNvPr id="130" name=""/>
            <p:cNvGrpSpPr/>
            <p:nvPr/>
          </p:nvGrpSpPr>
          <p:grpSpPr>
            <a:xfrm>
              <a:off x="5505480" y="3556080"/>
              <a:ext cx="1282680" cy="2286000"/>
              <a:chOff x="5505480" y="3556080"/>
              <a:chExt cx="1282680" cy="228600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5505480" y="3556080"/>
                <a:ext cx="1280880" cy="2286000"/>
                <a:chOff x="5505480" y="3556080"/>
                <a:chExt cx="1280880" cy="2286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505480" y="35560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528880" y="36306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151320" y="36306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100560" y="36306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5581440" y="37418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56240" y="498780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48200" y="48355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" name="72%20Mind%20Shield" descr=""/>
            <p:cNvPicPr/>
            <p:nvPr/>
          </p:nvPicPr>
          <p:blipFill>
            <a:blip r:embed="rId9"/>
            <a:stretch/>
          </p:blipFill>
          <p:spPr>
            <a:xfrm>
              <a:off x="5683320" y="388008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6934320" y="3543480"/>
            <a:ext cx="1282680" cy="2286000"/>
            <a:chOff x="6934320" y="3543480"/>
            <a:chExt cx="1282680" cy="2286000"/>
          </a:xfrm>
        </p:grpSpPr>
        <p:grpSp>
          <p:nvGrpSpPr>
            <p:cNvPr id="141" name=""/>
            <p:cNvGrpSpPr/>
            <p:nvPr/>
          </p:nvGrpSpPr>
          <p:grpSpPr>
            <a:xfrm>
              <a:off x="6934320" y="3543480"/>
              <a:ext cx="1282680" cy="2286000"/>
              <a:chOff x="6934320" y="3543480"/>
              <a:chExt cx="1282680" cy="2286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6934320" y="3543480"/>
                <a:ext cx="1280880" cy="2286000"/>
                <a:chOff x="6934320" y="3543480"/>
                <a:chExt cx="1280880" cy="2286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934320" y="3543480"/>
                  <a:ext cx="128088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57720" y="3618000"/>
                  <a:ext cx="60948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580160" y="3618000"/>
                  <a:ext cx="60912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STRANGE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529400" y="3618000"/>
                  <a:ext cx="918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010280" y="3729240"/>
                <a:ext cx="114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GUR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85080" y="4975200"/>
                <a:ext cx="12319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he Guru has much to teach, if you will but listen.  If you lose a turn you may draw an Abilities Card.  He then levitates off to the discard pile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77040" y="4822920"/>
                <a:ext cx="590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72%20Mind%20Shield" descr=""/>
            <p:cNvPicPr/>
            <p:nvPr/>
          </p:nvPicPr>
          <p:blipFill>
            <a:blip r:embed="rId10"/>
            <a:stretch/>
          </p:blipFill>
          <p:spPr>
            <a:xfrm>
              <a:off x="7112160" y="3867480"/>
              <a:ext cx="889200" cy="893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7-03T04:37:43Z</dcterms:modified>
  <cp:revision>9</cp:revision>
  <dc:subject/>
  <dc:title>PowerPoint Presentation</dc:title>
</cp:coreProperties>
</file>