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BB7D-F20C-4AF9-9C82-5C2B5086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34C4-0A94-4E16-BDEA-708DFA67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2928-DC1F-4408-B4F2-E63F7AB0B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7833-440F-435E-A9CF-1C75DC5C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2C0D-C836-414A-8F28-898687EF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BBC6-BE41-4439-801C-08E60C5B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8F2C-B639-4A4B-8674-876A7DB4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14C3-7212-489F-B6AF-5BEBF667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E215-1092-4D0D-9563-52BD8B42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899D-65BF-427C-99AB-865BE00A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CD34-A3C2-4C23-8BC8-0D9BB1EA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F379-4A6D-4733-9A48-EAA5CCB7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4C20-9C09-49F4-AA09-A8A098DA7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04760" y="1081080"/>
            <a:ext cx="1281240" cy="2286000"/>
            <a:chOff x="1004760" y="1081080"/>
            <a:chExt cx="1281240" cy="2286000"/>
          </a:xfrm>
        </p:grpSpPr>
        <p:sp>
          <p:nvSpPr>
            <p:cNvPr id="42" name=""/>
            <p:cNvSpPr/>
            <p:nvPr/>
          </p:nvSpPr>
          <p:spPr>
            <a:xfrm>
              <a:off x="1004760" y="1081080"/>
              <a:ext cx="128124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28520" y="1155600"/>
              <a:ext cx="609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ABILIT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0960" y="1155600"/>
              <a:ext cx="60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ABILIT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600200" y="1155600"/>
              <a:ext cx="921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081080" y="126684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RESSURRE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55520" y="2270160"/>
            <a:ext cx="123192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you defeat an Enemy, you may </a:t>
            </a:r>
            <a:r>
              <a:rPr b="0" i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ise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 from the dead.  That Enemy becomes a Follower and add its Strength to yours for 1 Combat, after which it disintegrates (discard).  You may not exchange </a:t>
            </a:r>
            <a:r>
              <a:rPr b="0" i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ised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emies for additional Strength.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990720" y="3533760"/>
            <a:ext cx="1282680" cy="2286000"/>
            <a:chOff x="990720" y="3533760"/>
            <a:chExt cx="1282680" cy="2286000"/>
          </a:xfrm>
        </p:grpSpPr>
        <p:grpSp>
          <p:nvGrpSpPr>
            <p:cNvPr id="49" name=""/>
            <p:cNvGrpSpPr/>
            <p:nvPr/>
          </p:nvGrpSpPr>
          <p:grpSpPr>
            <a:xfrm>
              <a:off x="990720" y="3533760"/>
              <a:ext cx="1280880" cy="2286000"/>
              <a:chOff x="990720" y="3533760"/>
              <a:chExt cx="1280880" cy="22860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3376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14120" y="360828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636560" y="360828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585800" y="360828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1066680" y="371952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OMBAT CHOI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41480" y="4965480"/>
              <a:ext cx="12319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 may roll 2 dice in Combat and use the higher one to determine your Combat score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33440" y="481320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514600" y="3519360"/>
            <a:ext cx="1282680" cy="2286000"/>
            <a:chOff x="2514600" y="3519360"/>
            <a:chExt cx="1282680" cy="2286000"/>
          </a:xfrm>
        </p:grpSpPr>
        <p:grpSp>
          <p:nvGrpSpPr>
            <p:cNvPr id="58" name=""/>
            <p:cNvGrpSpPr/>
            <p:nvPr/>
          </p:nvGrpSpPr>
          <p:grpSpPr>
            <a:xfrm>
              <a:off x="2514600" y="3519360"/>
              <a:ext cx="1280880" cy="2286000"/>
              <a:chOff x="2514600" y="3519360"/>
              <a:chExt cx="1280880" cy="2286000"/>
            </a:xfrm>
          </p:grpSpPr>
          <p:sp>
            <p:nvSpPr>
              <p:cNvPr id="59" name=""/>
              <p:cNvSpPr/>
              <p:nvPr/>
            </p:nvSpPr>
            <p:spPr>
              <a:xfrm>
                <a:off x="2514600" y="351936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538000" y="359388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160440" y="359388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109680" y="359388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2590560" y="370512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MBIDEXTER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65360" y="4951080"/>
              <a:ext cx="12319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 may use two weapons at once, except for the Holy Lance, Runesword or a Shield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57320" y="479880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514600" y="1081080"/>
            <a:ext cx="1282680" cy="2286000"/>
            <a:chOff x="2514600" y="1081080"/>
            <a:chExt cx="1282680" cy="2286000"/>
          </a:xfrm>
        </p:grpSpPr>
        <p:grpSp>
          <p:nvGrpSpPr>
            <p:cNvPr id="67" name=""/>
            <p:cNvGrpSpPr/>
            <p:nvPr/>
          </p:nvGrpSpPr>
          <p:grpSpPr>
            <a:xfrm>
              <a:off x="2514600" y="1081080"/>
              <a:ext cx="1280880" cy="2286000"/>
              <a:chOff x="2514600" y="1081080"/>
              <a:chExt cx="1280880" cy="2286000"/>
            </a:xfrm>
          </p:grpSpPr>
          <p:sp>
            <p:nvSpPr>
              <p:cNvPr id="68" name=""/>
              <p:cNvSpPr/>
              <p:nvPr/>
            </p:nvSpPr>
            <p:spPr>
              <a:xfrm>
                <a:off x="2514600" y="10810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538000" y="11556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60440" y="11556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09680" y="115560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2590560" y="12668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WAREN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65360" y="2512800"/>
              <a:ext cx="12319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ever you must draw an Adventure Card, you may draw 1 Card more and discard 1 of your choice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57320" y="236052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962520" y="1085760"/>
            <a:ext cx="1282680" cy="2286000"/>
            <a:chOff x="3962520" y="1085760"/>
            <a:chExt cx="1282680" cy="2286000"/>
          </a:xfrm>
        </p:grpSpPr>
        <p:grpSp>
          <p:nvGrpSpPr>
            <p:cNvPr id="76" name=""/>
            <p:cNvGrpSpPr/>
            <p:nvPr/>
          </p:nvGrpSpPr>
          <p:grpSpPr>
            <a:xfrm>
              <a:off x="3962520" y="1085760"/>
              <a:ext cx="1280880" cy="2286000"/>
              <a:chOff x="3962520" y="1085760"/>
              <a:chExt cx="1280880" cy="2286000"/>
            </a:xfrm>
          </p:grpSpPr>
          <p:sp>
            <p:nvSpPr>
              <p:cNvPr id="77" name=""/>
              <p:cNvSpPr/>
              <p:nvPr/>
            </p:nvSpPr>
            <p:spPr>
              <a:xfrm>
                <a:off x="3962520" y="108576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985920" y="116028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608360" y="116028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557600" y="116028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4038480" y="127152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ELL KNOWLED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13280" y="2517480"/>
              <a:ext cx="1231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t any time during the game you may look at Spell cards held by other players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305240" y="236520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962520" y="3519360"/>
            <a:ext cx="1282680" cy="2286000"/>
            <a:chOff x="3962520" y="3519360"/>
            <a:chExt cx="1282680" cy="2286000"/>
          </a:xfrm>
        </p:grpSpPr>
        <p:grpSp>
          <p:nvGrpSpPr>
            <p:cNvPr id="85" name=""/>
            <p:cNvGrpSpPr/>
            <p:nvPr/>
          </p:nvGrpSpPr>
          <p:grpSpPr>
            <a:xfrm>
              <a:off x="3962520" y="3519360"/>
              <a:ext cx="1280880" cy="2286000"/>
              <a:chOff x="3962520" y="3519360"/>
              <a:chExt cx="1280880" cy="2286000"/>
            </a:xfrm>
          </p:grpSpPr>
          <p:sp>
            <p:nvSpPr>
              <p:cNvPr id="86" name=""/>
              <p:cNvSpPr/>
              <p:nvPr/>
            </p:nvSpPr>
            <p:spPr>
              <a:xfrm>
                <a:off x="3962520" y="351936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985920" y="359388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608360" y="359388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557600" y="359388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4038480" y="370512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SSASSIN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13280" y="4951080"/>
              <a:ext cx="12319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 may </a:t>
              </a: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ssassinate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you </a:t>
              </a: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ttack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y player, or any Enemy already face up when you land on it.  To do so, your victim may not roll a die in Combat.  If you succeed, you must remove a life.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05240" y="479880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438880" y="1081080"/>
            <a:ext cx="1282680" cy="2286000"/>
            <a:chOff x="5438880" y="1081080"/>
            <a:chExt cx="1282680" cy="2286000"/>
          </a:xfrm>
        </p:grpSpPr>
        <p:grpSp>
          <p:nvGrpSpPr>
            <p:cNvPr id="94" name=""/>
            <p:cNvGrpSpPr/>
            <p:nvPr/>
          </p:nvGrpSpPr>
          <p:grpSpPr>
            <a:xfrm>
              <a:off x="5438880" y="1081080"/>
              <a:ext cx="1280880" cy="2286000"/>
              <a:chOff x="5438880" y="1081080"/>
              <a:chExt cx="1280880" cy="2286000"/>
            </a:xfrm>
          </p:grpSpPr>
          <p:sp>
            <p:nvSpPr>
              <p:cNvPr id="95" name=""/>
              <p:cNvSpPr/>
              <p:nvPr/>
            </p:nvSpPr>
            <p:spPr>
              <a:xfrm>
                <a:off x="5438880" y="10810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462280" y="11556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084720" y="11556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033960" y="115560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5514840" y="12668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CROLL KNOWLED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89640" y="2512800"/>
              <a:ext cx="1231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t any time during the game you may look at Scrolls held by other players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81600" y="236052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934320" y="1081080"/>
            <a:ext cx="1282680" cy="2286000"/>
            <a:chOff x="6934320" y="1081080"/>
            <a:chExt cx="1282680" cy="2286000"/>
          </a:xfrm>
        </p:grpSpPr>
        <p:grpSp>
          <p:nvGrpSpPr>
            <p:cNvPr id="103" name=""/>
            <p:cNvGrpSpPr/>
            <p:nvPr/>
          </p:nvGrpSpPr>
          <p:grpSpPr>
            <a:xfrm>
              <a:off x="6934320" y="1081080"/>
              <a:ext cx="1280880" cy="2286000"/>
              <a:chOff x="6934320" y="1081080"/>
              <a:chExt cx="1280880" cy="2286000"/>
            </a:xfrm>
          </p:grpSpPr>
          <p:sp>
            <p:nvSpPr>
              <p:cNvPr id="104" name=""/>
              <p:cNvSpPr/>
              <p:nvPr/>
            </p:nvSpPr>
            <p:spPr>
              <a:xfrm>
                <a:off x="6934320" y="10810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957720" y="11556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580160" y="11556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529400" y="115560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7010280" y="12668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RELIG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85080" y="2512800"/>
              <a:ext cx="1231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 automatically destroy any Spirit without resorting to Combat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77040" y="236052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934320" y="3519360"/>
            <a:ext cx="1282680" cy="2286000"/>
            <a:chOff x="6934320" y="3519360"/>
            <a:chExt cx="1282680" cy="2286000"/>
          </a:xfrm>
        </p:grpSpPr>
        <p:grpSp>
          <p:nvGrpSpPr>
            <p:cNvPr id="112" name=""/>
            <p:cNvGrpSpPr/>
            <p:nvPr/>
          </p:nvGrpSpPr>
          <p:grpSpPr>
            <a:xfrm>
              <a:off x="6934320" y="3519360"/>
              <a:ext cx="1280880" cy="2286000"/>
              <a:chOff x="6934320" y="3519360"/>
              <a:chExt cx="1280880" cy="2286000"/>
            </a:xfrm>
          </p:grpSpPr>
          <p:sp>
            <p:nvSpPr>
              <p:cNvPr id="113" name=""/>
              <p:cNvSpPr/>
              <p:nvPr/>
            </p:nvSpPr>
            <p:spPr>
              <a:xfrm>
                <a:off x="6934320" y="351936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957720" y="359388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580160" y="359388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529400" y="359388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7010280" y="3705120"/>
              <a:ext cx="11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VASION IN HILLS/PLAI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985080" y="4951080"/>
              <a:ext cx="1231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 may Evade Enemies in Hills or Plains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77040" y="479880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438880" y="3505320"/>
            <a:ext cx="1282680" cy="2286000"/>
            <a:chOff x="5438880" y="3505320"/>
            <a:chExt cx="1282680" cy="2286000"/>
          </a:xfrm>
        </p:grpSpPr>
        <p:grpSp>
          <p:nvGrpSpPr>
            <p:cNvPr id="121" name=""/>
            <p:cNvGrpSpPr/>
            <p:nvPr/>
          </p:nvGrpSpPr>
          <p:grpSpPr>
            <a:xfrm>
              <a:off x="5438880" y="3505320"/>
              <a:ext cx="1280880" cy="2286000"/>
              <a:chOff x="5438880" y="3505320"/>
              <a:chExt cx="1280880" cy="2286000"/>
            </a:xfrm>
          </p:grpSpPr>
          <p:sp>
            <p:nvSpPr>
              <p:cNvPr id="122" name=""/>
              <p:cNvSpPr/>
              <p:nvPr/>
            </p:nvSpPr>
            <p:spPr>
              <a:xfrm>
                <a:off x="543888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462280" y="357984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08472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033960" y="357984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551484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WITCH SID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89640" y="4937040"/>
              <a:ext cx="1231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 may change your alignment at will, but only once each turn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81600" y="478476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" name="39%20Death%20Link" descr=""/>
          <p:cNvPicPr/>
          <p:nvPr/>
        </p:nvPicPr>
        <p:blipFill>
          <a:blip r:embed="rId1"/>
          <a:stretch/>
        </p:blipFill>
        <p:spPr>
          <a:xfrm>
            <a:off x="1143000" y="1415880"/>
            <a:ext cx="990720" cy="80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" name="82%20Tower%20of%20Iron%20Will" descr=""/>
          <p:cNvPicPr/>
          <p:nvPr/>
        </p:nvPicPr>
        <p:blipFill>
          <a:blip r:embed="rId2"/>
          <a:stretch/>
        </p:blipFill>
        <p:spPr>
          <a:xfrm>
            <a:off x="2679840" y="1415880"/>
            <a:ext cx="1006200" cy="106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1" name="344%20Crushing%20Fist" descr=""/>
          <p:cNvPicPr/>
          <p:nvPr/>
        </p:nvPicPr>
        <p:blipFill>
          <a:blip r:embed="rId3"/>
          <a:stretch/>
        </p:blipFill>
        <p:spPr>
          <a:xfrm>
            <a:off x="4070520" y="1441440"/>
            <a:ext cx="1066680" cy="99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346%20Dispel%20Magic" descr=""/>
          <p:cNvPicPr/>
          <p:nvPr/>
        </p:nvPicPr>
        <p:blipFill>
          <a:blip r:embed="rId4"/>
          <a:stretch/>
        </p:blipFill>
        <p:spPr>
          <a:xfrm>
            <a:off x="5587920" y="1441440"/>
            <a:ext cx="990720" cy="97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3" name="42%20Unreadable%20Thoughts" descr=""/>
          <p:cNvPicPr/>
          <p:nvPr/>
        </p:nvPicPr>
        <p:blipFill>
          <a:blip r:embed="rId5"/>
          <a:stretch/>
        </p:blipFill>
        <p:spPr>
          <a:xfrm>
            <a:off x="7016760" y="1447920"/>
            <a:ext cx="1143000" cy="86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4" name="50%20Bless%20land" descr=""/>
          <p:cNvPicPr/>
          <p:nvPr/>
        </p:nvPicPr>
        <p:blipFill>
          <a:blip r:embed="rId6"/>
          <a:stretch/>
        </p:blipFill>
        <p:spPr>
          <a:xfrm>
            <a:off x="7010280" y="4021200"/>
            <a:ext cx="1143000" cy="88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5" name="41%20Great%20Shout" descr=""/>
          <p:cNvPicPr/>
          <p:nvPr/>
        </p:nvPicPr>
        <p:blipFill>
          <a:blip r:embed="rId7"/>
          <a:stretch/>
        </p:blipFill>
        <p:spPr>
          <a:xfrm>
            <a:off x="5537160" y="3873600"/>
            <a:ext cx="1104840" cy="96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6" name="252%20Assassins%20RESCAN" descr=""/>
          <p:cNvPicPr/>
          <p:nvPr/>
        </p:nvPicPr>
        <p:blipFill>
          <a:blip r:embed="rId8"/>
          <a:stretch/>
        </p:blipFill>
        <p:spPr>
          <a:xfrm>
            <a:off x="4095720" y="3873600"/>
            <a:ext cx="1028880" cy="91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7" name="94%20Zaknafein%20the%20Weapson%20Master" descr=""/>
          <p:cNvPicPr/>
          <p:nvPr/>
        </p:nvPicPr>
        <p:blipFill>
          <a:blip r:embed="rId9"/>
          <a:stretch/>
        </p:blipFill>
        <p:spPr>
          <a:xfrm>
            <a:off x="2705040" y="3876840"/>
            <a:ext cx="939960" cy="100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8" name="272%20Stug" descr=""/>
          <p:cNvPicPr/>
          <p:nvPr/>
        </p:nvPicPr>
        <p:blipFill>
          <a:blip r:embed="rId10"/>
          <a:stretch/>
        </p:blipFill>
        <p:spPr>
          <a:xfrm>
            <a:off x="1079640" y="3886200"/>
            <a:ext cx="1066680" cy="9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2-07-02T18:01:41Z</dcterms:modified>
  <cp:revision>11</cp:revision>
  <dc:subject/>
  <dc:title>PowerPoint Presentation</dc:title>
</cp:coreProperties>
</file>