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AFA-0B35-47D5-AF7F-A686C83E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F2B-14A6-4759-BF28-5BEFF007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412-0F56-4163-905B-91B8B431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DB0-38AC-461B-B221-1617D578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294-859E-4395-9640-BE2CFEEA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C75-8D2B-4F04-9949-3EF9C408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137-1A92-4AD2-AFC1-9BA1C063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2A7-AD4E-490D-9589-782DEC66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655-C036-4E9C-B7C3-005E5C4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4F1-8563-4D10-B7EA-69711A6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806-C536-4247-B5CD-551E9610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BD2-6DDD-4A8F-B6FB-B46EF81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C9C-D424-4FC5-8439-8D957351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1066680"/>
            <a:ext cx="1282680" cy="2286000"/>
            <a:chOff x="2514600" y="10666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2514600" y="1066680"/>
              <a:ext cx="1280880" cy="2286000"/>
              <a:chOff x="2514600" y="10666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2514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38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0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0968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90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OTAL EVA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65360" y="24984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Evade Enemies in the Middle, Outer &amp; Far Outer Regions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57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514600" y="3505320"/>
            <a:ext cx="1282680" cy="2286000"/>
            <a:chOff x="2514600" y="350532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2514600" y="3505320"/>
              <a:ext cx="1280880" cy="2286000"/>
              <a:chOff x="2514600" y="350532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251460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3800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604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0968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59056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HARIS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65360" y="4937040"/>
              <a:ext cx="123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need not pay any Follower for any servic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5732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62520" y="3505320"/>
            <a:ext cx="1282680" cy="2286000"/>
            <a:chOff x="3962520" y="3505320"/>
            <a:chExt cx="128268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3962520" y="3505320"/>
              <a:ext cx="1280880" cy="2286000"/>
              <a:chOff x="3962520" y="3505320"/>
              <a:chExt cx="1280880" cy="2286000"/>
            </a:xfrm>
          </p:grpSpPr>
          <p:sp>
            <p:nvSpPr>
              <p:cNvPr id="61" name=""/>
              <p:cNvSpPr/>
              <p:nvPr/>
            </p:nvSpPr>
            <p:spPr>
              <a:xfrm>
                <a:off x="39625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859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083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576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0384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KILLER BLO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13280" y="493704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Combat you may attempt a killer blow.  To do so, neither of you rolls a die, instead, you roll 1D8.  You succeed on a 7-8.  1-6 you lose the Combat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052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81600" y="1066680"/>
            <a:ext cx="1282680" cy="2286000"/>
            <a:chOff x="3981600" y="1066680"/>
            <a:chExt cx="1282680" cy="2286000"/>
          </a:xfrm>
        </p:grpSpPr>
        <p:grpSp>
          <p:nvGrpSpPr>
            <p:cNvPr id="69" name=""/>
            <p:cNvGrpSpPr/>
            <p:nvPr/>
          </p:nvGrpSpPr>
          <p:grpSpPr>
            <a:xfrm>
              <a:off x="3981600" y="1066680"/>
              <a:ext cx="1280880" cy="2286000"/>
              <a:chOff x="3981600" y="1066680"/>
              <a:chExt cx="1280880" cy="2286000"/>
            </a:xfrm>
          </p:grpSpPr>
          <p:sp>
            <p:nvSpPr>
              <p:cNvPr id="70" name=""/>
              <p:cNvSpPr/>
              <p:nvPr/>
            </p:nvSpPr>
            <p:spPr>
              <a:xfrm>
                <a:off x="398160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0500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2744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7668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05756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ECRET STRIK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236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you attack any player or face up Enemy you land on.  Combat takes place a normal, except you subtract your craft from your opponents’ total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2432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52920" y="1066680"/>
            <a:ext cx="1282680" cy="2286000"/>
            <a:chOff x="5452920" y="1066680"/>
            <a:chExt cx="1282680" cy="2286000"/>
          </a:xfrm>
        </p:grpSpPr>
        <p:grpSp>
          <p:nvGrpSpPr>
            <p:cNvPr id="78" name=""/>
            <p:cNvGrpSpPr/>
            <p:nvPr/>
          </p:nvGrpSpPr>
          <p:grpSpPr>
            <a:xfrm>
              <a:off x="5452920" y="1066680"/>
              <a:ext cx="1280880" cy="2286000"/>
              <a:chOff x="5452920" y="1066680"/>
              <a:chExt cx="1280880" cy="2286000"/>
            </a:xfrm>
          </p:grpSpPr>
          <p:sp>
            <p:nvSpPr>
              <p:cNvPr id="79" name=""/>
              <p:cNvSpPr/>
              <p:nvPr/>
            </p:nvSpPr>
            <p:spPr>
              <a:xfrm>
                <a:off x="54529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763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987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480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5288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XPLO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03680" y="24984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always add 1 to your die roll at the Altar, Cave, Tomb, Temple, Shrine, Planetfall and subtract 1 from your die roll in the Mines, Crypt, and Portal of Powe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956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52920" y="3505320"/>
            <a:ext cx="1281240" cy="2286000"/>
            <a:chOff x="5452920" y="3505320"/>
            <a:chExt cx="1281240" cy="2286000"/>
          </a:xfrm>
        </p:grpSpPr>
        <p:sp>
          <p:nvSpPr>
            <p:cNvPr id="87" name=""/>
            <p:cNvSpPr/>
            <p:nvPr/>
          </p:nvSpPr>
          <p:spPr>
            <a:xfrm>
              <a:off x="5452920" y="35053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6680" y="3579840"/>
              <a:ext cx="609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99120" y="35798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48360" y="3579840"/>
              <a:ext cx="92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529240" y="36910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G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4040" y="4753080"/>
            <a:ext cx="12315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leap over any space you land on occupied by another player.  You may only leap one space and must leave all Followers, Horses &amp; Horse and Carts behind.  You may on your next turn move directly to those possessions left behind and reclaim them without rolling for movement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4784760"/>
            <a:ext cx="590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934320" y="1066680"/>
            <a:ext cx="1280880" cy="2286000"/>
            <a:chOff x="6934320" y="1066680"/>
            <a:chExt cx="1280880" cy="2286000"/>
          </a:xfrm>
        </p:grpSpPr>
        <p:sp>
          <p:nvSpPr>
            <p:cNvPr id="95" name=""/>
            <p:cNvSpPr/>
            <p:nvPr/>
          </p:nvSpPr>
          <p:spPr>
            <a:xfrm>
              <a:off x="69343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5772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801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29400" y="114120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0280" y="125244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UMAN RESSUR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5080" y="2625840"/>
            <a:ext cx="12319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resurrect any human Enemy your defeat and take them as a follower.  They then add 1 to your Strength in Combat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770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934320" y="3505320"/>
            <a:ext cx="1282680" cy="2286000"/>
            <a:chOff x="6934320" y="3505320"/>
            <a:chExt cx="1282680" cy="2286000"/>
          </a:xfrm>
        </p:grpSpPr>
        <p:grpSp>
          <p:nvGrpSpPr>
            <p:cNvPr id="103" name=""/>
            <p:cNvGrpSpPr/>
            <p:nvPr/>
          </p:nvGrpSpPr>
          <p:grpSpPr>
            <a:xfrm>
              <a:off x="6934320" y="3505320"/>
              <a:ext cx="1280880" cy="2286000"/>
              <a:chOff x="6934320" y="3505320"/>
              <a:chExt cx="1280880" cy="2286000"/>
            </a:xfrm>
          </p:grpSpPr>
          <p:sp>
            <p:nvSpPr>
              <p:cNvPr id="104" name=""/>
              <p:cNvSpPr/>
              <p:nvPr/>
            </p:nvSpPr>
            <p:spPr>
              <a:xfrm>
                <a:off x="69343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95772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801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2940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0102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IRATE’S PLU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85080" y="493704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players who pay Gold for anything must leave the Gold on the board.  Only you may pick it up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7704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90720" y="3505320"/>
            <a:ext cx="1280880" cy="2286000"/>
            <a:chOff x="990720" y="3505320"/>
            <a:chExt cx="1280880" cy="2286000"/>
          </a:xfrm>
        </p:grpSpPr>
        <p:sp>
          <p:nvSpPr>
            <p:cNvPr id="112" name=""/>
            <p:cNvSpPr/>
            <p:nvPr/>
          </p:nvSpPr>
          <p:spPr>
            <a:xfrm>
              <a:off x="990720" y="350532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14120" y="35798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6560" y="357984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85800" y="357984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66680" y="36910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ISE D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41480" y="5051520"/>
            <a:ext cx="1231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resurrect any killed Followers and take them for yourself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3440" y="4784760"/>
            <a:ext cx="5907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90720" y="1066680"/>
            <a:ext cx="1282680" cy="2286000"/>
            <a:chOff x="990720" y="1066680"/>
            <a:chExt cx="1282680" cy="2286000"/>
          </a:xfrm>
        </p:grpSpPr>
        <p:grpSp>
          <p:nvGrpSpPr>
            <p:cNvPr id="120" name=""/>
            <p:cNvGrpSpPr/>
            <p:nvPr/>
          </p:nvGrpSpPr>
          <p:grpSpPr>
            <a:xfrm>
              <a:off x="990720" y="1066680"/>
              <a:ext cx="1280880" cy="2286000"/>
              <a:chOff x="990720" y="1066680"/>
              <a:chExt cx="1280880" cy="2286000"/>
            </a:xfrm>
          </p:grpSpPr>
          <p:sp>
            <p:nvSpPr>
              <p:cNvPr id="121" name=""/>
              <p:cNvSpPr/>
              <p:nvPr/>
            </p:nvSpPr>
            <p:spPr>
              <a:xfrm>
                <a:off x="990720" y="10666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4120" y="11412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36560" y="11412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85800" y="11412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066680" y="12524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ARG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41480" y="2498400"/>
              <a:ext cx="12319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the end of your turn you may sell any of your Followers into slavery.  Discard and roll 1D8 for each.  1-2: 1 Gold, 2-4: 2 Gold, 5-6: 3 Gold, 7-8: 4 Gold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3440" y="23461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regen" descr=""/>
          <p:cNvPicPr/>
          <p:nvPr/>
        </p:nvPicPr>
        <p:blipFill>
          <a:blip r:embed="rId1"/>
          <a:stretch/>
        </p:blipFill>
        <p:spPr>
          <a:xfrm>
            <a:off x="1219320" y="1409760"/>
            <a:ext cx="86832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82%20hypnosnake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100332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94%20Disarm" descr=""/>
          <p:cNvPicPr/>
          <p:nvPr/>
        </p:nvPicPr>
        <p:blipFill>
          <a:blip r:embed="rId3"/>
          <a:stretch/>
        </p:blipFill>
        <p:spPr>
          <a:xfrm>
            <a:off x="4083120" y="1403280"/>
            <a:ext cx="1122120" cy="101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110%20Elf%20Galeon" descr=""/>
          <p:cNvPicPr/>
          <p:nvPr/>
        </p:nvPicPr>
        <p:blipFill>
          <a:blip r:embed="rId4"/>
          <a:stretch/>
        </p:blipFill>
        <p:spPr>
          <a:xfrm>
            <a:off x="5638680" y="1428840"/>
            <a:ext cx="946440" cy="96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69%20Teleport%20Trigger" descr=""/>
          <p:cNvPicPr/>
          <p:nvPr/>
        </p:nvPicPr>
        <p:blipFill>
          <a:blip r:embed="rId5"/>
          <a:stretch/>
        </p:blipFill>
        <p:spPr>
          <a:xfrm>
            <a:off x="7099200" y="1523880"/>
            <a:ext cx="98280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rate's%20plunder" descr=""/>
          <p:cNvPicPr/>
          <p:nvPr/>
        </p:nvPicPr>
        <p:blipFill>
          <a:blip r:embed="rId6"/>
          <a:stretch/>
        </p:blipFill>
        <p:spPr>
          <a:xfrm>
            <a:off x="7042320" y="3873600"/>
            <a:ext cx="10969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91%20Flying%20Kick" descr=""/>
          <p:cNvPicPr/>
          <p:nvPr/>
        </p:nvPicPr>
        <p:blipFill>
          <a:blip r:embed="rId7"/>
          <a:stretch/>
        </p:blipFill>
        <p:spPr>
          <a:xfrm>
            <a:off x="5594400" y="3816360"/>
            <a:ext cx="1019160" cy="88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67%20Combat%20Mind" descr=""/>
          <p:cNvPicPr/>
          <p:nvPr/>
        </p:nvPicPr>
        <p:blipFill>
          <a:blip r:embed="rId8"/>
          <a:stretch/>
        </p:blipFill>
        <p:spPr>
          <a:xfrm>
            <a:off x="4070520" y="3835440"/>
            <a:ext cx="1095120" cy="10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196%20Rngers%20of%20the%20Hornwood" descr=""/>
          <p:cNvPicPr/>
          <p:nvPr/>
        </p:nvPicPr>
        <p:blipFill>
          <a:blip r:embed="rId9"/>
          <a:stretch/>
        </p:blipFill>
        <p:spPr>
          <a:xfrm>
            <a:off x="2666880" y="3835440"/>
            <a:ext cx="930240" cy="10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raise%20dead" descr=""/>
          <p:cNvPicPr/>
          <p:nvPr/>
        </p:nvPicPr>
        <p:blipFill>
          <a:blip r:embed="rId10"/>
          <a:stretch/>
        </p:blipFill>
        <p:spPr>
          <a:xfrm>
            <a:off x="1079640" y="3886200"/>
            <a:ext cx="10904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7-03T00:21:01Z</dcterms:modified>
  <cp:revision>10</cp:revision>
  <dc:subject/>
  <dc:title>PowerPoint Presentation</dc:title>
</cp:coreProperties>
</file>