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46E8-22C9-42A4-B3AF-11F48774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F93-DE3E-4BBB-8B76-217D763E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A25-1583-4D40-93D4-44BDAB5F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F3C1-0A7B-4639-ABC0-728C54BC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1AA-B580-405E-81B3-55F58550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FB2E-AE69-425C-BD88-54204105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003-5C96-4F39-BF4E-1670C707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B6C-7A19-42F2-A31A-39BE90C8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184-0818-4FE9-A570-08047890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135-1208-4A92-B89F-35F18428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394-CC6C-4CF4-9E61-FCC98B5A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B480-E733-453C-9990-D5961527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148C-AB91-49B0-8EC9-36C99929E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066680"/>
            <a:ext cx="1282680" cy="2286000"/>
            <a:chOff x="990720" y="1066680"/>
            <a:chExt cx="1282680" cy="2286000"/>
          </a:xfrm>
        </p:grpSpPr>
        <p:grpSp>
          <p:nvGrpSpPr>
            <p:cNvPr id="42" name=""/>
            <p:cNvGrpSpPr/>
            <p:nvPr/>
          </p:nvGrpSpPr>
          <p:grpSpPr>
            <a:xfrm>
              <a:off x="990720" y="1066680"/>
              <a:ext cx="1282680" cy="2286000"/>
              <a:chOff x="990720" y="1066680"/>
              <a:chExt cx="1282680" cy="22860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990720" y="1066680"/>
                <a:ext cx="1280880" cy="2286000"/>
                <a:chOff x="990720" y="1066680"/>
                <a:chExt cx="1280880" cy="228600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990720" y="106668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1014120" y="114120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1636560" y="114120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585800" y="114120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" name=""/>
              <p:cNvSpPr/>
              <p:nvPr/>
            </p:nvSpPr>
            <p:spPr>
              <a:xfrm>
                <a:off x="1066680" y="125244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IRSH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041480" y="2498400"/>
                <a:ext cx="12319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You discover an unguarded Airship.  You may take a Dragon Class Airshi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333440" y="234612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1" name="AIRSHIP" descr=""/>
            <p:cNvPicPr/>
            <p:nvPr/>
          </p:nvPicPr>
          <p:blipFill>
            <a:blip r:embed="rId1"/>
            <a:stretch/>
          </p:blipFill>
          <p:spPr>
            <a:xfrm>
              <a:off x="1143000" y="1419120"/>
              <a:ext cx="96192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2514600" y="1066680"/>
            <a:ext cx="1282680" cy="2286000"/>
            <a:chOff x="2514600" y="1066680"/>
            <a:chExt cx="1282680" cy="2286000"/>
          </a:xfrm>
        </p:grpSpPr>
        <p:grpSp>
          <p:nvGrpSpPr>
            <p:cNvPr id="53" name=""/>
            <p:cNvGrpSpPr/>
            <p:nvPr/>
          </p:nvGrpSpPr>
          <p:grpSpPr>
            <a:xfrm>
              <a:off x="2514600" y="1066680"/>
              <a:ext cx="1282680" cy="2286000"/>
              <a:chOff x="2514600" y="1066680"/>
              <a:chExt cx="1282680" cy="228600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2514600" y="1066680"/>
                <a:ext cx="1280880" cy="2286000"/>
                <a:chOff x="2514600" y="1066680"/>
                <a:chExt cx="1280880" cy="228600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2514600" y="106668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538000" y="114120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160440" y="114120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109680" y="114120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2590560" y="125244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IRSH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65360" y="2498400"/>
                <a:ext cx="12319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You discover an unguarded Airship.  You may take a Wyvern Class Airshi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857320" y="234612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2" name="AIRSHIP" descr=""/>
            <p:cNvPicPr/>
            <p:nvPr/>
          </p:nvPicPr>
          <p:blipFill>
            <a:blip r:embed="rId2"/>
            <a:stretch/>
          </p:blipFill>
          <p:spPr>
            <a:xfrm>
              <a:off x="2666880" y="1419120"/>
              <a:ext cx="96192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63" name=""/>
          <p:cNvGrpSpPr/>
          <p:nvPr/>
        </p:nvGrpSpPr>
        <p:grpSpPr>
          <a:xfrm>
            <a:off x="5410080" y="1066680"/>
            <a:ext cx="1282680" cy="2286000"/>
            <a:chOff x="5410080" y="1066680"/>
            <a:chExt cx="1282680" cy="2286000"/>
          </a:xfrm>
        </p:grpSpPr>
        <p:grpSp>
          <p:nvGrpSpPr>
            <p:cNvPr id="64" name=""/>
            <p:cNvGrpSpPr/>
            <p:nvPr/>
          </p:nvGrpSpPr>
          <p:grpSpPr>
            <a:xfrm>
              <a:off x="5410080" y="1066680"/>
              <a:ext cx="1282680" cy="2286000"/>
              <a:chOff x="5410080" y="1066680"/>
              <a:chExt cx="1282680" cy="228600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5410080" y="1066680"/>
                <a:ext cx="1280880" cy="2286000"/>
                <a:chOff x="5410080" y="1066680"/>
                <a:chExt cx="1280880" cy="22860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5410080" y="106668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433480" y="114120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055920" y="114120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005160" y="114120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>
                <a:off x="5486040" y="125244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IRSH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60840" y="2498400"/>
                <a:ext cx="12319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You discover an unguarded Airship.  You may take a Eagle Class Airshi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2800" y="234612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3" name="AIRSHIP" descr=""/>
            <p:cNvPicPr/>
            <p:nvPr/>
          </p:nvPicPr>
          <p:blipFill>
            <a:blip r:embed="rId3"/>
            <a:stretch/>
          </p:blipFill>
          <p:spPr>
            <a:xfrm>
              <a:off x="5562360" y="1419120"/>
              <a:ext cx="96192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3962520" y="1066680"/>
            <a:ext cx="1282680" cy="2286000"/>
            <a:chOff x="3962520" y="1066680"/>
            <a:chExt cx="1282680" cy="2286000"/>
          </a:xfrm>
        </p:grpSpPr>
        <p:grpSp>
          <p:nvGrpSpPr>
            <p:cNvPr id="75" name=""/>
            <p:cNvGrpSpPr/>
            <p:nvPr/>
          </p:nvGrpSpPr>
          <p:grpSpPr>
            <a:xfrm>
              <a:off x="3962520" y="1066680"/>
              <a:ext cx="1282680" cy="2286000"/>
              <a:chOff x="3962520" y="1066680"/>
              <a:chExt cx="1282680" cy="228600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3962520" y="1066680"/>
                <a:ext cx="1280880" cy="2286000"/>
                <a:chOff x="3962520" y="1066680"/>
                <a:chExt cx="1280880" cy="22860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3962520" y="106668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85920" y="114120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608360" y="114120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57600" y="114120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" name=""/>
              <p:cNvSpPr/>
              <p:nvPr/>
            </p:nvSpPr>
            <p:spPr>
              <a:xfrm>
                <a:off x="4038480" y="125244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IRSH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013280" y="2498400"/>
                <a:ext cx="12319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You discover an unguarded Airship.  You may take a Condor Class Airshi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305240" y="234612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4" name="AIRSHIP" descr=""/>
            <p:cNvPicPr/>
            <p:nvPr/>
          </p:nvPicPr>
          <p:blipFill>
            <a:blip r:embed="rId4"/>
            <a:stretch/>
          </p:blipFill>
          <p:spPr>
            <a:xfrm>
              <a:off x="4114800" y="1419120"/>
              <a:ext cx="96192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6934320" y="1066680"/>
            <a:ext cx="1282680" cy="2286000"/>
            <a:chOff x="6934320" y="1066680"/>
            <a:chExt cx="1282680" cy="2286000"/>
          </a:xfrm>
        </p:grpSpPr>
        <p:grpSp>
          <p:nvGrpSpPr>
            <p:cNvPr id="86" name=""/>
            <p:cNvGrpSpPr/>
            <p:nvPr/>
          </p:nvGrpSpPr>
          <p:grpSpPr>
            <a:xfrm>
              <a:off x="6934320" y="1066680"/>
              <a:ext cx="1282680" cy="2286000"/>
              <a:chOff x="6934320" y="1066680"/>
              <a:chExt cx="1282680" cy="228600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934320" y="1066680"/>
                <a:ext cx="1280880" cy="2286000"/>
                <a:chOff x="6934320" y="1066680"/>
                <a:chExt cx="1280880" cy="22860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934320" y="106668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957720" y="114120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580160" y="114120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529400" y="114120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7010280" y="125244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IRSH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85080" y="2498400"/>
                <a:ext cx="12319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You discover an unguarded Airship.  You may take a Falcon Class Airshi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277040" y="234612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5" name="AIRSHIP" descr=""/>
            <p:cNvPicPr/>
            <p:nvPr/>
          </p:nvPicPr>
          <p:blipFill>
            <a:blip r:embed="rId5"/>
            <a:stretch/>
          </p:blipFill>
          <p:spPr>
            <a:xfrm>
              <a:off x="7086600" y="1419120"/>
              <a:ext cx="96192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96" name=""/>
          <p:cNvGrpSpPr/>
          <p:nvPr/>
        </p:nvGrpSpPr>
        <p:grpSpPr>
          <a:xfrm>
            <a:off x="990720" y="3505320"/>
            <a:ext cx="1282680" cy="2286000"/>
            <a:chOff x="990720" y="3505320"/>
            <a:chExt cx="1282680" cy="2286000"/>
          </a:xfrm>
        </p:grpSpPr>
        <p:grpSp>
          <p:nvGrpSpPr>
            <p:cNvPr id="97" name=""/>
            <p:cNvGrpSpPr/>
            <p:nvPr/>
          </p:nvGrpSpPr>
          <p:grpSpPr>
            <a:xfrm>
              <a:off x="990720" y="3505320"/>
              <a:ext cx="1282680" cy="2286000"/>
              <a:chOff x="990720" y="3505320"/>
              <a:chExt cx="1282680" cy="22860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990720" y="3505320"/>
                <a:ext cx="1280880" cy="2286000"/>
                <a:chOff x="990720" y="3505320"/>
                <a:chExt cx="1280880" cy="22860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990720" y="350532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014120" y="357984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636560" y="357984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585800" y="357984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1066680" y="369108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IRSH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41480" y="4937040"/>
                <a:ext cx="1231920" cy="6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You discover an Airship.  It is guarded by a Strength 9 Band of Sailors.  If you defeat them you may take a Dragon Class Airshi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333440" y="478476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6" name="AIRSHIP" descr=""/>
            <p:cNvPicPr/>
            <p:nvPr/>
          </p:nvPicPr>
          <p:blipFill>
            <a:blip r:embed="rId6"/>
            <a:stretch/>
          </p:blipFill>
          <p:spPr>
            <a:xfrm>
              <a:off x="1143000" y="3857760"/>
              <a:ext cx="96192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07" name=""/>
          <p:cNvGrpSpPr/>
          <p:nvPr/>
        </p:nvGrpSpPr>
        <p:grpSpPr>
          <a:xfrm>
            <a:off x="2514600" y="3505320"/>
            <a:ext cx="1282680" cy="2286000"/>
            <a:chOff x="2514600" y="3505320"/>
            <a:chExt cx="1282680" cy="2286000"/>
          </a:xfrm>
        </p:grpSpPr>
        <p:grpSp>
          <p:nvGrpSpPr>
            <p:cNvPr id="108" name=""/>
            <p:cNvGrpSpPr/>
            <p:nvPr/>
          </p:nvGrpSpPr>
          <p:grpSpPr>
            <a:xfrm>
              <a:off x="2514600" y="3505320"/>
              <a:ext cx="1282680" cy="2286000"/>
              <a:chOff x="2514600" y="3505320"/>
              <a:chExt cx="1282680" cy="228600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2514600" y="3505320"/>
                <a:ext cx="1280880" cy="2286000"/>
                <a:chOff x="2514600" y="3505320"/>
                <a:chExt cx="1280880" cy="22860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514600" y="350532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538000" y="357984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160440" y="357984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109680" y="357984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2590560" y="369108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IRSH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565360" y="4937040"/>
                <a:ext cx="1231920" cy="6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You discover an Airship.  It is guarded by a Strength 8 Band of Sailors.  If you defeat them you may take a Wyvern Class Airshi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857320" y="478476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7" name="AIRSHIP" descr=""/>
            <p:cNvPicPr/>
            <p:nvPr/>
          </p:nvPicPr>
          <p:blipFill>
            <a:blip r:embed="rId7"/>
            <a:stretch/>
          </p:blipFill>
          <p:spPr>
            <a:xfrm>
              <a:off x="2666880" y="3857760"/>
              <a:ext cx="96192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5410080" y="3505320"/>
            <a:ext cx="1282680" cy="2286000"/>
            <a:chOff x="5410080" y="3505320"/>
            <a:chExt cx="1282680" cy="2286000"/>
          </a:xfrm>
        </p:grpSpPr>
        <p:grpSp>
          <p:nvGrpSpPr>
            <p:cNvPr id="119" name=""/>
            <p:cNvGrpSpPr/>
            <p:nvPr/>
          </p:nvGrpSpPr>
          <p:grpSpPr>
            <a:xfrm>
              <a:off x="5410080" y="3505320"/>
              <a:ext cx="1282680" cy="2286000"/>
              <a:chOff x="5410080" y="3505320"/>
              <a:chExt cx="1282680" cy="228600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5410080" y="3505320"/>
                <a:ext cx="1280880" cy="2286000"/>
                <a:chOff x="5410080" y="3505320"/>
                <a:chExt cx="1280880" cy="22860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410080" y="350532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433480" y="357984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055920" y="357984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005160" y="357984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5486040" y="369108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IRSH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60840" y="4937040"/>
                <a:ext cx="1231920" cy="6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You discover an Airship.  It is guarded by a Strength 6 Band of Sailors.  If you defeat them you may take a Eagle Class Airshi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52800" y="478476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8" name="AIRSHIP" descr=""/>
            <p:cNvPicPr/>
            <p:nvPr/>
          </p:nvPicPr>
          <p:blipFill>
            <a:blip r:embed="rId8"/>
            <a:stretch/>
          </p:blipFill>
          <p:spPr>
            <a:xfrm>
              <a:off x="5562360" y="3857760"/>
              <a:ext cx="96192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29" name=""/>
          <p:cNvGrpSpPr/>
          <p:nvPr/>
        </p:nvGrpSpPr>
        <p:grpSpPr>
          <a:xfrm>
            <a:off x="3962520" y="3505320"/>
            <a:ext cx="1282680" cy="2286000"/>
            <a:chOff x="3962520" y="3505320"/>
            <a:chExt cx="1282680" cy="2286000"/>
          </a:xfrm>
        </p:grpSpPr>
        <p:grpSp>
          <p:nvGrpSpPr>
            <p:cNvPr id="130" name=""/>
            <p:cNvGrpSpPr/>
            <p:nvPr/>
          </p:nvGrpSpPr>
          <p:grpSpPr>
            <a:xfrm>
              <a:off x="3962520" y="3505320"/>
              <a:ext cx="1282680" cy="2286000"/>
              <a:chOff x="3962520" y="3505320"/>
              <a:chExt cx="1282680" cy="228600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3962520" y="3505320"/>
                <a:ext cx="1280880" cy="2286000"/>
                <a:chOff x="3962520" y="3505320"/>
                <a:chExt cx="1280880" cy="2286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962520" y="350532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985920" y="357984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608360" y="357984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557600" y="357984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4038480" y="369108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IRSH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013280" y="4937040"/>
                <a:ext cx="1231920" cy="6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You discover an Airship.  It is guarded by a Strength 7 Band of Sailors.  If you defeat them you may take a Condor Class Airshi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05240" y="478476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9" name="AIRSHIP" descr=""/>
            <p:cNvPicPr/>
            <p:nvPr/>
          </p:nvPicPr>
          <p:blipFill>
            <a:blip r:embed="rId9"/>
            <a:stretch/>
          </p:blipFill>
          <p:spPr>
            <a:xfrm>
              <a:off x="4114800" y="3857760"/>
              <a:ext cx="96192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6934320" y="3505320"/>
            <a:ext cx="1282680" cy="2286000"/>
            <a:chOff x="6934320" y="3505320"/>
            <a:chExt cx="1282680" cy="2286000"/>
          </a:xfrm>
        </p:grpSpPr>
        <p:grpSp>
          <p:nvGrpSpPr>
            <p:cNvPr id="141" name=""/>
            <p:cNvGrpSpPr/>
            <p:nvPr/>
          </p:nvGrpSpPr>
          <p:grpSpPr>
            <a:xfrm>
              <a:off x="6934320" y="3505320"/>
              <a:ext cx="1282680" cy="2286000"/>
              <a:chOff x="6934320" y="3505320"/>
              <a:chExt cx="1282680" cy="22860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6934320" y="3505320"/>
                <a:ext cx="1280880" cy="2286000"/>
                <a:chOff x="6934320" y="3505320"/>
                <a:chExt cx="1280880" cy="22860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934320" y="350532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957720" y="357984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580160" y="357984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529400" y="357984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7010280" y="369108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IRSH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85080" y="4937040"/>
                <a:ext cx="1231920" cy="6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You discover an Airship.  It is guarded by a Strength 5 Band of Sailors.  If you defeat them you may take a Falcon Class Airshi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77040" y="478476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AIRSHIP" descr=""/>
            <p:cNvPicPr/>
            <p:nvPr/>
          </p:nvPicPr>
          <p:blipFill>
            <a:blip r:embed="rId10"/>
            <a:stretch/>
          </p:blipFill>
          <p:spPr>
            <a:xfrm>
              <a:off x="7086600" y="3857760"/>
              <a:ext cx="96192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3:41:17Z</dcterms:modified>
  <cp:revision>13</cp:revision>
  <dc:subject/>
  <dc:title>PowerPoint Presentation</dc:title>
</cp:coreProperties>
</file>