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D5134-49C2-46BD-9B32-5E7AF6FD9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4DE90-E40E-4FFE-96B4-476FC6B9B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05217-F9DA-491D-AB00-22DF91E54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E33AD-B8F5-4C88-B467-FF00C0027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05CA4-0E78-49DD-9B40-2915561C1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DACC6-D34D-4E76-B505-70A8E0F55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3CAFB-D11A-47DB-ADD9-96610E240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DD6AB-6951-46AE-BFB6-2072614F7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904E4-9ABD-40A0-9A81-CDA7E3513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221C2-C7D3-415C-9D3E-2AB5D3D55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E25E8-08D9-473B-A632-A125DD1F0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9DE02-50D1-4748-9FF5-4839A639F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B0968-F1EA-4868-A270-FECBFF2B6F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93800" y="3166920"/>
            <a:ext cx="1143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THE DUTCHMA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333440" y="2346480"/>
            <a:ext cx="5907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airshipA" descr=""/>
          <p:cNvPicPr/>
          <p:nvPr/>
        </p:nvPicPr>
        <p:blipFill>
          <a:blip r:embed="rId1"/>
          <a:stretch/>
        </p:blipFill>
        <p:spPr>
          <a:xfrm>
            <a:off x="2657520" y="1219320"/>
            <a:ext cx="974520" cy="1904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4" name=""/>
          <p:cNvSpPr/>
          <p:nvPr/>
        </p:nvSpPr>
        <p:spPr>
          <a:xfrm>
            <a:off x="7004160" y="3166920"/>
            <a:ext cx="1143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WIND DANC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airshipB" descr=""/>
          <p:cNvPicPr/>
          <p:nvPr/>
        </p:nvPicPr>
        <p:blipFill>
          <a:blip r:embed="rId2"/>
          <a:stretch/>
        </p:blipFill>
        <p:spPr>
          <a:xfrm>
            <a:off x="7086600" y="1219320"/>
            <a:ext cx="990720" cy="1904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6" name=""/>
          <p:cNvSpPr/>
          <p:nvPr/>
        </p:nvSpPr>
        <p:spPr>
          <a:xfrm>
            <a:off x="1066680" y="3166920"/>
            <a:ext cx="1143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SKY K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038480" y="3166920"/>
            <a:ext cx="1143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CLOUD SAI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486400" y="3166920"/>
            <a:ext cx="1143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THE EAG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airshipc" descr=""/>
          <p:cNvPicPr/>
          <p:nvPr/>
        </p:nvPicPr>
        <p:blipFill>
          <a:blip r:embed="rId3"/>
          <a:stretch/>
        </p:blipFill>
        <p:spPr>
          <a:xfrm>
            <a:off x="5562720" y="1219320"/>
            <a:ext cx="990360" cy="1904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0" name="airshipE" descr=""/>
          <p:cNvPicPr/>
          <p:nvPr/>
        </p:nvPicPr>
        <p:blipFill>
          <a:blip r:embed="rId4"/>
          <a:stretch/>
        </p:blipFill>
        <p:spPr>
          <a:xfrm>
            <a:off x="1143000" y="1219320"/>
            <a:ext cx="990720" cy="1904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1" name="airshipH" descr=""/>
          <p:cNvPicPr/>
          <p:nvPr/>
        </p:nvPicPr>
        <p:blipFill>
          <a:blip r:embed="rId5"/>
          <a:stretch/>
        </p:blipFill>
        <p:spPr>
          <a:xfrm>
            <a:off x="4114800" y="1219320"/>
            <a:ext cx="990720" cy="1904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2" name=""/>
          <p:cNvSpPr/>
          <p:nvPr/>
        </p:nvSpPr>
        <p:spPr>
          <a:xfrm>
            <a:off x="990720" y="1066680"/>
            <a:ext cx="1295280" cy="4724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14600" y="1066680"/>
            <a:ext cx="1295280" cy="4724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962520" y="1066680"/>
            <a:ext cx="1295280" cy="4724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410080" y="1066680"/>
            <a:ext cx="1295640" cy="4724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1066680"/>
            <a:ext cx="1295280" cy="4724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30T21:14:26Z</dcterms:created>
  <dc:creator>Paul &amp; Rosanne Morrow</dc:creator>
  <dc:description/>
  <dc:language>en-US</dc:language>
  <cp:lastModifiedBy>pmorrow</cp:lastModifiedBy>
  <dcterms:modified xsi:type="dcterms:W3CDTF">2003-06-27T18:05:34Z</dcterms:modified>
  <cp:revision>16</cp:revision>
  <dc:subject/>
  <dc:title>PowerPoint Presentation</dc:title>
</cp:coreProperties>
</file>