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675-EEA4-4E24-9F08-FDF6ED98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5A5-DDBA-49C4-86A4-C645C94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9E8-45D5-4EC7-B7D7-927A1921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B76-B619-4C5E-87A8-0776D1D8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B0D-6381-416F-BC65-190A822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44B-364A-457F-8E91-14BDE1D9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E08-7527-4EBC-B22F-23A3F6B7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9F2-FC9C-4F95-A948-54E70E3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ADC-3658-48C5-B5D6-9B3514CF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4BD-0B2C-43C3-89E1-D8A76D1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5FE-95C6-47F6-A5FA-38CAA85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34E-3ECD-4945-A2E2-C769CBB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95E2-89BC-4B85-AF1A-5CC4C8CF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42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14120" y="1141200"/>
              <a:ext cx="6094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OBJECT-AIRSHI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36560" y="1141200"/>
              <a:ext cx="609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OBJECT-AIRSHI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85800" y="11412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66680" y="13096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IRSH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1480" y="2523960"/>
            <a:ext cx="1231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discover an airship guarded by a Strength 6 party.  If you win you may claim the airship.  Draw 1 at random.  You must fulfill the Compliment requirem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9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50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10968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IGH WIN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6536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ny Airships in play are blown 2 spaces clockwise around the Region and they take 1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59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859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PEL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083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SPEL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76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0384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OWNDRA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132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cast this Spell any time during your turn.  It causes all Characters in 1 space to be blown 1 space clockwise.  Any Airship will take 2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052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wind" descr=""/>
          <p:cNvPicPr/>
          <p:nvPr/>
        </p:nvPicPr>
        <p:blipFill>
          <a:blip r:embed="rId1"/>
          <a:stretch/>
        </p:blipFill>
        <p:spPr>
          <a:xfrm>
            <a:off x="2600280" y="1438200"/>
            <a:ext cx="111924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untitled" descr=""/>
          <p:cNvPicPr/>
          <p:nvPr/>
        </p:nvPicPr>
        <p:blipFill>
          <a:blip r:embed="rId2"/>
          <a:stretch/>
        </p:blipFill>
        <p:spPr>
          <a:xfrm>
            <a:off x="4172040" y="1447920"/>
            <a:ext cx="89856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airship_front" descr=""/>
          <p:cNvPicPr/>
          <p:nvPr/>
        </p:nvPicPr>
        <p:blipFill>
          <a:blip r:embed="rId3"/>
          <a:stretch/>
        </p:blipFill>
        <p:spPr>
          <a:xfrm>
            <a:off x="1114560" y="1457280"/>
            <a:ext cx="1077840" cy="8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70" name=""/>
            <p:cNvGrpSpPr/>
            <p:nvPr/>
          </p:nvGrpSpPr>
          <p:grpSpPr>
            <a:xfrm>
              <a:off x="5410080" y="1066680"/>
              <a:ext cx="1280880" cy="2286000"/>
              <a:chOff x="5410080" y="1066680"/>
              <a:chExt cx="1280880" cy="2286000"/>
            </a:xfrm>
          </p:grpSpPr>
          <p:sp>
            <p:nvSpPr>
              <p:cNvPr id="71" name=""/>
              <p:cNvSpPr/>
              <p:nvPr/>
            </p:nvSpPr>
            <p:spPr>
              <a:xfrm>
                <a:off x="541008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348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5592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0516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486040" y="12524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S FOR AN AIR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6084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ke these plans to the Armory and pay him 10 Gold.  You may then take an Airship of your choosi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280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airship3dside" descr=""/>
          <p:cNvPicPr/>
          <p:nvPr/>
        </p:nvPicPr>
        <p:blipFill>
          <a:blip r:embed="rId4"/>
          <a:stretch/>
        </p:blipFill>
        <p:spPr>
          <a:xfrm>
            <a:off x="5495760" y="1533600"/>
            <a:ext cx="1143000" cy="8967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934320" y="1066680"/>
            <a:ext cx="1280880" cy="2314800"/>
            <a:chOff x="6934320" y="1066680"/>
            <a:chExt cx="1280880" cy="2314800"/>
          </a:xfrm>
        </p:grpSpPr>
        <p:grpSp>
          <p:nvGrpSpPr>
            <p:cNvPr id="80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6934320" y="1066680"/>
                <a:ext cx="1280880" cy="2286000"/>
                <a:chOff x="6934320" y="1066680"/>
                <a:chExt cx="1280880" cy="22860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432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957720" y="1141200"/>
                  <a:ext cx="609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ENEMY-MONSTER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80160" y="1141200"/>
                  <a:ext cx="609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MONSTER-ENEMY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2940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7010280" y="1252440"/>
                <a:ext cx="1142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IR MAURA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86600" y="2373480"/>
                <a:ext cx="990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RENGTH 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959160" y="2651040"/>
              <a:ext cx="1231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ese flying beasts attack anything in the air except Dragons.  If there is an Airship anywhere in pay it will immediately go to attack i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flycreat" descr=""/>
          <p:cNvPicPr/>
          <p:nvPr/>
        </p:nvPicPr>
        <p:blipFill>
          <a:blip r:embed="rId5"/>
          <a:stretch/>
        </p:blipFill>
        <p:spPr>
          <a:xfrm>
            <a:off x="7124760" y="1438200"/>
            <a:ext cx="91440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0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91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92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858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LM D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4148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 perfect day for air sailing.  All Airships may take another tur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memories" descr=""/>
          <p:cNvPicPr/>
          <p:nvPr/>
        </p:nvPicPr>
        <p:blipFill>
          <a:blip r:embed="rId6"/>
          <a:stretch/>
        </p:blipFill>
        <p:spPr>
          <a:xfrm>
            <a:off x="1162080" y="3809880"/>
            <a:ext cx="882720" cy="11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10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IGHTNING STRI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536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t a good day to go Air sailing.  All Airships take 2 damag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untitled" descr=""/>
          <p:cNvPicPr/>
          <p:nvPr/>
        </p:nvPicPr>
        <p:blipFill>
          <a:blip r:embed="rId7"/>
          <a:stretch/>
        </p:blipFill>
        <p:spPr>
          <a:xfrm>
            <a:off x="2641680" y="3828960"/>
            <a:ext cx="99684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0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5760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IR TURBUL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32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 sudden gust of wind causes all Airships in play to jolt.  You lose 1 random Follower, discar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4154400" y="3848040"/>
          <a:ext cx="9032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54400" y="3848040"/>
                    <a:ext cx="903240" cy="9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410080" y="3505320"/>
            <a:ext cx="1282680" cy="2286000"/>
            <a:chOff x="5410080" y="3505320"/>
            <a:chExt cx="1282680" cy="2286000"/>
          </a:xfrm>
        </p:grpSpPr>
        <p:grpSp>
          <p:nvGrpSpPr>
            <p:cNvPr id="122" name=""/>
            <p:cNvGrpSpPr/>
            <p:nvPr/>
          </p:nvGrpSpPr>
          <p:grpSpPr>
            <a:xfrm>
              <a:off x="5410080" y="3505320"/>
              <a:ext cx="1280880" cy="2286000"/>
              <a:chOff x="5410080" y="3505320"/>
              <a:chExt cx="1280880" cy="228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00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33480" y="3579840"/>
                <a:ext cx="609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55920" y="3579840"/>
                <a:ext cx="609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AGIC OBJEC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1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486040" y="369108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MOSPHERIC TIMEPIE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60840" y="493704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his little marvel allows you to ignore any weather event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528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clockwork_" descr=""/>
          <p:cNvPicPr/>
          <p:nvPr/>
        </p:nvPicPr>
        <p:blipFill>
          <a:blip r:embed="rId10"/>
          <a:stretch/>
        </p:blipFill>
        <p:spPr>
          <a:xfrm>
            <a:off x="5586480" y="3933720"/>
            <a:ext cx="94284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1" name=""/>
          <p:cNvGrpSpPr/>
          <p:nvPr/>
        </p:nvGrpSpPr>
        <p:grpSpPr>
          <a:xfrm>
            <a:off x="6924600" y="3495600"/>
            <a:ext cx="1282680" cy="2286000"/>
            <a:chOff x="6924600" y="3495600"/>
            <a:chExt cx="1282680" cy="2286000"/>
          </a:xfrm>
        </p:grpSpPr>
        <p:grpSp>
          <p:nvGrpSpPr>
            <p:cNvPr id="132" name=""/>
            <p:cNvGrpSpPr/>
            <p:nvPr/>
          </p:nvGrpSpPr>
          <p:grpSpPr>
            <a:xfrm>
              <a:off x="6924600" y="3495600"/>
              <a:ext cx="1280880" cy="2286000"/>
              <a:chOff x="6924600" y="3495600"/>
              <a:chExt cx="1280880" cy="22860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24600" y="349560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48000" y="357012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70440" y="357012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19680" y="357012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000560" y="36813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S FOR AN AIR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5360" y="492732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ke these plans to the Armory and pay him 10 Gold.  You may then take an Airship of your choosi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67320" y="477504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airship3dside" descr=""/>
          <p:cNvPicPr/>
          <p:nvPr/>
        </p:nvPicPr>
        <p:blipFill>
          <a:blip r:embed="rId11"/>
          <a:stretch/>
        </p:blipFill>
        <p:spPr>
          <a:xfrm>
            <a:off x="7010280" y="3962520"/>
            <a:ext cx="11430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3:47Z</dcterms:modified>
  <cp:revision>16</cp:revision>
  <dc:subject/>
  <dc:title>PowerPoint Presentation</dc:title>
</cp:coreProperties>
</file>