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D42-4A96-44F7-A899-73657D21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E10-36F1-4F78-BD77-0224307A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C3-77B7-422D-9982-9C803677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6D7-988A-4DCB-B437-CEC80E0C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C51-043C-4963-AA36-5BA487F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061-8D81-4565-B476-79C3A90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3D0-446E-496C-A1A1-08DEA47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455-3B3D-4DD2-A6D9-DAB9588D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35C-6A4B-4C87-AED5-9035BF56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998-9169-454F-B10E-517E923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C85-8219-4737-A0B7-D4A9DC1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313-188D-4E0B-88CE-B708AAB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7C9-B20C-45DC-A381-9494CC2B1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066680"/>
          <a:ext cx="12729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14600" y="3505320"/>
          <a:ext cx="127332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50532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14600" y="1066680"/>
          <a:ext cx="127332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06668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962520" y="1066680"/>
          <a:ext cx="127296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62520" y="3505320"/>
          <a:ext cx="1272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10080" y="3505320"/>
          <a:ext cx="127332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50532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1066680"/>
          <a:ext cx="127332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066680"/>
                    <a:ext cx="1273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34320" y="1066680"/>
          <a:ext cx="1272960" cy="228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106668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934320" y="3505320"/>
          <a:ext cx="1272960" cy="2286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90720" y="3505320"/>
          <a:ext cx="1272960" cy="2286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0720" y="3505320"/>
                    <a:ext cx="1272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19:30Z</dcterms:modified>
  <cp:revision>12</cp:revision>
  <dc:subject/>
  <dc:title>PowerPoint Presentation</dc:title>
</cp:coreProperties>
</file>