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9CA-6569-4D2A-B9BC-43C6C3E6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33C-920D-46FC-8C6F-D1F650FE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F57-9982-4652-A190-E1F4ECE2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4D8-C0D9-4785-8517-AB3746FC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778-B918-4D5D-8EE0-9A393410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4A9-8FC0-4C16-A201-21FAE2FB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679-6CBD-4147-8EE0-AAA39916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02B-A23C-4562-A3FC-DEB94CDC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D68-F5F5-48AD-AB90-B56D756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AF2-7768-4EC5-91FC-B992CD2C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EAA-DC61-4BCA-912C-49C116CD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3B2-F6DE-4DF9-A2D7-0C421511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8657-9326-4F19-AB28-795909801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2593440" y="35355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DLESS FLI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7003800" y="35355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IND FLO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1066320" y="3422880"/>
            <a:ext cx="11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MPEROR OF TH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4038120" y="35355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KY RA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5486040" y="35355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VALI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1066680"/>
            <a:ext cx="129564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066680"/>
            <a:ext cx="12952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3733920"/>
          <a:ext cx="99216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66880" y="3733920"/>
          <a:ext cx="99216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113360" y="3733920"/>
          <a:ext cx="99216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336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560920" y="3733920"/>
          <a:ext cx="992160" cy="190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0920" y="3733920"/>
                    <a:ext cx="99216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086600" y="3733920"/>
          <a:ext cx="10429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3733920"/>
                    <a:ext cx="1042920" cy="190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3-06-29T13:21:47Z</dcterms:modified>
  <cp:revision>20</cp:revision>
  <dc:subject/>
  <dc:title>PowerPoint Presentation</dc:title>
</cp:coreProperties>
</file>