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AE2-A07A-4A6C-B3D0-CE13C75A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8AF-DA2F-401B-A63E-55103814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CB0-2421-4ED8-986E-070B6EC7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A88-DB51-4DC1-9FF8-16765E56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5E8-7D7F-4ABE-B49E-7B863C6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7BF-6D4C-483A-8434-869D759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4D3-CB4C-4FA4-A196-E8BCBCCA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9DC-25E0-4FBE-9D86-4498B76E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5A1-DE38-4404-8918-67764A2C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909-844A-44B7-AC37-AB6538DB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8DD-E353-4650-B76B-0756A796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235-84AC-44D2-8CE4-1738E30A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BC47-424C-4905-B591-6A97CDC75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3800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0440" y="357984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0968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2590560" y="37483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DLESS FL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65360" y="4991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yve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-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924600" y="3505320"/>
            <a:ext cx="1282680" cy="2286000"/>
            <a:chOff x="6924600" y="3505320"/>
            <a:chExt cx="1282680" cy="2286000"/>
          </a:xfrm>
        </p:grpSpPr>
        <p:grpSp>
          <p:nvGrpSpPr>
            <p:cNvPr id="50" name=""/>
            <p:cNvGrpSpPr/>
            <p:nvPr/>
          </p:nvGrpSpPr>
          <p:grpSpPr>
            <a:xfrm>
              <a:off x="6924600" y="3505320"/>
              <a:ext cx="1281240" cy="2286000"/>
              <a:chOff x="6924600" y="3505320"/>
              <a:chExt cx="1281240" cy="2286000"/>
            </a:xfrm>
          </p:grpSpPr>
          <p:sp>
            <p:nvSpPr>
              <p:cNvPr id="51" name=""/>
              <p:cNvSpPr/>
              <p:nvPr/>
            </p:nvSpPr>
            <p:spPr>
              <a:xfrm>
                <a:off x="6924600" y="350532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948360" y="3579840"/>
                <a:ext cx="60984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57080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20040" y="357984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7000920" y="37483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IND FLOA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5360" y="50104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l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987480" y="3505320"/>
            <a:ext cx="1282680" cy="2286000"/>
            <a:chOff x="987480" y="3505320"/>
            <a:chExt cx="128268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987480" y="3505320"/>
              <a:ext cx="1280880" cy="2286000"/>
              <a:chOff x="987480" y="3505320"/>
              <a:chExt cx="1280880" cy="2286000"/>
            </a:xfrm>
          </p:grpSpPr>
          <p:sp>
            <p:nvSpPr>
              <p:cNvPr id="59" name=""/>
              <p:cNvSpPr/>
              <p:nvPr/>
            </p:nvSpPr>
            <p:spPr>
              <a:xfrm>
                <a:off x="9874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1088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33320" y="357984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825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063440" y="374832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EROR OF THE AI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38240" y="49946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rag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-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959280" y="3505320"/>
            <a:ext cx="1282680" cy="2286000"/>
            <a:chOff x="3959280" y="3505320"/>
            <a:chExt cx="1282680" cy="2286000"/>
          </a:xfrm>
        </p:grpSpPr>
        <p:grpSp>
          <p:nvGrpSpPr>
            <p:cNvPr id="66" name=""/>
            <p:cNvGrpSpPr/>
            <p:nvPr/>
          </p:nvGrpSpPr>
          <p:grpSpPr>
            <a:xfrm>
              <a:off x="3959280" y="3505320"/>
              <a:ext cx="1280880" cy="2286000"/>
              <a:chOff x="3959280" y="3505320"/>
              <a:chExt cx="1280880" cy="2286000"/>
            </a:xfrm>
          </p:grpSpPr>
          <p:sp>
            <p:nvSpPr>
              <p:cNvPr id="67" name=""/>
              <p:cNvSpPr/>
              <p:nvPr/>
            </p:nvSpPr>
            <p:spPr>
              <a:xfrm>
                <a:off x="39592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8268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05120" y="357984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54360" y="357984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4035240" y="37483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KY RAI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10040" y="4991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d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407200" y="3505320"/>
            <a:ext cx="1282680" cy="2286000"/>
            <a:chOff x="5407200" y="3505320"/>
            <a:chExt cx="1282680" cy="2286000"/>
          </a:xfrm>
        </p:grpSpPr>
        <p:grpSp>
          <p:nvGrpSpPr>
            <p:cNvPr id="74" name=""/>
            <p:cNvGrpSpPr/>
            <p:nvPr/>
          </p:nvGrpSpPr>
          <p:grpSpPr>
            <a:xfrm>
              <a:off x="5407200" y="3505320"/>
              <a:ext cx="1281240" cy="2286000"/>
              <a:chOff x="5407200" y="3505320"/>
              <a:chExt cx="1281240" cy="2286000"/>
            </a:xfrm>
          </p:grpSpPr>
          <p:sp>
            <p:nvSpPr>
              <p:cNvPr id="75" name=""/>
              <p:cNvSpPr/>
              <p:nvPr/>
            </p:nvSpPr>
            <p:spPr>
              <a:xfrm>
                <a:off x="5407200" y="350532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430960" y="3579840"/>
                <a:ext cx="60984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53400" y="357984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02640" y="357984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5483520" y="37483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HE VALI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57960" y="50104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ag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17840" y="1066680"/>
            <a:ext cx="1282680" cy="2286000"/>
            <a:chOff x="2517840" y="1066680"/>
            <a:chExt cx="1282680" cy="2286000"/>
          </a:xfrm>
        </p:grpSpPr>
        <p:grpSp>
          <p:nvGrpSpPr>
            <p:cNvPr id="82" name=""/>
            <p:cNvGrpSpPr/>
            <p:nvPr/>
          </p:nvGrpSpPr>
          <p:grpSpPr>
            <a:xfrm>
              <a:off x="2517840" y="1066680"/>
              <a:ext cx="1280880" cy="2286000"/>
              <a:chOff x="2517840" y="1066680"/>
              <a:chExt cx="1280880" cy="2286000"/>
            </a:xfrm>
          </p:grpSpPr>
          <p:sp>
            <p:nvSpPr>
              <p:cNvPr id="83" name=""/>
              <p:cNvSpPr/>
              <p:nvPr/>
            </p:nvSpPr>
            <p:spPr>
              <a:xfrm>
                <a:off x="251784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4124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63680" y="114120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11292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59380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HE DUTCH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68600" y="255276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yve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-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irshipA" descr=""/>
          <p:cNvPicPr/>
          <p:nvPr/>
        </p:nvPicPr>
        <p:blipFill>
          <a:blip r:embed="rId1"/>
          <a:stretch/>
        </p:blipFill>
        <p:spPr>
          <a:xfrm>
            <a:off x="2657520" y="1498680"/>
            <a:ext cx="974520" cy="88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1" name=""/>
          <p:cNvGrpSpPr/>
          <p:nvPr/>
        </p:nvGrpSpPr>
        <p:grpSpPr>
          <a:xfrm>
            <a:off x="6927840" y="1066680"/>
            <a:ext cx="1282680" cy="2286000"/>
            <a:chOff x="6927840" y="1066680"/>
            <a:chExt cx="1282680" cy="2286000"/>
          </a:xfrm>
        </p:grpSpPr>
        <p:grpSp>
          <p:nvGrpSpPr>
            <p:cNvPr id="92" name=""/>
            <p:cNvGrpSpPr/>
            <p:nvPr/>
          </p:nvGrpSpPr>
          <p:grpSpPr>
            <a:xfrm>
              <a:off x="6927840" y="1066680"/>
              <a:ext cx="1281240" cy="2286000"/>
              <a:chOff x="6927840" y="1066680"/>
              <a:chExt cx="1281240" cy="2286000"/>
            </a:xfrm>
          </p:grpSpPr>
          <p:sp>
            <p:nvSpPr>
              <p:cNvPr id="93" name=""/>
              <p:cNvSpPr/>
              <p:nvPr/>
            </p:nvSpPr>
            <p:spPr>
              <a:xfrm>
                <a:off x="6927840" y="106668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951600" y="1141200"/>
                <a:ext cx="60984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7404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23280" y="114120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00416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IND DANC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78600" y="25718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l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airshipB" descr=""/>
          <p:cNvPicPr/>
          <p:nvPr/>
        </p:nvPicPr>
        <p:blipFill>
          <a:blip r:embed="rId2"/>
          <a:stretch/>
        </p:blipFill>
        <p:spPr>
          <a:xfrm>
            <a:off x="7086600" y="1498680"/>
            <a:ext cx="990720" cy="8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0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101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102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1412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36560" y="114120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858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06668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KY K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41480" y="25560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rag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-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962520" y="1066680"/>
            <a:ext cx="1282680" cy="2286000"/>
            <a:chOff x="3962520" y="1066680"/>
            <a:chExt cx="1282680" cy="2286000"/>
          </a:xfrm>
        </p:grpSpPr>
        <p:grpSp>
          <p:nvGrpSpPr>
            <p:cNvPr id="109" name=""/>
            <p:cNvGrpSpPr/>
            <p:nvPr/>
          </p:nvGrpSpPr>
          <p:grpSpPr>
            <a:xfrm>
              <a:off x="3962520" y="1066680"/>
              <a:ext cx="1280880" cy="2286000"/>
              <a:chOff x="3962520" y="1066680"/>
              <a:chExt cx="1280880" cy="2286000"/>
            </a:xfrm>
          </p:grpSpPr>
          <p:sp>
            <p:nvSpPr>
              <p:cNvPr id="110" name=""/>
              <p:cNvSpPr/>
              <p:nvPr/>
            </p:nvSpPr>
            <p:spPr>
              <a:xfrm>
                <a:off x="39625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98592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08360" y="1141200"/>
                <a:ext cx="6091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57600" y="1141200"/>
                <a:ext cx="91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03848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OUD SA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13280" y="255276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d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10080" y="1066680"/>
            <a:ext cx="1282680" cy="2286000"/>
            <a:chOff x="5410080" y="1066680"/>
            <a:chExt cx="1282680" cy="2286000"/>
          </a:xfrm>
        </p:grpSpPr>
        <p:grpSp>
          <p:nvGrpSpPr>
            <p:cNvPr id="117" name=""/>
            <p:cNvGrpSpPr/>
            <p:nvPr/>
          </p:nvGrpSpPr>
          <p:grpSpPr>
            <a:xfrm>
              <a:off x="5410080" y="1066680"/>
              <a:ext cx="1281240" cy="2286000"/>
              <a:chOff x="5410080" y="1066680"/>
              <a:chExt cx="1281240" cy="2286000"/>
            </a:xfrm>
          </p:grpSpPr>
          <p:sp>
            <p:nvSpPr>
              <p:cNvPr id="118" name=""/>
              <p:cNvSpPr/>
              <p:nvPr/>
            </p:nvSpPr>
            <p:spPr>
              <a:xfrm>
                <a:off x="5410080" y="1066680"/>
                <a:ext cx="128124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33840" y="1141200"/>
                <a:ext cx="60984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56280" y="1141200"/>
                <a:ext cx="60948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BJECT-AIRSHI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05520" y="1141200"/>
                <a:ext cx="9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486400" y="13096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HE EAG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60840" y="25718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as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ag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ngth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t Points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ve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liment: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airshipc" descr=""/>
          <p:cNvPicPr/>
          <p:nvPr/>
        </p:nvPicPr>
        <p:blipFill>
          <a:blip r:embed="rId3"/>
          <a:stretch/>
        </p:blipFill>
        <p:spPr>
          <a:xfrm>
            <a:off x="5562720" y="1498680"/>
            <a:ext cx="9903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airshipD" descr=""/>
          <p:cNvPicPr/>
          <p:nvPr/>
        </p:nvPicPr>
        <p:blipFill>
          <a:blip r:embed="rId4"/>
          <a:stretch/>
        </p:blipFill>
        <p:spPr>
          <a:xfrm>
            <a:off x="5562720" y="3936960"/>
            <a:ext cx="9903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airshipE" descr=""/>
          <p:cNvPicPr/>
          <p:nvPr/>
        </p:nvPicPr>
        <p:blipFill>
          <a:blip r:embed="rId5"/>
          <a:stretch/>
        </p:blipFill>
        <p:spPr>
          <a:xfrm>
            <a:off x="1143000" y="1498680"/>
            <a:ext cx="9907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airshipG" descr=""/>
          <p:cNvPicPr/>
          <p:nvPr/>
        </p:nvPicPr>
        <p:blipFill>
          <a:blip r:embed="rId6"/>
          <a:stretch/>
        </p:blipFill>
        <p:spPr>
          <a:xfrm>
            <a:off x="4114800" y="3936960"/>
            <a:ext cx="9907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airshipH" descr=""/>
          <p:cNvPicPr/>
          <p:nvPr/>
        </p:nvPicPr>
        <p:blipFill>
          <a:blip r:embed="rId7"/>
          <a:stretch/>
        </p:blipFill>
        <p:spPr>
          <a:xfrm>
            <a:off x="4114800" y="1498680"/>
            <a:ext cx="99072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airshipK" descr=""/>
          <p:cNvPicPr/>
          <p:nvPr/>
        </p:nvPicPr>
        <p:blipFill>
          <a:blip r:embed="rId8"/>
          <a:stretch/>
        </p:blipFill>
        <p:spPr>
          <a:xfrm>
            <a:off x="1143000" y="3936960"/>
            <a:ext cx="9907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airshipJ" descr=""/>
          <p:cNvPicPr/>
          <p:nvPr/>
        </p:nvPicPr>
        <p:blipFill>
          <a:blip r:embed="rId9"/>
          <a:stretch/>
        </p:blipFill>
        <p:spPr>
          <a:xfrm>
            <a:off x="7010280" y="3936960"/>
            <a:ext cx="1086120" cy="9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airshipI" descr=""/>
          <p:cNvPicPr/>
          <p:nvPr/>
        </p:nvPicPr>
        <p:blipFill>
          <a:blip r:embed="rId10"/>
          <a:stretch/>
        </p:blipFill>
        <p:spPr>
          <a:xfrm>
            <a:off x="2666880" y="3936960"/>
            <a:ext cx="9907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20:10Z</dcterms:modified>
  <cp:revision>16</cp:revision>
  <dc:subject/>
  <dc:title>PowerPoint Presentation</dc:title>
</cp:coreProperties>
</file>