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E64-C5FB-4AC5-8864-E5AC5361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FFD-470A-4DEC-9468-20FC88F2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D14-5FA8-44F0-B54E-06255333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458-3745-465F-A679-46D9614C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3A1-84EA-4F27-83D4-C2B2CBE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DE5-CF9B-4DE8-9A1D-D98F3C6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133-4E5E-4163-AD86-36E25C5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889-AEFE-4FB1-9A08-8A2FC41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6D8-BDFC-49A4-A067-733ABC76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BAD-3F0F-4B73-A9EF-8F702F2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C94-F96B-4015-8E76-EA3186B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252-2DE1-42C1-9B99-9995233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D0F-ACFA-4661-8ABC-0B3EB6A9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259344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DUTCH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00380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DA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1066320" y="353880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403812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LOUD S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5486040" y="35287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EA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3733920"/>
          <a:ext cx="9921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85960" y="3733920"/>
          <a:ext cx="97020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5960" y="3733920"/>
                    <a:ext cx="97020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33880" y="3705120"/>
          <a:ext cx="99216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3880" y="3705120"/>
                    <a:ext cx="99216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560920" y="3733920"/>
          <a:ext cx="99216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092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085160" y="3733920"/>
          <a:ext cx="99216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516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morrow</cp:lastModifiedBy>
  <dcterms:modified xsi:type="dcterms:W3CDTF">2003-06-27T18:12:15Z</dcterms:modified>
  <cp:revision>17</cp:revision>
  <dc:subject/>
  <dc:title>PowerPoint Presentation</dc:title>
</cp:coreProperties>
</file>