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A42-679C-416A-9ABA-C92DF6F2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400-DAB3-490C-AB1F-C6CB953B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F44-A67A-482F-A88D-8F027F3D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2C4-42BE-4CC3-B59F-BE964E99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3C7-D1E0-4F0B-81FE-A65CD2A7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733-F72E-47C0-A68E-955FD91B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18B-4549-4AF3-BBEA-CED4D973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8D1-920B-4509-8F33-4ACF2B1D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4FA-F0D0-41DD-9DD7-7DB5EE21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146-B4B2-4035-8EE3-B0B48256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2A0-761C-491F-9E0C-18F16E7D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A3B-C2D3-4FD3-841F-AE72589D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0C25-D9FE-45DF-9258-22910F55A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3800" y="32097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DLESS FLI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04160" y="32097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IND FLO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219480"/>
            <a:ext cx="11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MPEROR OF TH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32097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KY RA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32097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VALI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1066680"/>
            <a:ext cx="129564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irshipD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99036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airshipG" descr=""/>
          <p:cNvPicPr/>
          <p:nvPr/>
        </p:nvPicPr>
        <p:blipFill>
          <a:blip r:embed="rId2"/>
          <a:stretch/>
        </p:blipFill>
        <p:spPr>
          <a:xfrm>
            <a:off x="411480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airshipK" descr=""/>
          <p:cNvPicPr/>
          <p:nvPr/>
        </p:nvPicPr>
        <p:blipFill>
          <a:blip r:embed="rId3"/>
          <a:stretch/>
        </p:blipFill>
        <p:spPr>
          <a:xfrm>
            <a:off x="114300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airshipJ" descr=""/>
          <p:cNvPicPr/>
          <p:nvPr/>
        </p:nvPicPr>
        <p:blipFill>
          <a:blip r:embed="rId4"/>
          <a:stretch/>
        </p:blipFill>
        <p:spPr>
          <a:xfrm>
            <a:off x="7039080" y="1219320"/>
            <a:ext cx="1085760" cy="191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airshipI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990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22:39Z</dcterms:modified>
  <cp:revision>19</cp:revision>
  <dc:subject/>
  <dc:title>PowerPoint Presentation</dc:title>
</cp:coreProperties>
</file>