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01D-65D7-4D56-9CD9-9F65005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F4B-8389-4937-AB5F-0BECFD7D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854-604C-491F-B7B6-9FDB9FF6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322-E0C9-4730-8D4C-322C166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99C-9D39-4302-877C-8FCAC5FC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C84-8FF4-4132-8F03-AD7F16E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D63-56F5-4C2D-8560-1116A37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256-7EBB-4DC0-B78B-0D7F65A6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EC4-6B1B-4AD2-97F4-3C6A52C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414-9AFC-4EDE-9ADA-3CFDA0D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3A8-F806-4828-98C3-54AF4C36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2CC-9E89-4A8A-9959-356ADCB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6818-DF8C-4400-8709-26BCF36C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10080" y="1066680"/>
            <a:ext cx="1281240" cy="2286000"/>
            <a:chOff x="5410080" y="1066680"/>
            <a:chExt cx="1281240" cy="2286000"/>
          </a:xfrm>
        </p:grpSpPr>
        <p:sp>
          <p:nvSpPr>
            <p:cNvPr id="42" name=""/>
            <p:cNvSpPr/>
            <p:nvPr/>
          </p:nvSpPr>
          <p:spPr>
            <a:xfrm>
              <a:off x="5410080" y="10666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43384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5628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05520" y="11412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48640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RK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73800" y="2368440"/>
            <a:ext cx="1143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creature has decided to join you.  She hates the light, however, and will add 2 to your Craft only while in the Catacombs, Dungeon or any City or Village building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34320" y="1066680"/>
            <a:ext cx="1280880" cy="2286000"/>
            <a:chOff x="6934320" y="1066680"/>
            <a:chExt cx="1280880" cy="2286000"/>
          </a:xfrm>
        </p:grpSpPr>
        <p:grpSp>
          <p:nvGrpSpPr>
            <p:cNvPr id="49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sp>
            <p:nvSpPr>
              <p:cNvPr id="50" name=""/>
              <p:cNvSpPr/>
              <p:nvPr/>
            </p:nvSpPr>
            <p:spPr>
              <a:xfrm>
                <a:off x="69343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9577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01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529400" y="114120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7010280" y="1252440"/>
              <a:ext cx="114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DROW MAID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97320" y="2438280"/>
              <a:ext cx="11426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2 Abilities cards and place them with her.  As long as she is with you, you may use her abilities as your ow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34320" y="3505320"/>
            <a:ext cx="1280880" cy="2286000"/>
            <a:chOff x="6934320" y="3505320"/>
            <a:chExt cx="1280880" cy="2286000"/>
          </a:xfrm>
        </p:grpSpPr>
        <p:grpSp>
          <p:nvGrpSpPr>
            <p:cNvPr id="57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58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577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529400" y="357984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7010280" y="3691080"/>
              <a:ext cx="114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DROW EL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97320" y="4876920"/>
              <a:ext cx="11426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2 Abilities cards and place them with him.  As long as he is with you, you may use his abilities as you ow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505320"/>
            <a:ext cx="1281240" cy="2286000"/>
            <a:chOff x="5410080" y="3505320"/>
            <a:chExt cx="1281240" cy="2286000"/>
          </a:xfrm>
        </p:grpSpPr>
        <p:grpSp>
          <p:nvGrpSpPr>
            <p:cNvPr id="65" name=""/>
            <p:cNvGrpSpPr/>
            <p:nvPr/>
          </p:nvGrpSpPr>
          <p:grpSpPr>
            <a:xfrm>
              <a:off x="5410080" y="3505320"/>
              <a:ext cx="1281240" cy="2286000"/>
              <a:chOff x="5410080" y="3505320"/>
              <a:chExt cx="1281240" cy="2286000"/>
            </a:xfrm>
          </p:grpSpPr>
          <p:sp>
            <p:nvSpPr>
              <p:cNvPr id="66" name=""/>
              <p:cNvSpPr/>
              <p:nvPr/>
            </p:nvSpPr>
            <p:spPr>
              <a:xfrm>
                <a:off x="5410080" y="350532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384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05628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0552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548640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HAW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3440" y="487692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Hawk can see well in the dark.  As long as the Night Hawk is your Follower, you may always see the top card of the Dungeon Deck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62520" y="3505320"/>
            <a:ext cx="1280880" cy="2286000"/>
            <a:chOff x="3962520" y="3505320"/>
            <a:chExt cx="1280880" cy="2286000"/>
          </a:xfrm>
        </p:grpSpPr>
        <p:sp>
          <p:nvSpPr>
            <p:cNvPr id="73" name=""/>
            <p:cNvSpPr/>
            <p:nvPr/>
          </p:nvSpPr>
          <p:spPr>
            <a:xfrm>
              <a:off x="3962520" y="350532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85920" y="357984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8360" y="357984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57600" y="3579840"/>
              <a:ext cx="91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38480" y="36910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25880" y="4788000"/>
            <a:ext cx="1143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dow has chosen to join you.  As long as it is with you, you automatically defeat Spirits of Craft 1 or 2.  If you land on any space with another character the Shadow will choose to join the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14600" y="1066680"/>
            <a:ext cx="1281240" cy="2286000"/>
            <a:chOff x="2514600" y="1066680"/>
            <a:chExt cx="1281240" cy="2286000"/>
          </a:xfrm>
        </p:grpSpPr>
        <p:grpSp>
          <p:nvGrpSpPr>
            <p:cNvPr id="80" name=""/>
            <p:cNvGrpSpPr/>
            <p:nvPr/>
          </p:nvGrpSpPr>
          <p:grpSpPr>
            <a:xfrm>
              <a:off x="2514600" y="1066680"/>
              <a:ext cx="1281240" cy="2286000"/>
              <a:chOff x="2514600" y="1066680"/>
              <a:chExt cx="1281240" cy="2286000"/>
            </a:xfrm>
          </p:grpSpPr>
          <p:sp>
            <p:nvSpPr>
              <p:cNvPr id="81" name=""/>
              <p:cNvSpPr/>
              <p:nvPr/>
            </p:nvSpPr>
            <p:spPr>
              <a:xfrm>
                <a:off x="2514600" y="106668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3836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1608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1004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59092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OST MO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77960" y="2438280"/>
              <a:ext cx="11430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monk is so grateful to be found he will join you as a follower and add 1 to your Craft as long as he is with you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990720" y="1066680"/>
            <a:ext cx="1280880" cy="2286000"/>
            <a:chOff x="990720" y="1066680"/>
            <a:chExt cx="1280880" cy="2286000"/>
          </a:xfrm>
        </p:grpSpPr>
        <p:sp>
          <p:nvSpPr>
            <p:cNvPr id="88" name=""/>
            <p:cNvSpPr/>
            <p:nvPr/>
          </p:nvSpPr>
          <p:spPr>
            <a:xfrm>
              <a:off x="9907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412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365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5800" y="1141200"/>
              <a:ext cx="91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666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IGHTOUS PRI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54080" y="2228760"/>
            <a:ext cx="1143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eous Priest will not join you if you are Evil.  If you are Neutral, you may convert opt Good.  While he is with you, The Righteous Priest will add 2 to your Strength.  And 1 to your Craft in Psychic Combat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14600" y="3505320"/>
            <a:ext cx="1281240" cy="2286000"/>
            <a:chOff x="2514600" y="3505320"/>
            <a:chExt cx="1281240" cy="2286000"/>
          </a:xfrm>
        </p:grpSpPr>
        <p:grpSp>
          <p:nvGrpSpPr>
            <p:cNvPr id="95" name=""/>
            <p:cNvGrpSpPr/>
            <p:nvPr/>
          </p:nvGrpSpPr>
          <p:grpSpPr>
            <a:xfrm>
              <a:off x="2514600" y="3505320"/>
              <a:ext cx="1281240" cy="2286000"/>
              <a:chOff x="2514600" y="3505320"/>
              <a:chExt cx="1281240" cy="2286000"/>
            </a:xfrm>
          </p:grpSpPr>
          <p:sp>
            <p:nvSpPr>
              <p:cNvPr id="96" name=""/>
              <p:cNvSpPr/>
              <p:nvPr/>
            </p:nvSpPr>
            <p:spPr>
              <a:xfrm>
                <a:off x="2514600" y="350532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3836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608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1004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59092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IMSON DRU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77960" y="4876920"/>
              <a:ext cx="11430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le she is with you she will add 5 to your Craft.  If you land on any Forest or Woods space the Druid will leave you, discar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90720" y="3505320"/>
            <a:ext cx="1280880" cy="2286000"/>
            <a:chOff x="990720" y="3505320"/>
            <a:chExt cx="1280880" cy="2286000"/>
          </a:xfrm>
        </p:grpSpPr>
        <p:grpSp>
          <p:nvGrpSpPr>
            <p:cNvPr id="103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104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141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LLOW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85800" y="357984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66680" y="3691080"/>
              <a:ext cx="114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IGHT GN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3720" y="4876920"/>
              <a:ext cx="11426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is little fellow will become your Follower.  He will allow you to move 1 or 2 spaces without rolling the die in the Dungeon &amp; the Sewer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rightouspriest" descr=""/>
          <p:cNvPicPr/>
          <p:nvPr/>
        </p:nvPicPr>
        <p:blipFill>
          <a:blip r:embed="rId1"/>
          <a:stretch/>
        </p:blipFill>
        <p:spPr>
          <a:xfrm>
            <a:off x="1287360" y="1384200"/>
            <a:ext cx="676440" cy="8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lostmonk" descr=""/>
          <p:cNvPicPr/>
          <p:nvPr/>
        </p:nvPicPr>
        <p:blipFill>
          <a:blip r:embed="rId2"/>
          <a:stretch/>
        </p:blipFill>
        <p:spPr>
          <a:xfrm>
            <a:off x="2765520" y="1415880"/>
            <a:ext cx="7920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2" name=""/>
          <p:cNvGrpSpPr/>
          <p:nvPr/>
        </p:nvGrpSpPr>
        <p:grpSpPr>
          <a:xfrm>
            <a:off x="3962520" y="1066680"/>
            <a:ext cx="1280880" cy="2286000"/>
            <a:chOff x="3962520" y="1066680"/>
            <a:chExt cx="1280880" cy="2286000"/>
          </a:xfrm>
        </p:grpSpPr>
        <p:sp>
          <p:nvSpPr>
            <p:cNvPr id="113" name=""/>
            <p:cNvSpPr/>
            <p:nvPr/>
          </p:nvSpPr>
          <p:spPr>
            <a:xfrm>
              <a:off x="39625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592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083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FOLL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57600" y="11412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0384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KRUPP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13280" y="2346480"/>
            <a:ext cx="12319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dd little creature joins you from out of nowhere.  It will add 1 to your Strength in Combat.  You may send it into any Combat in your stead.  In Combat alone it becomes furious.  Roll 1D8 for it.  If it is killed, discar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193840"/>
            <a:ext cx="76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RENGTH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kruppet" descr=""/>
          <p:cNvPicPr/>
          <p:nvPr/>
        </p:nvPicPr>
        <p:blipFill>
          <a:blip r:embed="rId3"/>
          <a:stretch/>
        </p:blipFill>
        <p:spPr>
          <a:xfrm>
            <a:off x="4172040" y="1371600"/>
            <a:ext cx="838080" cy="8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darkling" descr=""/>
          <p:cNvPicPr/>
          <p:nvPr/>
        </p:nvPicPr>
        <p:blipFill>
          <a:blip r:embed="rId4"/>
          <a:stretch/>
        </p:blipFill>
        <p:spPr>
          <a:xfrm>
            <a:off x="5543640" y="1390680"/>
            <a:ext cx="101448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nightdrow" descr=""/>
          <p:cNvPicPr/>
          <p:nvPr/>
        </p:nvPicPr>
        <p:blipFill>
          <a:blip r:embed="rId5"/>
          <a:stretch/>
        </p:blipFill>
        <p:spPr>
          <a:xfrm>
            <a:off x="7226280" y="1397160"/>
            <a:ext cx="709560" cy="98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nightdrow1" descr=""/>
          <p:cNvPicPr/>
          <p:nvPr/>
        </p:nvPicPr>
        <p:blipFill>
          <a:blip r:embed="rId6"/>
          <a:stretch/>
        </p:blipFill>
        <p:spPr>
          <a:xfrm>
            <a:off x="7194600" y="3841920"/>
            <a:ext cx="77616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nighthawk" descr=""/>
          <p:cNvPicPr/>
          <p:nvPr/>
        </p:nvPicPr>
        <p:blipFill>
          <a:blip r:embed="rId7"/>
          <a:stretch/>
        </p:blipFill>
        <p:spPr>
          <a:xfrm>
            <a:off x="5537160" y="3860640"/>
            <a:ext cx="1066680" cy="841680"/>
          </a:xfrm>
          <a:prstGeom prst="rect">
            <a:avLst/>
          </a:prstGeom>
          <a:ln w="0">
            <a:noFill/>
          </a:ln>
        </p:spPr>
      </p:pic>
      <p:pic>
        <p:nvPicPr>
          <p:cNvPr id="125" name="shadow" descr=""/>
          <p:cNvPicPr/>
          <p:nvPr/>
        </p:nvPicPr>
        <p:blipFill>
          <a:blip r:embed="rId8"/>
          <a:stretch/>
        </p:blipFill>
        <p:spPr>
          <a:xfrm>
            <a:off x="4146480" y="3851280"/>
            <a:ext cx="914400" cy="814320"/>
          </a:xfrm>
          <a:prstGeom prst="rect">
            <a:avLst/>
          </a:prstGeom>
          <a:ln w="0">
            <a:noFill/>
          </a:ln>
        </p:spPr>
      </p:pic>
      <p:pic>
        <p:nvPicPr>
          <p:cNvPr id="126" name="crimsondruid" descr=""/>
          <p:cNvPicPr/>
          <p:nvPr/>
        </p:nvPicPr>
        <p:blipFill>
          <a:blip r:embed="rId9"/>
          <a:stretch/>
        </p:blipFill>
        <p:spPr>
          <a:xfrm>
            <a:off x="2771640" y="3809880"/>
            <a:ext cx="723960" cy="10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night%20gnome" descr=""/>
          <p:cNvPicPr/>
          <p:nvPr/>
        </p:nvPicPr>
        <p:blipFill>
          <a:blip r:embed="rId10"/>
          <a:stretch/>
        </p:blipFill>
        <p:spPr>
          <a:xfrm>
            <a:off x="1143000" y="3857760"/>
            <a:ext cx="971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4:23:10Z</dcterms:modified>
  <cp:revision>16</cp:revision>
  <dc:subject/>
  <dc:title>PowerPoint Presentation</dc:title>
</cp:coreProperties>
</file>