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EC23-8EB2-4495-AEDC-3DBD51CEE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CCE3-8665-4098-91F5-EF279E4AA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CB94-7A65-442A-B218-03770CC67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01ED-684F-42D0-B48B-FE0F795E3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0EDC-8A20-488A-A330-B18451712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3E08-4B5B-4BE1-B9CA-6275CC09B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F45D-88EC-41E6-B955-E7EE5E94B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1280-ADEC-4519-825D-12E7BB5C9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ED1A-19F3-4E1F-B560-B2B124C45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44B3-AE76-4D47-AA3F-5E5B88F5D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D8BD-662F-4520-9926-6F0FDFEC5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8969-AB8C-4037-BB6B-7E81D7C56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473FE-E1CD-47A8-9ECF-F46CF2C343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514600" y="1066680"/>
            <a:ext cx="1282680" cy="2286000"/>
            <a:chOff x="2514600" y="1066680"/>
            <a:chExt cx="1282680" cy="2286000"/>
          </a:xfrm>
        </p:grpSpPr>
        <p:grpSp>
          <p:nvGrpSpPr>
            <p:cNvPr id="42" name=""/>
            <p:cNvGrpSpPr/>
            <p:nvPr/>
          </p:nvGrpSpPr>
          <p:grpSpPr>
            <a:xfrm>
              <a:off x="2514600" y="1066680"/>
              <a:ext cx="1282680" cy="2286000"/>
              <a:chOff x="2514600" y="1066680"/>
              <a:chExt cx="1282680" cy="2286000"/>
            </a:xfrm>
          </p:grpSpPr>
          <p:grpSp>
            <p:nvGrpSpPr>
              <p:cNvPr id="43" name=""/>
              <p:cNvGrpSpPr/>
              <p:nvPr/>
            </p:nvGrpSpPr>
            <p:grpSpPr>
              <a:xfrm>
                <a:off x="2514600" y="1066680"/>
                <a:ext cx="1280880" cy="2286000"/>
                <a:chOff x="2514600" y="1066680"/>
                <a:chExt cx="1280880" cy="2286000"/>
              </a:xfrm>
            </p:grpSpPr>
            <p:sp>
              <p:nvSpPr>
                <p:cNvPr id="44" name=""/>
                <p:cNvSpPr/>
                <p:nvPr/>
              </p:nvSpPr>
              <p:spPr>
                <a:xfrm>
                  <a:off x="2514600" y="1066680"/>
                  <a:ext cx="1280880" cy="2286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2538000" y="1141200"/>
                  <a:ext cx="60948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LOCALE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3160440" y="1141200"/>
                  <a:ext cx="60912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LOCALE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3109680" y="1141200"/>
                  <a:ext cx="9180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" name=""/>
              <p:cNvSpPr/>
              <p:nvPr/>
            </p:nvSpPr>
            <p:spPr>
              <a:xfrm>
                <a:off x="2590560" y="1252440"/>
                <a:ext cx="1143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CATACOMBS ENTRANC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565360" y="2498400"/>
                <a:ext cx="1231920" cy="48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If you choose, you may enter the Catacombs on your next turn. Remove your playing piece from the board.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2857320" y="2346120"/>
                <a:ext cx="5907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51" name="untitled" descr=""/>
            <p:cNvPicPr/>
            <p:nvPr/>
          </p:nvPicPr>
          <p:blipFill>
            <a:blip r:embed="rId1"/>
            <a:stretch/>
          </p:blipFill>
          <p:spPr>
            <a:xfrm>
              <a:off x="2709720" y="1530360"/>
              <a:ext cx="903600" cy="9144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52" name=""/>
          <p:cNvGrpSpPr/>
          <p:nvPr/>
        </p:nvGrpSpPr>
        <p:grpSpPr>
          <a:xfrm>
            <a:off x="990720" y="1066680"/>
            <a:ext cx="1282680" cy="2286000"/>
            <a:chOff x="990720" y="1066680"/>
            <a:chExt cx="1282680" cy="2286000"/>
          </a:xfrm>
        </p:grpSpPr>
        <p:grpSp>
          <p:nvGrpSpPr>
            <p:cNvPr id="53" name=""/>
            <p:cNvGrpSpPr/>
            <p:nvPr/>
          </p:nvGrpSpPr>
          <p:grpSpPr>
            <a:xfrm>
              <a:off x="990720" y="1066680"/>
              <a:ext cx="1282680" cy="2286000"/>
              <a:chOff x="990720" y="1066680"/>
              <a:chExt cx="1282680" cy="2286000"/>
            </a:xfrm>
          </p:grpSpPr>
          <p:grpSp>
            <p:nvGrpSpPr>
              <p:cNvPr id="54" name=""/>
              <p:cNvGrpSpPr/>
              <p:nvPr/>
            </p:nvGrpSpPr>
            <p:grpSpPr>
              <a:xfrm>
                <a:off x="990720" y="1066680"/>
                <a:ext cx="1280880" cy="2286000"/>
                <a:chOff x="990720" y="1066680"/>
                <a:chExt cx="1280880" cy="228600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990720" y="1066680"/>
                  <a:ext cx="1280880" cy="2286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1014120" y="1141200"/>
                  <a:ext cx="60948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LOCALE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1636560" y="1141200"/>
                  <a:ext cx="60912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LOCALE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1585800" y="1141200"/>
                  <a:ext cx="9180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" name=""/>
              <p:cNvSpPr/>
              <p:nvPr/>
            </p:nvSpPr>
            <p:spPr>
              <a:xfrm>
                <a:off x="1066680" y="1252440"/>
                <a:ext cx="1143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CATACOMBS ENTRANC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041480" y="2498400"/>
                <a:ext cx="1231920" cy="48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If you choose, you may enter the Catacombs on your next turn. Remove your playing piece from the board.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333440" y="2346120"/>
                <a:ext cx="5907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62" name="untitled" descr=""/>
            <p:cNvPicPr/>
            <p:nvPr/>
          </p:nvPicPr>
          <p:blipFill>
            <a:blip r:embed="rId2"/>
            <a:stretch/>
          </p:blipFill>
          <p:spPr>
            <a:xfrm>
              <a:off x="1185840" y="1530360"/>
              <a:ext cx="903600" cy="9144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63" name=""/>
          <p:cNvGrpSpPr/>
          <p:nvPr/>
        </p:nvGrpSpPr>
        <p:grpSpPr>
          <a:xfrm>
            <a:off x="5410080" y="1066680"/>
            <a:ext cx="1282680" cy="2286000"/>
            <a:chOff x="5410080" y="1066680"/>
            <a:chExt cx="1282680" cy="2286000"/>
          </a:xfrm>
        </p:grpSpPr>
        <p:grpSp>
          <p:nvGrpSpPr>
            <p:cNvPr id="64" name=""/>
            <p:cNvGrpSpPr/>
            <p:nvPr/>
          </p:nvGrpSpPr>
          <p:grpSpPr>
            <a:xfrm>
              <a:off x="5410080" y="1066680"/>
              <a:ext cx="1282680" cy="2286000"/>
              <a:chOff x="5410080" y="1066680"/>
              <a:chExt cx="1282680" cy="2286000"/>
            </a:xfrm>
          </p:grpSpPr>
          <p:grpSp>
            <p:nvGrpSpPr>
              <p:cNvPr id="65" name=""/>
              <p:cNvGrpSpPr/>
              <p:nvPr/>
            </p:nvGrpSpPr>
            <p:grpSpPr>
              <a:xfrm>
                <a:off x="5410080" y="1066680"/>
                <a:ext cx="1280880" cy="2286000"/>
                <a:chOff x="5410080" y="1066680"/>
                <a:chExt cx="1280880" cy="2286000"/>
              </a:xfrm>
            </p:grpSpPr>
            <p:sp>
              <p:nvSpPr>
                <p:cNvPr id="66" name=""/>
                <p:cNvSpPr/>
                <p:nvPr/>
              </p:nvSpPr>
              <p:spPr>
                <a:xfrm>
                  <a:off x="5410080" y="1066680"/>
                  <a:ext cx="1280880" cy="2286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5433480" y="1141200"/>
                  <a:ext cx="60948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LOCALE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6055920" y="1141200"/>
                  <a:ext cx="60912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LOCALE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6005160" y="1141200"/>
                  <a:ext cx="9180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" name=""/>
              <p:cNvSpPr/>
              <p:nvPr/>
            </p:nvSpPr>
            <p:spPr>
              <a:xfrm>
                <a:off x="5486040" y="1252440"/>
                <a:ext cx="1143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CATACOMBS ENTRANC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460840" y="2498400"/>
                <a:ext cx="1231920" cy="48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If you choose, you may enter the Catacombs on your next turn. Remove your playing piece from the board.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752800" y="2346120"/>
                <a:ext cx="5907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73" name="untitled" descr=""/>
            <p:cNvPicPr/>
            <p:nvPr/>
          </p:nvPicPr>
          <p:blipFill>
            <a:blip r:embed="rId3"/>
            <a:stretch/>
          </p:blipFill>
          <p:spPr>
            <a:xfrm>
              <a:off x="5605200" y="1530360"/>
              <a:ext cx="903600" cy="9144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74" name=""/>
          <p:cNvGrpSpPr/>
          <p:nvPr/>
        </p:nvGrpSpPr>
        <p:grpSpPr>
          <a:xfrm>
            <a:off x="3962520" y="1066680"/>
            <a:ext cx="1282680" cy="2286000"/>
            <a:chOff x="3962520" y="1066680"/>
            <a:chExt cx="1282680" cy="2286000"/>
          </a:xfrm>
        </p:grpSpPr>
        <p:grpSp>
          <p:nvGrpSpPr>
            <p:cNvPr id="75" name=""/>
            <p:cNvGrpSpPr/>
            <p:nvPr/>
          </p:nvGrpSpPr>
          <p:grpSpPr>
            <a:xfrm>
              <a:off x="3962520" y="1066680"/>
              <a:ext cx="1282680" cy="2286000"/>
              <a:chOff x="3962520" y="1066680"/>
              <a:chExt cx="1282680" cy="2286000"/>
            </a:xfrm>
          </p:grpSpPr>
          <p:grpSp>
            <p:nvGrpSpPr>
              <p:cNvPr id="76" name=""/>
              <p:cNvGrpSpPr/>
              <p:nvPr/>
            </p:nvGrpSpPr>
            <p:grpSpPr>
              <a:xfrm>
                <a:off x="3962520" y="1066680"/>
                <a:ext cx="1280880" cy="2286000"/>
                <a:chOff x="3962520" y="1066680"/>
                <a:chExt cx="1280880" cy="228600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3962520" y="1066680"/>
                  <a:ext cx="1280880" cy="2286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3985920" y="1141200"/>
                  <a:ext cx="60948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LOCALE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4608360" y="1141200"/>
                  <a:ext cx="60912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LOCALE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4557600" y="1141200"/>
                  <a:ext cx="9180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1" name=""/>
              <p:cNvSpPr/>
              <p:nvPr/>
            </p:nvSpPr>
            <p:spPr>
              <a:xfrm>
                <a:off x="4038480" y="1252440"/>
                <a:ext cx="1143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CATACOMBS ENTRANC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013280" y="2498400"/>
                <a:ext cx="1231920" cy="48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If you choose, you may enter the Catacombs on your next turn. Remove your playing piece from the board.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305240" y="2346120"/>
                <a:ext cx="5907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84" name="untitled" descr=""/>
            <p:cNvPicPr/>
            <p:nvPr/>
          </p:nvPicPr>
          <p:blipFill>
            <a:blip r:embed="rId4"/>
            <a:stretch/>
          </p:blipFill>
          <p:spPr>
            <a:xfrm>
              <a:off x="4157640" y="1530360"/>
              <a:ext cx="903600" cy="9144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85" name=""/>
          <p:cNvGrpSpPr/>
          <p:nvPr/>
        </p:nvGrpSpPr>
        <p:grpSpPr>
          <a:xfrm>
            <a:off x="2514600" y="3505320"/>
            <a:ext cx="1282680" cy="2286000"/>
            <a:chOff x="2514600" y="3505320"/>
            <a:chExt cx="1282680" cy="2286000"/>
          </a:xfrm>
        </p:grpSpPr>
        <p:grpSp>
          <p:nvGrpSpPr>
            <p:cNvPr id="86" name=""/>
            <p:cNvGrpSpPr/>
            <p:nvPr/>
          </p:nvGrpSpPr>
          <p:grpSpPr>
            <a:xfrm>
              <a:off x="2514600" y="3505320"/>
              <a:ext cx="1282680" cy="2286000"/>
              <a:chOff x="2514600" y="3505320"/>
              <a:chExt cx="1282680" cy="2286000"/>
            </a:xfrm>
          </p:grpSpPr>
          <p:grpSp>
            <p:nvGrpSpPr>
              <p:cNvPr id="87" name=""/>
              <p:cNvGrpSpPr/>
              <p:nvPr/>
            </p:nvGrpSpPr>
            <p:grpSpPr>
              <a:xfrm>
                <a:off x="2514600" y="3505320"/>
                <a:ext cx="1280880" cy="2286000"/>
                <a:chOff x="2514600" y="3505320"/>
                <a:chExt cx="1280880" cy="228600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2514600" y="3505320"/>
                  <a:ext cx="1280880" cy="2286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2538000" y="3579840"/>
                  <a:ext cx="60948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LOCALE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3160440" y="3579840"/>
                  <a:ext cx="60912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LOCALE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3109680" y="3579840"/>
                  <a:ext cx="9180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" name=""/>
              <p:cNvSpPr/>
              <p:nvPr/>
            </p:nvSpPr>
            <p:spPr>
              <a:xfrm>
                <a:off x="2590560" y="3691080"/>
                <a:ext cx="1143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CATACOMBS ENTRANC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565360" y="4937040"/>
                <a:ext cx="1231920" cy="48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If you choose, you may enter the Catacombs on your next turn. Remove your playing piece from the board.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857320" y="4784760"/>
                <a:ext cx="5907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95" name="untitled" descr=""/>
            <p:cNvPicPr/>
            <p:nvPr/>
          </p:nvPicPr>
          <p:blipFill>
            <a:blip r:embed="rId5"/>
            <a:stretch/>
          </p:blipFill>
          <p:spPr>
            <a:xfrm>
              <a:off x="2709720" y="3969000"/>
              <a:ext cx="903600" cy="9144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96" name=""/>
          <p:cNvGrpSpPr/>
          <p:nvPr/>
        </p:nvGrpSpPr>
        <p:grpSpPr>
          <a:xfrm>
            <a:off x="990720" y="3505320"/>
            <a:ext cx="1282680" cy="2286000"/>
            <a:chOff x="990720" y="3505320"/>
            <a:chExt cx="1282680" cy="2286000"/>
          </a:xfrm>
        </p:grpSpPr>
        <p:grpSp>
          <p:nvGrpSpPr>
            <p:cNvPr id="97" name=""/>
            <p:cNvGrpSpPr/>
            <p:nvPr/>
          </p:nvGrpSpPr>
          <p:grpSpPr>
            <a:xfrm>
              <a:off x="990720" y="3505320"/>
              <a:ext cx="1282680" cy="2286000"/>
              <a:chOff x="990720" y="3505320"/>
              <a:chExt cx="1282680" cy="22860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990720" y="3505320"/>
                <a:ext cx="1280880" cy="2286000"/>
                <a:chOff x="990720" y="3505320"/>
                <a:chExt cx="1280880" cy="22860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990720" y="3505320"/>
                  <a:ext cx="1280880" cy="2286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014120" y="3579840"/>
                  <a:ext cx="60948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LOCALE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1636560" y="3579840"/>
                  <a:ext cx="60912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LOCALE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1585800" y="3579840"/>
                  <a:ext cx="9180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" name=""/>
              <p:cNvSpPr/>
              <p:nvPr/>
            </p:nvSpPr>
            <p:spPr>
              <a:xfrm>
                <a:off x="1066680" y="3691080"/>
                <a:ext cx="1143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CATACOMBS ENTRANC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041480" y="4937040"/>
                <a:ext cx="1231920" cy="48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If you choose, you may enter the Catacombs on your next turn. Remove your playing piece from the board.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333440" y="4784760"/>
                <a:ext cx="5907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06" name="untitled" descr=""/>
            <p:cNvPicPr/>
            <p:nvPr/>
          </p:nvPicPr>
          <p:blipFill>
            <a:blip r:embed="rId6"/>
            <a:stretch/>
          </p:blipFill>
          <p:spPr>
            <a:xfrm>
              <a:off x="1185840" y="3969000"/>
              <a:ext cx="903600" cy="9144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107" name=""/>
          <p:cNvGrpSpPr/>
          <p:nvPr/>
        </p:nvGrpSpPr>
        <p:grpSpPr>
          <a:xfrm>
            <a:off x="5410080" y="3505320"/>
            <a:ext cx="1282680" cy="2286000"/>
            <a:chOff x="5410080" y="3505320"/>
            <a:chExt cx="1282680" cy="2286000"/>
          </a:xfrm>
        </p:grpSpPr>
        <p:grpSp>
          <p:nvGrpSpPr>
            <p:cNvPr id="108" name=""/>
            <p:cNvGrpSpPr/>
            <p:nvPr/>
          </p:nvGrpSpPr>
          <p:grpSpPr>
            <a:xfrm>
              <a:off x="5410080" y="3505320"/>
              <a:ext cx="1282680" cy="2286000"/>
              <a:chOff x="5410080" y="3505320"/>
              <a:chExt cx="1282680" cy="2286000"/>
            </a:xfrm>
          </p:grpSpPr>
          <p:grpSp>
            <p:nvGrpSpPr>
              <p:cNvPr id="109" name=""/>
              <p:cNvGrpSpPr/>
              <p:nvPr/>
            </p:nvGrpSpPr>
            <p:grpSpPr>
              <a:xfrm>
                <a:off x="5410080" y="3505320"/>
                <a:ext cx="1280880" cy="2286000"/>
                <a:chOff x="5410080" y="3505320"/>
                <a:chExt cx="1280880" cy="228600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5410080" y="3505320"/>
                  <a:ext cx="1280880" cy="2286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5433480" y="3579840"/>
                  <a:ext cx="60948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LOCALE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6055920" y="3579840"/>
                  <a:ext cx="60912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LOCALE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6005160" y="3579840"/>
                  <a:ext cx="9180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4" name=""/>
              <p:cNvSpPr/>
              <p:nvPr/>
            </p:nvSpPr>
            <p:spPr>
              <a:xfrm>
                <a:off x="5486040" y="3691080"/>
                <a:ext cx="1143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CATACOMBS ENTRANC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460840" y="4937040"/>
                <a:ext cx="1231920" cy="48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If you choose, you may enter the Catacombs on your next turn. Remove your playing piece from the board.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752800" y="4784760"/>
                <a:ext cx="5907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17" name="untitled" descr=""/>
            <p:cNvPicPr/>
            <p:nvPr/>
          </p:nvPicPr>
          <p:blipFill>
            <a:blip r:embed="rId7"/>
            <a:stretch/>
          </p:blipFill>
          <p:spPr>
            <a:xfrm>
              <a:off x="5605200" y="3969000"/>
              <a:ext cx="903600" cy="9144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118" name=""/>
          <p:cNvGrpSpPr/>
          <p:nvPr/>
        </p:nvGrpSpPr>
        <p:grpSpPr>
          <a:xfrm>
            <a:off x="3962520" y="3505320"/>
            <a:ext cx="1282680" cy="2286000"/>
            <a:chOff x="3962520" y="3505320"/>
            <a:chExt cx="1282680" cy="2286000"/>
          </a:xfrm>
        </p:grpSpPr>
        <p:grpSp>
          <p:nvGrpSpPr>
            <p:cNvPr id="119" name=""/>
            <p:cNvGrpSpPr/>
            <p:nvPr/>
          </p:nvGrpSpPr>
          <p:grpSpPr>
            <a:xfrm>
              <a:off x="3962520" y="3505320"/>
              <a:ext cx="1282680" cy="2286000"/>
              <a:chOff x="3962520" y="3505320"/>
              <a:chExt cx="1282680" cy="2286000"/>
            </a:xfrm>
          </p:grpSpPr>
          <p:grpSp>
            <p:nvGrpSpPr>
              <p:cNvPr id="120" name=""/>
              <p:cNvGrpSpPr/>
              <p:nvPr/>
            </p:nvGrpSpPr>
            <p:grpSpPr>
              <a:xfrm>
                <a:off x="3962520" y="3505320"/>
                <a:ext cx="1280880" cy="2286000"/>
                <a:chOff x="3962520" y="3505320"/>
                <a:chExt cx="1280880" cy="228600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3962520" y="3505320"/>
                  <a:ext cx="1280880" cy="2286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3985920" y="3579840"/>
                  <a:ext cx="60948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LOCALE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4608360" y="3579840"/>
                  <a:ext cx="60912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LOCALE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4557600" y="3579840"/>
                  <a:ext cx="9180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" name=""/>
              <p:cNvSpPr/>
              <p:nvPr/>
            </p:nvSpPr>
            <p:spPr>
              <a:xfrm>
                <a:off x="4038480" y="3691080"/>
                <a:ext cx="1143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CATACOMBS ENTRANC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013280" y="4937040"/>
                <a:ext cx="1231920" cy="48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If you choose, you may enter the Catacombs on your next turn. Remove your playing piece from the board.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305240" y="4784760"/>
                <a:ext cx="5907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28" name="untitled" descr=""/>
            <p:cNvPicPr/>
            <p:nvPr/>
          </p:nvPicPr>
          <p:blipFill>
            <a:blip r:embed="rId8"/>
            <a:stretch/>
          </p:blipFill>
          <p:spPr>
            <a:xfrm>
              <a:off x="4157640" y="3969000"/>
              <a:ext cx="903600" cy="9144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129" name=""/>
          <p:cNvGrpSpPr/>
          <p:nvPr/>
        </p:nvGrpSpPr>
        <p:grpSpPr>
          <a:xfrm>
            <a:off x="6934320" y="3505320"/>
            <a:ext cx="1282680" cy="2286000"/>
            <a:chOff x="6934320" y="3505320"/>
            <a:chExt cx="1282680" cy="2286000"/>
          </a:xfrm>
        </p:grpSpPr>
        <p:grpSp>
          <p:nvGrpSpPr>
            <p:cNvPr id="130" name=""/>
            <p:cNvGrpSpPr/>
            <p:nvPr/>
          </p:nvGrpSpPr>
          <p:grpSpPr>
            <a:xfrm>
              <a:off x="6934320" y="3505320"/>
              <a:ext cx="1282680" cy="2286000"/>
              <a:chOff x="6934320" y="3505320"/>
              <a:chExt cx="1282680" cy="2286000"/>
            </a:xfrm>
          </p:grpSpPr>
          <p:grpSp>
            <p:nvGrpSpPr>
              <p:cNvPr id="131" name=""/>
              <p:cNvGrpSpPr/>
              <p:nvPr/>
            </p:nvGrpSpPr>
            <p:grpSpPr>
              <a:xfrm>
                <a:off x="6934320" y="3505320"/>
                <a:ext cx="1280880" cy="2286000"/>
                <a:chOff x="6934320" y="3505320"/>
                <a:chExt cx="1280880" cy="228600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6934320" y="3505320"/>
                  <a:ext cx="1280880" cy="2286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6957720" y="3579840"/>
                  <a:ext cx="60948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LOCALE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7580160" y="3579840"/>
                  <a:ext cx="60912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LOCALE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7529400" y="3579840"/>
                  <a:ext cx="9180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6" name=""/>
              <p:cNvSpPr/>
              <p:nvPr/>
            </p:nvSpPr>
            <p:spPr>
              <a:xfrm>
                <a:off x="7010280" y="3691080"/>
                <a:ext cx="1143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CATACOMBS ENTRANC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985080" y="4937040"/>
                <a:ext cx="1231920" cy="48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If you choose, you may enter the Catacombs on your next turn. Remove your playing piece from the board.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277040" y="4784760"/>
                <a:ext cx="5907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39" name="untitled" descr=""/>
            <p:cNvPicPr/>
            <p:nvPr/>
          </p:nvPicPr>
          <p:blipFill>
            <a:blip r:embed="rId9"/>
            <a:stretch/>
          </p:blipFill>
          <p:spPr>
            <a:xfrm>
              <a:off x="7129440" y="3969000"/>
              <a:ext cx="903600" cy="9144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140" name=""/>
          <p:cNvGrpSpPr/>
          <p:nvPr/>
        </p:nvGrpSpPr>
        <p:grpSpPr>
          <a:xfrm>
            <a:off x="6934320" y="1066680"/>
            <a:ext cx="1282680" cy="2286000"/>
            <a:chOff x="6934320" y="1066680"/>
            <a:chExt cx="1282680" cy="2286000"/>
          </a:xfrm>
        </p:grpSpPr>
        <p:grpSp>
          <p:nvGrpSpPr>
            <p:cNvPr id="141" name=""/>
            <p:cNvGrpSpPr/>
            <p:nvPr/>
          </p:nvGrpSpPr>
          <p:grpSpPr>
            <a:xfrm>
              <a:off x="6934320" y="1066680"/>
              <a:ext cx="1282680" cy="2286000"/>
              <a:chOff x="6934320" y="1066680"/>
              <a:chExt cx="1282680" cy="2286000"/>
            </a:xfrm>
          </p:grpSpPr>
          <p:grpSp>
            <p:nvGrpSpPr>
              <p:cNvPr id="142" name=""/>
              <p:cNvGrpSpPr/>
              <p:nvPr/>
            </p:nvGrpSpPr>
            <p:grpSpPr>
              <a:xfrm>
                <a:off x="6934320" y="1066680"/>
                <a:ext cx="1280880" cy="2286000"/>
                <a:chOff x="6934320" y="1066680"/>
                <a:chExt cx="1280880" cy="228600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6934320" y="1066680"/>
                  <a:ext cx="1280880" cy="2286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6957720" y="1141200"/>
                  <a:ext cx="60948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LOCALE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7580160" y="1141200"/>
                  <a:ext cx="60912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LOCALE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7529400" y="1141200"/>
                  <a:ext cx="9180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7" name=""/>
              <p:cNvSpPr/>
              <p:nvPr/>
            </p:nvSpPr>
            <p:spPr>
              <a:xfrm>
                <a:off x="7010280" y="1252440"/>
                <a:ext cx="1143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CATACOMBS ENTRANC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85080" y="2498400"/>
                <a:ext cx="1231920" cy="48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If you choose, you may enter the Catacombs on your next turn. Remove your playing piece from the board.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77040" y="2346120"/>
                <a:ext cx="5907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50" name="untitled" descr=""/>
            <p:cNvPicPr/>
            <p:nvPr/>
          </p:nvPicPr>
          <p:blipFill>
            <a:blip r:embed="rId10"/>
            <a:stretch/>
          </p:blipFill>
          <p:spPr>
            <a:xfrm>
              <a:off x="7129440" y="1530360"/>
              <a:ext cx="903600" cy="9144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0T21:14:26Z</dcterms:created>
  <dc:creator>Paul &amp; Rosanne Morrow</dc:creator>
  <dc:description/>
  <dc:language>en-US</dc:language>
  <cp:lastModifiedBy>Paul &amp; Rosanne Morrow</cp:lastModifiedBy>
  <dcterms:modified xsi:type="dcterms:W3CDTF">2003-06-29T14:20:13Z</dcterms:modified>
  <cp:revision>13</cp:revision>
  <dc:subject/>
  <dc:title>PowerPoint Presentation</dc:title>
</cp:coreProperties>
</file>