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101-5775-4EE3-BA3C-ABFCE5F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618-E353-4C0B-B98D-E662EEE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3E7-6A13-4B87-93F2-307BBF68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D8D-09A9-4990-B381-AD0E8C06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186-6308-4F02-93A2-5FFB75B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93F-7558-41EF-906F-99EFB18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560-9B41-47F6-92D6-0F6762D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29D-5BDB-4B2D-96C3-E1E195A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9DB-CA7B-4829-A2E4-ACBC3C3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A4C-9210-4B4A-B7F2-2ADE553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858-6D88-4CA0-A607-0E06C01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B23-4554-4855-B9D8-E28B2684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4FBE-CFF4-4DC8-97EC-F67C6608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OLD 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148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hermit actually chooses to live here.  He will grant you a boon.  You may choose a Strength, Craft, Spell, Scroll, Life, or Ability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9577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01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5294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70102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ACEFUL MUSICI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8508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erhaps your only chance to relax in the Catacombs.  The Peaceful Musician will offer you a Spell, Scroll or Abilit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770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294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HIP’S CAPT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850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e seeks a new ship to sail.  He will pay you 5 Gold if you take him to the Wharf in the City.  Take him as a Followe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69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70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334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559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548604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ELV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60840" y="493704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Night Elves live only to serve.  You may take either a Craft or a Strength.  Then place them on the Main Board on any unoccupied space where they will remain until the end of the gam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528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ARTN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32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is old wizard has lost his mind.  You may choose a combination of 2 Spells, Scrolls or Abiliti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87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88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MON PRI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536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efore you can run, the priest takes 1 Craft &amp; 1 Strength from you.  You may now take another turn and run screaming in the darkn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6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97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EL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14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Night Elf lives here in the depths.  You may purchase a Spell for 1 Gold or 1 Scroll for 2 Gol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105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M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328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you are Evil, the Night Mage will grant you a gift.  You may choose a Scroll, Spell or Ability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114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I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6536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odd little fellow will allow you to draw an Artifact Card and attach it to any Object, if you possess one.  This Object is now a Magic Objec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123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124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TRANG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48604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HA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6084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have encountered the embodiment of Chaos.  If you are Evil you may choose to become the Champion of Chaos or Warrior of Chao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nightimp" descr=""/>
          <p:cNvPicPr/>
          <p:nvPr/>
        </p:nvPicPr>
        <p:blipFill>
          <a:blip r:embed="rId1"/>
          <a:stretch/>
        </p:blipFill>
        <p:spPr>
          <a:xfrm>
            <a:off x="2629080" y="1409760"/>
            <a:ext cx="106668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nightmage" descr=""/>
          <p:cNvPicPr/>
          <p:nvPr/>
        </p:nvPicPr>
        <p:blipFill>
          <a:blip r:embed="rId2"/>
          <a:stretch/>
        </p:blipFill>
        <p:spPr>
          <a:xfrm>
            <a:off x="4172040" y="1447920"/>
            <a:ext cx="873000" cy="99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chaos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106668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musician" descr=""/>
          <p:cNvPicPr/>
          <p:nvPr/>
        </p:nvPicPr>
        <p:blipFill>
          <a:blip r:embed="rId4"/>
          <a:stretch/>
        </p:blipFill>
        <p:spPr>
          <a:xfrm>
            <a:off x="7089840" y="1390680"/>
            <a:ext cx="90468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captain" descr=""/>
          <p:cNvPicPr/>
          <p:nvPr/>
        </p:nvPicPr>
        <p:blipFill>
          <a:blip r:embed="rId5"/>
          <a:stretch/>
        </p:blipFill>
        <p:spPr>
          <a:xfrm>
            <a:off x="7186680" y="3838680"/>
            <a:ext cx="74772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smallbabes" descr=""/>
          <p:cNvPicPr/>
          <p:nvPr/>
        </p:nvPicPr>
        <p:blipFill>
          <a:blip r:embed="rId6"/>
          <a:stretch/>
        </p:blipFill>
        <p:spPr>
          <a:xfrm>
            <a:off x="5657760" y="3838680"/>
            <a:ext cx="77652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vrajitor2copy" descr=""/>
          <p:cNvPicPr/>
          <p:nvPr/>
        </p:nvPicPr>
        <p:blipFill>
          <a:blip r:embed="rId7"/>
          <a:stretch/>
        </p:blipFill>
        <p:spPr>
          <a:xfrm>
            <a:off x="4210200" y="3828960"/>
            <a:ext cx="7840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riest" descr=""/>
          <p:cNvPicPr/>
          <p:nvPr/>
        </p:nvPicPr>
        <p:blipFill>
          <a:blip r:embed="rId8"/>
          <a:stretch/>
        </p:blipFill>
        <p:spPr>
          <a:xfrm>
            <a:off x="2610000" y="3828960"/>
            <a:ext cx="106524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untitled1" descr=""/>
          <p:cNvPicPr/>
          <p:nvPr/>
        </p:nvPicPr>
        <p:blipFill>
          <a:blip r:embed="rId9"/>
          <a:stretch/>
        </p:blipFill>
        <p:spPr>
          <a:xfrm>
            <a:off x="1212840" y="3828960"/>
            <a:ext cx="84132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hermit" descr=""/>
          <p:cNvPicPr/>
          <p:nvPr/>
        </p:nvPicPr>
        <p:blipFill>
          <a:blip r:embed="rId10"/>
          <a:stretch/>
        </p:blipFill>
        <p:spPr>
          <a:xfrm>
            <a:off x="1171440" y="1400040"/>
            <a:ext cx="90972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32:51Z</dcterms:modified>
  <cp:revision>17</cp:revision>
  <dc:subject/>
  <dc:title>PowerPoint Presentation</dc:title>
</cp:coreProperties>
</file>