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D42-A7B2-47C0-9D24-5317CBAB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D24-D632-46B1-8F5C-A8AEFB0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D10-A5D5-432B-BE56-E88D08AC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D18-D041-4E42-BE74-E0194841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97B-B47E-4860-B1F2-19EAF73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5A1-637B-47FB-A876-24EEA73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4CF-AED8-4EC6-99F4-2456D950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2AD-36A8-43C5-952C-1E5A800A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EC2-DC91-4DF8-A9D3-C5EBABB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89C-EA8B-4964-9DD6-E2EDAC6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B25-C506-4F4B-8090-7D9154A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C12-E9B7-44BF-9D63-CB47C45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4DB4-99C7-403C-A49C-1B101F0AC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2247840" cy="1895760"/>
            <a:chOff x="990720" y="1066680"/>
            <a:chExt cx="2247840" cy="1895760"/>
          </a:xfrm>
        </p:grpSpPr>
        <p:graphicFrame>
          <p:nvGraphicFramePr>
            <p:cNvPr id="42" name=""/>
            <p:cNvGraphicFramePr/>
            <p:nvPr/>
          </p:nvGraphicFramePr>
          <p:xfrm>
            <a:off x="990720" y="1066680"/>
            <a:ext cx="2247840" cy="18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066680"/>
                      <a:ext cx="2247840" cy="18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1981080" y="114300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LIGNMENT: EV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AL ABILITIE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) You may not have Follower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) Draw 3 other Abiliti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rafar" descr=""/>
          <p:cNvPicPr/>
          <p:nvPr/>
        </p:nvPicPr>
        <p:blipFill>
          <a:blip r:embed="rId3"/>
          <a:stretch/>
        </p:blipFill>
        <p:spPr>
          <a:xfrm>
            <a:off x="1076400" y="1162080"/>
            <a:ext cx="904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18:55Z</dcterms:modified>
  <cp:revision>15</cp:revision>
  <dc:subject/>
  <dc:title>PowerPoint Presentation</dc:title>
</cp:coreProperties>
</file>