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A5D-418F-475B-A11C-117AC7AD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3AF-FFE9-493C-B1F4-ABD79A6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E30-8656-47A9-84FA-FBDEA54B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B4F-3045-43D5-9EE1-3F318E44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10C-CA1D-40B5-9F41-B1049736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BEF-CA1A-4A9F-B4C3-EBFD28C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EF2-879E-43FF-8C9C-9D20F8E8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A5C-8A07-4CC2-BDB5-8DCBF09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5DB-7A76-4470-A5C5-67555C8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7A6-56B2-4F31-8052-598197A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3CA-5BC3-4275-95A1-B1B06C0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EAE-1E8D-4930-BFE5-6CFBF93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0BF-6575-4040-A51F-ACA637F7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48604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60840" y="24984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O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4148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ile you possess a torch, you may see approaching enemies in the Catacombs, Sewers &amp; Dungeon.  Subtract 1 from their die roll.  If you possess more than 1 torch the effect is cumulativ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torch" descr=""/>
          <p:cNvPicPr/>
          <p:nvPr/>
        </p:nvPicPr>
        <p:blipFill>
          <a:blip r:embed="rId1"/>
          <a:stretch/>
        </p:blipFill>
        <p:spPr>
          <a:xfrm>
            <a:off x="1187280" y="1403280"/>
            <a:ext cx="8794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O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536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ile you possess a torch, you may see approaching enemies in the Catacombs, Sewers &amp; Dungeon.  Subtract 1 from their die roll.  If you possess more than 1 torch the effect is cumulativ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torch" descr=""/>
          <p:cNvPicPr/>
          <p:nvPr/>
        </p:nvPicPr>
        <p:blipFill>
          <a:blip r:embed="rId2"/>
          <a:stretch/>
        </p:blipFill>
        <p:spPr>
          <a:xfrm>
            <a:off x="2711520" y="1403280"/>
            <a:ext cx="8794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0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71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72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O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1328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ile you possess a torch, you may see approaching enemies in the Catacombs, Sewers &amp; Dungeon.  Subtract 1 from their die roll.  If you possess more than 1 torch the effect is cumulativ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torch" descr=""/>
          <p:cNvPicPr/>
          <p:nvPr/>
        </p:nvPicPr>
        <p:blipFill>
          <a:blip r:embed="rId3"/>
          <a:stretch/>
        </p:blipFill>
        <p:spPr>
          <a:xfrm>
            <a:off x="4159080" y="1403280"/>
            <a:ext cx="8794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bagofgold" descr=""/>
          <p:cNvPicPr/>
          <p:nvPr/>
        </p:nvPicPr>
        <p:blipFill>
          <a:blip r:embed="rId4"/>
          <a:stretch/>
        </p:blipFill>
        <p:spPr>
          <a:xfrm>
            <a:off x="5675400" y="1390680"/>
            <a:ext cx="784080" cy="9907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935760" y="1066680"/>
            <a:ext cx="1282680" cy="2286000"/>
            <a:chOff x="6935760" y="1066680"/>
            <a:chExt cx="1282680" cy="2286000"/>
          </a:xfrm>
        </p:grpSpPr>
        <p:grpSp>
          <p:nvGrpSpPr>
            <p:cNvPr id="82" name=""/>
            <p:cNvGrpSpPr/>
            <p:nvPr/>
          </p:nvGrpSpPr>
          <p:grpSpPr>
            <a:xfrm>
              <a:off x="6935760" y="1066680"/>
              <a:ext cx="1280880" cy="2286000"/>
              <a:chOff x="6935760" y="1066680"/>
              <a:chExt cx="1280880" cy="2286000"/>
            </a:xfrm>
          </p:grpSpPr>
          <p:sp>
            <p:nvSpPr>
              <p:cNvPr id="83" name=""/>
              <p:cNvSpPr/>
              <p:nvPr/>
            </p:nvSpPr>
            <p:spPr>
              <a:xfrm>
                <a:off x="693576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5916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8160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3084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1172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6520" y="24984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7848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bagofgold" descr=""/>
          <p:cNvPicPr/>
          <p:nvPr/>
        </p:nvPicPr>
        <p:blipFill>
          <a:blip r:embed="rId5"/>
          <a:stretch/>
        </p:blipFill>
        <p:spPr>
          <a:xfrm>
            <a:off x="7201080" y="1390680"/>
            <a:ext cx="784080" cy="990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92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93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6536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bagofgold" descr=""/>
          <p:cNvPicPr/>
          <p:nvPr/>
        </p:nvPicPr>
        <p:blipFill>
          <a:blip r:embed="rId6"/>
          <a:stretch/>
        </p:blipFill>
        <p:spPr>
          <a:xfrm>
            <a:off x="2743200" y="3809880"/>
            <a:ext cx="784080" cy="990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02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1328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bagofgold" descr=""/>
          <p:cNvPicPr/>
          <p:nvPr/>
        </p:nvPicPr>
        <p:blipFill>
          <a:blip r:embed="rId7"/>
          <a:stretch/>
        </p:blipFill>
        <p:spPr>
          <a:xfrm>
            <a:off x="4191120" y="3809880"/>
            <a:ext cx="784080" cy="9907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12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113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34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559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48604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084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528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bagofgold" descr=""/>
          <p:cNvPicPr/>
          <p:nvPr/>
        </p:nvPicPr>
        <p:blipFill>
          <a:blip r:embed="rId8"/>
          <a:stretch/>
        </p:blipFill>
        <p:spPr>
          <a:xfrm>
            <a:off x="5638680" y="3809880"/>
            <a:ext cx="784440" cy="99072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6935760" y="3486240"/>
            <a:ext cx="1282680" cy="2286000"/>
            <a:chOff x="6935760" y="3486240"/>
            <a:chExt cx="1282680" cy="2286000"/>
          </a:xfrm>
        </p:grpSpPr>
        <p:grpSp>
          <p:nvGrpSpPr>
            <p:cNvPr id="122" name=""/>
            <p:cNvGrpSpPr/>
            <p:nvPr/>
          </p:nvGrpSpPr>
          <p:grpSpPr>
            <a:xfrm>
              <a:off x="6935760" y="3486240"/>
              <a:ext cx="1280880" cy="2286000"/>
              <a:chOff x="6935760" y="3486240"/>
              <a:chExt cx="1280880" cy="228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6935760" y="348624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59160" y="356076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81600" y="356076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30840" y="356076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011720" y="367200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G OF G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86520" y="491796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discover a Bag of Gold.  Immediately exchange for a Gold count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8480" y="476568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bagofgold" descr=""/>
          <p:cNvPicPr/>
          <p:nvPr/>
        </p:nvPicPr>
        <p:blipFill>
          <a:blip r:embed="rId9"/>
          <a:stretch/>
        </p:blipFill>
        <p:spPr>
          <a:xfrm>
            <a:off x="7201080" y="3809880"/>
            <a:ext cx="784080" cy="9907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132" name=""/>
            <p:cNvGrpSpPr/>
            <p:nvPr/>
          </p:nvGrpSpPr>
          <p:grpSpPr>
            <a:xfrm>
              <a:off x="990720" y="3505320"/>
              <a:ext cx="1282680" cy="2286000"/>
              <a:chOff x="990720" y="3505320"/>
              <a:chExt cx="1282680" cy="2286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990720" y="3505320"/>
                <a:ext cx="1280880" cy="2286000"/>
                <a:chOff x="990720" y="3505320"/>
                <a:chExt cx="1280880" cy="2286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9907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141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365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858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10666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BAG OF GOL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41480" y="493704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 Bag of Gold.  Immediately exchange for a Gold counter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34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bagofgold" descr=""/>
            <p:cNvPicPr/>
            <p:nvPr/>
          </p:nvPicPr>
          <p:blipFill>
            <a:blip r:embed="rId10"/>
            <a:stretch/>
          </p:blipFill>
          <p:spPr>
            <a:xfrm>
              <a:off x="1255680" y="3828960"/>
              <a:ext cx="78408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9:14Z</dcterms:modified>
  <cp:revision>16</cp:revision>
  <dc:subject/>
  <dc:title>PowerPoint Presentation</dc:title>
</cp:coreProperties>
</file>