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85F-5F4C-4870-B819-CD19F0D1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6ED-48BD-486D-9006-7483EB01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798-145B-4F7C-A3C7-0C521C54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EDB-ABF1-4151-A280-D07B0E14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263-5696-468D-A85D-CE7E195D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C9A-7E87-4E4A-842F-64077D1F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70D-2EF2-49FD-BCF0-CDF53D8A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1A3-C9EC-407A-B735-7F9DD1A1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39D-4A64-40FD-B63D-66E06A8E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7DC-B348-4C08-BBE5-72675A51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BB1-B055-4338-BD2B-19556B8A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DD5-4606-49DC-8FCA-DD604CF8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9762-6308-4910-A145-D2FE6DB39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5410080" y="1066680"/>
              <a:ext cx="1280880" cy="2286000"/>
              <a:chOff x="5410080" y="106668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541008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33480" y="114120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055920" y="114120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00516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48604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OLF HEAD BR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60840" y="249840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hen you drink this odd brew, draw a Mystic Brew Car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5280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34320" y="1066680"/>
            <a:ext cx="1282680" cy="2286000"/>
            <a:chOff x="6934320" y="1066680"/>
            <a:chExt cx="1282680" cy="2286000"/>
          </a:xfrm>
        </p:grpSpPr>
        <p:grpSp>
          <p:nvGrpSpPr>
            <p:cNvPr id="51" name=""/>
            <p:cNvGrpSpPr/>
            <p:nvPr/>
          </p:nvGrpSpPr>
          <p:grpSpPr>
            <a:xfrm>
              <a:off x="6934320" y="1066680"/>
              <a:ext cx="1280880" cy="2286000"/>
              <a:chOff x="6934320" y="1066680"/>
              <a:chExt cx="1280880" cy="2286000"/>
            </a:xfrm>
          </p:grpSpPr>
          <p:sp>
            <p:nvSpPr>
              <p:cNvPr id="52" name=""/>
              <p:cNvSpPr/>
              <p:nvPr/>
            </p:nvSpPr>
            <p:spPr>
              <a:xfrm>
                <a:off x="69343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957720" y="114120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0160" y="114120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5294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70102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LFWOOD ARM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85080" y="24984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f you don the Elfwood Armor you are protected form all edged weapons.  If you lose a Combat against an edged weapon the victor may not take a Lif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770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934320" y="3505320"/>
            <a:ext cx="1282680" cy="2286000"/>
            <a:chOff x="6934320" y="3505320"/>
            <a:chExt cx="1282680" cy="2286000"/>
          </a:xfrm>
        </p:grpSpPr>
        <p:grpSp>
          <p:nvGrpSpPr>
            <p:cNvPr id="60" name=""/>
            <p:cNvGrpSpPr/>
            <p:nvPr/>
          </p:nvGrpSpPr>
          <p:grpSpPr>
            <a:xfrm>
              <a:off x="6934320" y="3505320"/>
              <a:ext cx="1280880" cy="2286000"/>
              <a:chOff x="6934320" y="3505320"/>
              <a:chExt cx="1280880" cy="2286000"/>
            </a:xfrm>
          </p:grpSpPr>
          <p:sp>
            <p:nvSpPr>
              <p:cNvPr id="61" name=""/>
              <p:cNvSpPr/>
              <p:nvPr/>
            </p:nvSpPr>
            <p:spPr>
              <a:xfrm>
                <a:off x="69343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57720" y="357984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80160" y="357984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294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70102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D AX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85080" y="493704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e axe will add 1 to your Strength for any Combat in which you use it.  It will add 3 to your Strength in Combat against Dragons &amp; Night Creature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770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410080" y="3505320"/>
            <a:ext cx="1281240" cy="2286000"/>
            <a:chOff x="5410080" y="3505320"/>
            <a:chExt cx="1281240" cy="2286000"/>
          </a:xfrm>
        </p:grpSpPr>
        <p:sp>
          <p:nvSpPr>
            <p:cNvPr id="69" name=""/>
            <p:cNvSpPr/>
            <p:nvPr/>
          </p:nvSpPr>
          <p:spPr>
            <a:xfrm>
              <a:off x="5410080" y="350532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33840" y="3579840"/>
              <a:ext cx="609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MAGIC OBJEC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56280" y="3579840"/>
              <a:ext cx="609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MAGIC OBJEC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05520" y="3579840"/>
              <a:ext cx="9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486400" y="369108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FFHA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60840" y="4175280"/>
            <a:ext cx="55908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unadjusted Strength must be 5 or greater to wield The Staffhammer.  It will add 2 to your Strength for any Combat in which you use i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53160" y="4784760"/>
            <a:ext cx="590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77" name=""/>
            <p:cNvGrpSpPr/>
            <p:nvPr/>
          </p:nvGrpSpPr>
          <p:grpSpPr>
            <a:xfrm>
              <a:off x="3962520" y="3505320"/>
              <a:ext cx="1280880" cy="2286000"/>
              <a:chOff x="3962520" y="3505320"/>
              <a:chExt cx="1280880" cy="2286000"/>
            </a:xfrm>
          </p:grpSpPr>
          <p:sp>
            <p:nvSpPr>
              <p:cNvPr id="78" name=""/>
              <p:cNvSpPr/>
              <p:nvPr/>
            </p:nvSpPr>
            <p:spPr>
              <a:xfrm>
                <a:off x="39625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985920" y="357984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608360" y="357984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5576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40384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W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13280" y="49370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f you Possess the Night Wand you automatically defeat all Spirits, but you may not keep them for more Craf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052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86" name=""/>
            <p:cNvGrpSpPr/>
            <p:nvPr/>
          </p:nvGrpSpPr>
          <p:grpSpPr>
            <a:xfrm>
              <a:off x="3962520" y="1066680"/>
              <a:ext cx="1280880" cy="2286000"/>
              <a:chOff x="3962520" y="1066680"/>
              <a:chExt cx="1280880" cy="2286000"/>
            </a:xfrm>
          </p:grpSpPr>
          <p:sp>
            <p:nvSpPr>
              <p:cNvPr id="87" name=""/>
              <p:cNvSpPr/>
              <p:nvPr/>
            </p:nvSpPr>
            <p:spPr>
              <a:xfrm>
                <a:off x="39625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85920" y="114120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08360" y="114120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5576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0384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SWO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13280" y="24984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an Abilities card and place it with the Sword.  The Sword will add 1 to your Strength whenever you use this Ability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052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95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96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38000" y="357984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60440" y="357984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10968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59056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IMK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65360" y="4937040"/>
              <a:ext cx="12319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 Evil Character may Possess the Simke.  If you wear this shiny amulet you automatically defeat all Enemy-Monsters but you may not keep them for more Strength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5732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104" name=""/>
            <p:cNvGrpSpPr/>
            <p:nvPr/>
          </p:nvGrpSpPr>
          <p:grpSpPr>
            <a:xfrm>
              <a:off x="2514600" y="1066680"/>
              <a:ext cx="1280880" cy="2286000"/>
              <a:chOff x="2514600" y="1066680"/>
              <a:chExt cx="1280880" cy="228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2514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38000" y="114120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160440" y="114120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0968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590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W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65360" y="24984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an Abilities card and place it with the Wand.  The Wand will add 1 to your Craft whenever you use this Ability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57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06668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LOW GL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115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116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14120" y="357984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636560" y="357984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5858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0666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STO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41480" y="49370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raw 2 Artifact Cards and place them with the Stone.  As long as you Possess the Stone you may add 2 to your Craf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34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124" name=""/>
            <p:cNvGrpSpPr/>
            <p:nvPr/>
          </p:nvGrpSpPr>
          <p:grpSpPr>
            <a:xfrm>
              <a:off x="990720" y="1066680"/>
              <a:ext cx="1280880" cy="2286000"/>
              <a:chOff x="990720" y="1066680"/>
              <a:chExt cx="1280880" cy="2286000"/>
            </a:xfrm>
          </p:grpSpPr>
          <p:sp>
            <p:nvSpPr>
              <p:cNvPr id="125" name=""/>
              <p:cNvSpPr/>
              <p:nvPr/>
            </p:nvSpPr>
            <p:spPr>
              <a:xfrm>
                <a:off x="9907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014120" y="114120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36560" y="114120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858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041480" y="1990800"/>
              <a:ext cx="1231920" cy="13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globe appears to be made of glass but it gives off a bright glow.  The globe is weightless and will follow you wherever you go.  It does not count as a Possession!  As long as it follows you, you may see approaching enemies in the Catacombs, Sewers &amp; Dungeon.  Subtract 2 from their die roll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glowglobe" descr=""/>
            <p:cNvPicPr/>
            <p:nvPr/>
          </p:nvPicPr>
          <p:blipFill>
            <a:blip r:embed="rId1"/>
            <a:stretch/>
          </p:blipFill>
          <p:spPr>
            <a:xfrm>
              <a:off x="1320840" y="1384200"/>
              <a:ext cx="603360" cy="590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131" name="wand" descr=""/>
          <p:cNvPicPr/>
          <p:nvPr/>
        </p:nvPicPr>
        <p:blipFill>
          <a:blip r:embed="rId2"/>
          <a:stretch/>
        </p:blipFill>
        <p:spPr>
          <a:xfrm>
            <a:off x="2720880" y="1409760"/>
            <a:ext cx="83340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nightsword" descr=""/>
          <p:cNvPicPr/>
          <p:nvPr/>
        </p:nvPicPr>
        <p:blipFill>
          <a:blip r:embed="rId3"/>
          <a:stretch/>
        </p:blipFill>
        <p:spPr>
          <a:xfrm>
            <a:off x="4324320" y="1409760"/>
            <a:ext cx="53964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wolfhead" descr=""/>
          <p:cNvPicPr/>
          <p:nvPr/>
        </p:nvPicPr>
        <p:blipFill>
          <a:blip r:embed="rId4"/>
          <a:stretch/>
        </p:blipFill>
        <p:spPr>
          <a:xfrm>
            <a:off x="5830920" y="1378080"/>
            <a:ext cx="425520" cy="113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armor" descr=""/>
          <p:cNvPicPr/>
          <p:nvPr/>
        </p:nvPicPr>
        <p:blipFill>
          <a:blip r:embed="rId5"/>
          <a:stretch/>
        </p:blipFill>
        <p:spPr>
          <a:xfrm>
            <a:off x="7242120" y="1422360"/>
            <a:ext cx="65736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agnired" descr=""/>
          <p:cNvPicPr/>
          <p:nvPr/>
        </p:nvPicPr>
        <p:blipFill>
          <a:blip r:embed="rId6"/>
          <a:stretch/>
        </p:blipFill>
        <p:spPr>
          <a:xfrm>
            <a:off x="7226280" y="3848040"/>
            <a:ext cx="68436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staffhammer" descr=""/>
          <p:cNvPicPr/>
          <p:nvPr/>
        </p:nvPicPr>
        <p:blipFill>
          <a:blip r:embed="rId7"/>
          <a:stretch/>
        </p:blipFill>
        <p:spPr>
          <a:xfrm>
            <a:off x="6032520" y="3809880"/>
            <a:ext cx="59364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wand" descr=""/>
          <p:cNvPicPr/>
          <p:nvPr/>
        </p:nvPicPr>
        <p:blipFill>
          <a:blip r:embed="rId8"/>
          <a:stretch/>
        </p:blipFill>
        <p:spPr>
          <a:xfrm>
            <a:off x="4083120" y="3927600"/>
            <a:ext cx="1041480" cy="66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smykke" descr=""/>
          <p:cNvPicPr/>
          <p:nvPr/>
        </p:nvPicPr>
        <p:blipFill>
          <a:blip r:embed="rId9"/>
          <a:stretch/>
        </p:blipFill>
        <p:spPr>
          <a:xfrm>
            <a:off x="2755800" y="3854520"/>
            <a:ext cx="800280" cy="85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stone" descr=""/>
          <p:cNvPicPr/>
          <p:nvPr/>
        </p:nvPicPr>
        <p:blipFill>
          <a:blip r:embed="rId10"/>
          <a:stretch/>
        </p:blipFill>
        <p:spPr>
          <a:xfrm>
            <a:off x="1214280" y="3854520"/>
            <a:ext cx="80964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4:27:30Z</dcterms:modified>
  <cp:revision>15</cp:revision>
  <dc:subject/>
  <dc:title>PowerPoint Presentation</dc:title>
</cp:coreProperties>
</file>