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F47-4B33-42A1-882F-051B21CA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16E-E63A-4254-B597-5A02F284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F97-1346-4A0D-87CC-DB8551E9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101-81AB-4BEF-ABA8-ECD0862A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428-3326-477D-B3A1-2110B595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BFD-74DF-4065-8DBC-C763D199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BFB-9D0F-4F30-A4F2-B9A86C9D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9A6-B539-4BEA-89F6-B70EB3CC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E75-135D-4452-9F6A-6414EC53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6B3-4DB0-432B-872F-DF2E047A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EFE-F641-4DAA-9A88-8D972D5C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F0C-B477-45B4-AAA6-09FAD455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B75A-9C75-4F71-B72D-F2EFAC010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066680"/>
          <a:ext cx="1295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1295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410080" y="3505320"/>
          <a:ext cx="129564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505320"/>
                    <a:ext cx="1295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934320" y="3505320"/>
          <a:ext cx="129528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3505320"/>
                    <a:ext cx="1295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2514600" y="1066680"/>
          <a:ext cx="129528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1066680"/>
                    <a:ext cx="1295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962520" y="1066680"/>
          <a:ext cx="129528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1066680"/>
                    <a:ext cx="1295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410080" y="1066680"/>
          <a:ext cx="1295640" cy="228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1066680"/>
                    <a:ext cx="1295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934320" y="1066680"/>
          <a:ext cx="1295280" cy="228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1066680"/>
                    <a:ext cx="1295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990720" y="3505320"/>
          <a:ext cx="1295280" cy="2286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90720" y="3505320"/>
                    <a:ext cx="1295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514600" y="3505320"/>
          <a:ext cx="1295280" cy="2286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14600" y="3505320"/>
                    <a:ext cx="1295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962520" y="3505320"/>
          <a:ext cx="1295280" cy="2286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62520" y="3505320"/>
                    <a:ext cx="1295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4:41:04Z</dcterms:modified>
  <cp:revision>12</cp:revision>
  <dc:subject/>
  <dc:title>PowerPoint Presentation</dc:title>
</cp:coreProperties>
</file>