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6FA-6D34-4971-A46E-8778B93E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34A-E6C8-4DB5-B4EF-86C0E2FD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BA9-5FE9-4BB2-AFBD-6CB044C6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839-7EC9-4CF1-81DB-481A8B60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BBC-5E1B-4E0D-8556-CB9A40DB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3F1-1E84-4495-8E20-AB115A0A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75C-370B-4114-A823-84B46D10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9E6-A02C-4522-8C8D-73436B3E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CF8-0A14-4C15-A747-31096CD3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3ED-ED6C-455F-ACA2-1457C68F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F93-54D1-4950-89AD-0D1D08B6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CF2-209E-47C3-AE3D-698F8204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98B2-967D-4184-9ED6-C11C6033E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2514600" y="1066680"/>
              <a:ext cx="1280880" cy="2286000"/>
              <a:chOff x="2514600" y="106668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2514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538000" y="114120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ENEMY-SPIRI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0440" y="114120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PIRIT-ENEM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0968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2590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 WI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65360" y="2498400"/>
              <a:ext cx="12319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breath of the Dark One has a life of its own.  It attempts to envelope you.  You must fight a Psychic Combat.  If you lose, Lose a Life and any Followers who add to your Craft, discard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57320" y="2346120"/>
              <a:ext cx="59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RAFT 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51" name=""/>
            <p:cNvGrpSpPr/>
            <p:nvPr/>
          </p:nvGrpSpPr>
          <p:grpSpPr>
            <a:xfrm>
              <a:off x="3962520" y="3505320"/>
              <a:ext cx="1280880" cy="2286000"/>
              <a:chOff x="3962520" y="3505320"/>
              <a:chExt cx="1280880" cy="2286000"/>
            </a:xfrm>
          </p:grpSpPr>
          <p:sp>
            <p:nvSpPr>
              <p:cNvPr id="52" name=""/>
              <p:cNvSpPr/>
              <p:nvPr/>
            </p:nvSpPr>
            <p:spPr>
              <a:xfrm>
                <a:off x="39625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985920" y="357984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ENEMY-SPIRI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8360" y="357984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PIRIT-ENEM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5576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40384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VARIS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13280" y="493704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he Varish Lives!  You must fight a Psychic Combat.  If you survive you may draw a Potion &amp; an Ability car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05240" y="4784760"/>
              <a:ext cx="59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RAFT 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60" name=""/>
            <p:cNvGrpSpPr/>
            <p:nvPr/>
          </p:nvGrpSpPr>
          <p:grpSpPr>
            <a:xfrm>
              <a:off x="2514600" y="3505320"/>
              <a:ext cx="1280880" cy="2286000"/>
              <a:chOff x="2514600" y="3505320"/>
              <a:chExt cx="1280880" cy="2286000"/>
            </a:xfrm>
          </p:grpSpPr>
          <p:sp>
            <p:nvSpPr>
              <p:cNvPr id="61" name=""/>
              <p:cNvSpPr/>
              <p:nvPr/>
            </p:nvSpPr>
            <p:spPr>
              <a:xfrm>
                <a:off x="251460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38000" y="357984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ENEMY-SPIRI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160440" y="357984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PIRIT-ENEM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0968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59056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HOST OF THE NIGH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65360" y="493704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he Night had a life of its own but it was lost and it seeks to take yours.  You must fight a Psychic Comba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7320" y="4784760"/>
              <a:ext cx="59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RAFT 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90720" y="1066680"/>
            <a:ext cx="1280880" cy="2286000"/>
            <a:chOff x="990720" y="1066680"/>
            <a:chExt cx="1280880" cy="2286000"/>
          </a:xfrm>
        </p:grpSpPr>
        <p:sp>
          <p:nvSpPr>
            <p:cNvPr id="69" name=""/>
            <p:cNvSpPr/>
            <p:nvPr/>
          </p:nvSpPr>
          <p:spPr>
            <a:xfrm>
              <a:off x="990720" y="106668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14120" y="1141200"/>
              <a:ext cx="609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ENEMY-SPIRI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36560" y="1141200"/>
              <a:ext cx="609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SPIRIT-ENEM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85800" y="1141200"/>
              <a:ext cx="91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06668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REEPING JE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1480" y="2225520"/>
            <a:ext cx="12319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your Followers accidentally leans against a wall and is enveloped, discard.  Roll 1D6 for each.  The first roll of 6 is the Jelly's victim.  If you do not roll a 6, then the next highest roll.  Then you must fight a Psychic Combat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33440" y="2073240"/>
            <a:ext cx="59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RAFT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90720" y="3505320"/>
            <a:ext cx="1282680" cy="2286000"/>
            <a:chOff x="990720" y="3505320"/>
            <a:chExt cx="1282680" cy="2286000"/>
          </a:xfrm>
        </p:grpSpPr>
        <p:grpSp>
          <p:nvGrpSpPr>
            <p:cNvPr id="77" name=""/>
            <p:cNvGrpSpPr/>
            <p:nvPr/>
          </p:nvGrpSpPr>
          <p:grpSpPr>
            <a:xfrm>
              <a:off x="990720" y="3505320"/>
              <a:ext cx="1280880" cy="2286000"/>
              <a:chOff x="990720" y="3505320"/>
              <a:chExt cx="1280880" cy="2286000"/>
            </a:xfrm>
          </p:grpSpPr>
          <p:sp>
            <p:nvSpPr>
              <p:cNvPr id="78" name=""/>
              <p:cNvSpPr/>
              <p:nvPr/>
            </p:nvSpPr>
            <p:spPr>
              <a:xfrm>
                <a:off x="9907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014120" y="357984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ENEMY-SPIRI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636560" y="357984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PIRIT-ENEM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858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10666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HAR’ S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41480" y="493704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he Char’She moves in the shadows and seeks to destroy.  You must fight a Psychic Combat with it.  If you lose, Lose 1 Turn and 1 Lif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33440" y="4784760"/>
              <a:ext cx="59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RAFT 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962520" y="1066680"/>
            <a:ext cx="1282680" cy="2405520"/>
            <a:chOff x="3962520" y="1066680"/>
            <a:chExt cx="1282680" cy="2405520"/>
          </a:xfrm>
        </p:grpSpPr>
        <p:grpSp>
          <p:nvGrpSpPr>
            <p:cNvPr id="86" name=""/>
            <p:cNvGrpSpPr/>
            <p:nvPr/>
          </p:nvGrpSpPr>
          <p:grpSpPr>
            <a:xfrm>
              <a:off x="3962520" y="1066680"/>
              <a:ext cx="1280880" cy="2286000"/>
              <a:chOff x="3962520" y="1066680"/>
              <a:chExt cx="1280880" cy="2286000"/>
            </a:xfrm>
          </p:grpSpPr>
          <p:sp>
            <p:nvSpPr>
              <p:cNvPr id="87" name=""/>
              <p:cNvSpPr/>
              <p:nvPr/>
            </p:nvSpPr>
            <p:spPr>
              <a:xfrm>
                <a:off x="39625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85920" y="114120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ENEMY-SPIRI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08360" y="114120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PIRIT-ENEM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5576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0384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IRITS OF THE DE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13280" y="2498400"/>
              <a:ext cx="12319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ust be below the Graveyard as the Spirits are flowing down from the cavern ceiling.  Roll 1D6 to determine how many there are.  You must fight a Psychic Combat with them all at once!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05240" y="2346120"/>
              <a:ext cx="59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RAFT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410080" y="3505320"/>
            <a:ext cx="1281240" cy="2286000"/>
            <a:chOff x="5410080" y="3505320"/>
            <a:chExt cx="1281240" cy="2286000"/>
          </a:xfrm>
        </p:grpSpPr>
        <p:sp>
          <p:nvSpPr>
            <p:cNvPr id="95" name=""/>
            <p:cNvSpPr/>
            <p:nvPr/>
          </p:nvSpPr>
          <p:spPr>
            <a:xfrm>
              <a:off x="5410080" y="350532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33840" y="3579840"/>
              <a:ext cx="609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ENEMY-SPIRI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56280" y="3579840"/>
              <a:ext cx="609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SPIRIT-ENEM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05520" y="3579840"/>
              <a:ext cx="9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486400" y="369108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PIRIT DAN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60840" y="5032440"/>
            <a:ext cx="1231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’ve only heard the legends, but now you know they are true!  You must fight a Psychic Combat.  If you Lose, Lose 1 Life &amp; Fight a Comba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4784760"/>
            <a:ext cx="11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RAFT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RENGTH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410080" y="1066680"/>
            <a:ext cx="1282680" cy="2286000"/>
            <a:chOff x="5410080" y="1066680"/>
            <a:chExt cx="1282680" cy="2286000"/>
          </a:xfrm>
        </p:grpSpPr>
        <p:grpSp>
          <p:nvGrpSpPr>
            <p:cNvPr id="103" name=""/>
            <p:cNvGrpSpPr/>
            <p:nvPr/>
          </p:nvGrpSpPr>
          <p:grpSpPr>
            <a:xfrm>
              <a:off x="5410080" y="1066680"/>
              <a:ext cx="1280880" cy="2286000"/>
              <a:chOff x="5410080" y="1066680"/>
              <a:chExt cx="1280880" cy="2286000"/>
            </a:xfrm>
          </p:grpSpPr>
          <p:sp>
            <p:nvSpPr>
              <p:cNvPr id="104" name=""/>
              <p:cNvSpPr/>
              <p:nvPr/>
            </p:nvSpPr>
            <p:spPr>
              <a:xfrm>
                <a:off x="541008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33480" y="114120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ENEMY-SPIRI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055920" y="114120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PIRIT-ENEM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0516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486040" y="125244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IND OF THE DARK O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60840" y="249840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Dark One knows where you are even if you don’t.  You must fight a Psychic Combat with it.  If you win, you may not keep this card for more Craft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52800" y="2346120"/>
              <a:ext cx="59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RAFT 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934320" y="1066680"/>
            <a:ext cx="1282680" cy="2286000"/>
            <a:chOff x="6934320" y="1066680"/>
            <a:chExt cx="1282680" cy="2286000"/>
          </a:xfrm>
        </p:grpSpPr>
        <p:grpSp>
          <p:nvGrpSpPr>
            <p:cNvPr id="112" name=""/>
            <p:cNvGrpSpPr/>
            <p:nvPr/>
          </p:nvGrpSpPr>
          <p:grpSpPr>
            <a:xfrm>
              <a:off x="6934320" y="1066680"/>
              <a:ext cx="1280880" cy="2286000"/>
              <a:chOff x="6934320" y="1066680"/>
              <a:chExt cx="1280880" cy="2286000"/>
            </a:xfrm>
          </p:grpSpPr>
          <p:sp>
            <p:nvSpPr>
              <p:cNvPr id="113" name=""/>
              <p:cNvSpPr/>
              <p:nvPr/>
            </p:nvSpPr>
            <p:spPr>
              <a:xfrm>
                <a:off x="69343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57720" y="114120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ENEMY-SPIRI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80160" y="114120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PIRIT-ENEM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294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70102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 EY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85080" y="249840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vil that lives here exists as no other.  Draw an Ability card.  The Night Eye will use this ability against you if possible.  You must fight a Psychic Combat with it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77040" y="2346120"/>
              <a:ext cx="59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RAFT 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934320" y="3505320"/>
            <a:ext cx="1282680" cy="2286000"/>
            <a:chOff x="6934320" y="3505320"/>
            <a:chExt cx="1282680" cy="2286000"/>
          </a:xfrm>
        </p:grpSpPr>
        <p:grpSp>
          <p:nvGrpSpPr>
            <p:cNvPr id="121" name=""/>
            <p:cNvGrpSpPr/>
            <p:nvPr/>
          </p:nvGrpSpPr>
          <p:grpSpPr>
            <a:xfrm>
              <a:off x="6934320" y="3505320"/>
              <a:ext cx="1280880" cy="2286000"/>
              <a:chOff x="6934320" y="3505320"/>
              <a:chExt cx="1280880" cy="2286000"/>
            </a:xfrm>
          </p:grpSpPr>
          <p:sp>
            <p:nvSpPr>
              <p:cNvPr id="122" name=""/>
              <p:cNvSpPr/>
              <p:nvPr/>
            </p:nvSpPr>
            <p:spPr>
              <a:xfrm>
                <a:off x="69343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957720" y="357984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ENEMY-SPIRI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580160" y="357984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PIRIT-ENEM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94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0102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AZ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85080" y="4937040"/>
              <a:ext cx="123192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azar is a minion of the Dark One.  You must fight a psychic Combat with him .  If you lose, he possess your Character.  Discard your Character, Draw 3 Abilities and take the Mazar Character Car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77040" y="4784760"/>
              <a:ext cx="59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RAFT 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creepjelly" descr=""/>
          <p:cNvPicPr/>
          <p:nvPr/>
        </p:nvPicPr>
        <p:blipFill>
          <a:blip r:embed="rId1"/>
          <a:stretch/>
        </p:blipFill>
        <p:spPr>
          <a:xfrm>
            <a:off x="1308240" y="1397160"/>
            <a:ext cx="609480" cy="633240"/>
          </a:xfrm>
          <a:prstGeom prst="rect">
            <a:avLst/>
          </a:prstGeom>
          <a:ln w="0">
            <a:noFill/>
          </a:ln>
        </p:spPr>
      </p:pic>
      <p:pic>
        <p:nvPicPr>
          <p:cNvPr id="130" name="nitewind" descr=""/>
          <p:cNvPicPr/>
          <p:nvPr/>
        </p:nvPicPr>
        <p:blipFill>
          <a:blip r:embed="rId2"/>
          <a:stretch/>
        </p:blipFill>
        <p:spPr>
          <a:xfrm>
            <a:off x="2616120" y="1384200"/>
            <a:ext cx="1067040" cy="94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spiritofdeade" descr=""/>
          <p:cNvPicPr/>
          <p:nvPr/>
        </p:nvPicPr>
        <p:blipFill>
          <a:blip r:embed="rId3"/>
          <a:stretch/>
        </p:blipFill>
        <p:spPr>
          <a:xfrm>
            <a:off x="4235400" y="1390680"/>
            <a:ext cx="75888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mind" descr=""/>
          <p:cNvPicPr/>
          <p:nvPr/>
        </p:nvPicPr>
        <p:blipFill>
          <a:blip r:embed="rId4"/>
          <a:stretch/>
        </p:blipFill>
        <p:spPr>
          <a:xfrm>
            <a:off x="5734080" y="1498680"/>
            <a:ext cx="60624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nighteye" descr=""/>
          <p:cNvPicPr/>
          <p:nvPr/>
        </p:nvPicPr>
        <p:blipFill>
          <a:blip r:embed="rId5"/>
          <a:stretch/>
        </p:blipFill>
        <p:spPr>
          <a:xfrm>
            <a:off x="7149960" y="1397160"/>
            <a:ext cx="83988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charshe" descr=""/>
          <p:cNvPicPr/>
          <p:nvPr/>
        </p:nvPicPr>
        <p:blipFill>
          <a:blip r:embed="rId6"/>
          <a:stretch/>
        </p:blipFill>
        <p:spPr>
          <a:xfrm>
            <a:off x="1251000" y="3828960"/>
            <a:ext cx="75564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GHOST" descr=""/>
          <p:cNvPicPr/>
          <p:nvPr/>
        </p:nvPicPr>
        <p:blipFill>
          <a:blip r:embed="rId7"/>
          <a:stretch/>
        </p:blipFill>
        <p:spPr>
          <a:xfrm>
            <a:off x="2695680" y="3828960"/>
            <a:ext cx="915840" cy="92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creature" descr=""/>
          <p:cNvPicPr/>
          <p:nvPr/>
        </p:nvPicPr>
        <p:blipFill>
          <a:blip r:embed="rId8"/>
          <a:stretch/>
        </p:blipFill>
        <p:spPr>
          <a:xfrm>
            <a:off x="4038480" y="3809880"/>
            <a:ext cx="1114560" cy="9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spiritdancer" descr=""/>
          <p:cNvPicPr/>
          <p:nvPr/>
        </p:nvPicPr>
        <p:blipFill>
          <a:blip r:embed="rId9"/>
          <a:stretch/>
        </p:blipFill>
        <p:spPr>
          <a:xfrm>
            <a:off x="5673600" y="3828960"/>
            <a:ext cx="73656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rafar" descr=""/>
          <p:cNvPicPr/>
          <p:nvPr/>
        </p:nvPicPr>
        <p:blipFill>
          <a:blip r:embed="rId10"/>
          <a:stretch/>
        </p:blipFill>
        <p:spPr>
          <a:xfrm>
            <a:off x="7211880" y="3828960"/>
            <a:ext cx="7128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4:31:37Z</dcterms:modified>
  <cp:revision>14</cp:revision>
  <dc:subject/>
  <dc:title>PowerPoint Presentation</dc:title>
</cp:coreProperties>
</file>