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981-3F8E-4BC4-8A13-7E5BC329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4BA-A4A7-4F23-B7F6-69E2FCD5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235-AD4F-4635-927E-86AFC085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0DE-162B-435E-BF86-03AB1B42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BAE-1E83-4E5D-87DA-696BC195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3FD-2DA5-46EC-AC55-FD7E056E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D9B-019E-4588-B1D8-7C60E8AC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684-A225-4424-91B1-185DBBF2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750-BCEA-40F3-BA8D-5E52A29F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984-41D7-40DA-A52E-2243FDD0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ED0-3B8E-4994-A41B-FF4A0924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A92-EB71-4A19-B07A-5A7122B5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717F-C084-4361-B321-ACA450D10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066680"/>
            <a:ext cx="1282680" cy="2286000"/>
            <a:chOff x="990720" y="10666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990720" y="1066680"/>
              <a:ext cx="1280880" cy="2286000"/>
              <a:chOff x="990720" y="106668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9907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141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6365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5858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0666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41480" y="2346480"/>
              <a:ext cx="12319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have found one of the few exits.  Roll a D10.  1: Castle 2: Desert 3: City Gate 4: Village 5: Graveyard 6: Bandit Fortress 7: Endless Ocean 8: Dungeon Vault 9: Wizard's Tower 10: Crown of Comman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33440" y="2346480"/>
              <a:ext cx="59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gateway2" descr=""/>
            <p:cNvPicPr/>
            <p:nvPr/>
          </p:nvPicPr>
          <p:blipFill>
            <a:blip r:embed="rId1"/>
            <a:stretch/>
          </p:blipFill>
          <p:spPr>
            <a:xfrm>
              <a:off x="1060560" y="1411200"/>
              <a:ext cx="1143000" cy="8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52" name=""/>
            <p:cNvGrpSpPr/>
            <p:nvPr/>
          </p:nvGrpSpPr>
          <p:grpSpPr>
            <a:xfrm>
              <a:off x="2514600" y="1066680"/>
              <a:ext cx="1280880" cy="2286000"/>
              <a:chOff x="2514600" y="1066680"/>
              <a:chExt cx="1280880" cy="2286000"/>
            </a:xfrm>
          </p:grpSpPr>
          <p:sp>
            <p:nvSpPr>
              <p:cNvPr id="53" name=""/>
              <p:cNvSpPr/>
              <p:nvPr/>
            </p:nvSpPr>
            <p:spPr>
              <a:xfrm>
                <a:off x="2514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3800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6044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10968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590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65360" y="2346480"/>
              <a:ext cx="12319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have found one of the few exits.  Roll a D10.  1: Castle 2: Desert 3: City Gate 4: Village 5: Graveyard 6: Bandit Fortress 7: Endless Ocean 8: Dungeon Vault 9: Wizard's Tower 10: Crown of Comman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7320" y="2346480"/>
              <a:ext cx="59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gateway2" descr=""/>
            <p:cNvPicPr/>
            <p:nvPr/>
          </p:nvPicPr>
          <p:blipFill>
            <a:blip r:embed="rId2"/>
            <a:stretch/>
          </p:blipFill>
          <p:spPr>
            <a:xfrm>
              <a:off x="2584440" y="1411200"/>
              <a:ext cx="1143000" cy="8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3962520" y="1066680"/>
            <a:ext cx="1282680" cy="2286000"/>
            <a:chOff x="3962520" y="1066680"/>
            <a:chExt cx="1282680" cy="2286000"/>
          </a:xfrm>
        </p:grpSpPr>
        <p:grpSp>
          <p:nvGrpSpPr>
            <p:cNvPr id="62" name=""/>
            <p:cNvGrpSpPr/>
            <p:nvPr/>
          </p:nvGrpSpPr>
          <p:grpSpPr>
            <a:xfrm>
              <a:off x="3962520" y="1066680"/>
              <a:ext cx="1280880" cy="2286000"/>
              <a:chOff x="3962520" y="1066680"/>
              <a:chExt cx="1280880" cy="2286000"/>
            </a:xfrm>
          </p:grpSpPr>
          <p:sp>
            <p:nvSpPr>
              <p:cNvPr id="63" name=""/>
              <p:cNvSpPr/>
              <p:nvPr/>
            </p:nvSpPr>
            <p:spPr>
              <a:xfrm>
                <a:off x="39625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859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6083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576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40384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13280" y="2346480"/>
              <a:ext cx="12319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have found one of the few exits.  Roll a D10.  1: Castle 2: Desert 3: City Gate 4: Village 5: Graveyard 6: Bandit Fortress 7: Endless Ocean 8: Dungeon Vault 9: Wizard's Tower 10: Crown of Comman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05240" y="2346480"/>
              <a:ext cx="59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gateway2" descr=""/>
            <p:cNvPicPr/>
            <p:nvPr/>
          </p:nvPicPr>
          <p:blipFill>
            <a:blip r:embed="rId3"/>
            <a:stretch/>
          </p:blipFill>
          <p:spPr>
            <a:xfrm>
              <a:off x="4032360" y="1411200"/>
              <a:ext cx="1143000" cy="8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5410080" y="1066680"/>
            <a:ext cx="1282680" cy="2286000"/>
            <a:chOff x="5410080" y="1066680"/>
            <a:chExt cx="1282680" cy="2286000"/>
          </a:xfrm>
        </p:grpSpPr>
        <p:grpSp>
          <p:nvGrpSpPr>
            <p:cNvPr id="72" name=""/>
            <p:cNvGrpSpPr/>
            <p:nvPr/>
          </p:nvGrpSpPr>
          <p:grpSpPr>
            <a:xfrm>
              <a:off x="5410080" y="1066680"/>
              <a:ext cx="1280880" cy="2286000"/>
              <a:chOff x="5410080" y="1066680"/>
              <a:chExt cx="1280880" cy="2286000"/>
            </a:xfrm>
          </p:grpSpPr>
          <p:sp>
            <p:nvSpPr>
              <p:cNvPr id="73" name=""/>
              <p:cNvSpPr/>
              <p:nvPr/>
            </p:nvSpPr>
            <p:spPr>
              <a:xfrm>
                <a:off x="541008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43348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05592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0516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48604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60840" y="2346480"/>
              <a:ext cx="12319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have found one of the few exits.  Roll a D10.  1: Castle 2: Desert 3: City Gate 4: Village 5: Graveyard 6: Bandit Fortress 7: Endless Ocean 8: Dungeon Vault 9: Wizard's Tower 10: Crown of Comman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2800" y="2346480"/>
              <a:ext cx="59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gateway2" descr=""/>
            <p:cNvPicPr/>
            <p:nvPr/>
          </p:nvPicPr>
          <p:blipFill>
            <a:blip r:embed="rId4"/>
            <a:stretch/>
          </p:blipFill>
          <p:spPr>
            <a:xfrm>
              <a:off x="5479920" y="1411200"/>
              <a:ext cx="1143000" cy="8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6934320" y="1066680"/>
            <a:ext cx="1282680" cy="2286000"/>
            <a:chOff x="6934320" y="1066680"/>
            <a:chExt cx="1282680" cy="2286000"/>
          </a:xfrm>
        </p:grpSpPr>
        <p:grpSp>
          <p:nvGrpSpPr>
            <p:cNvPr id="82" name=""/>
            <p:cNvGrpSpPr/>
            <p:nvPr/>
          </p:nvGrpSpPr>
          <p:grpSpPr>
            <a:xfrm>
              <a:off x="6934320" y="1066680"/>
              <a:ext cx="1280880" cy="2286000"/>
              <a:chOff x="6934320" y="1066680"/>
              <a:chExt cx="1280880" cy="2286000"/>
            </a:xfrm>
          </p:grpSpPr>
          <p:sp>
            <p:nvSpPr>
              <p:cNvPr id="83" name=""/>
              <p:cNvSpPr/>
              <p:nvPr/>
            </p:nvSpPr>
            <p:spPr>
              <a:xfrm>
                <a:off x="69343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577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801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5294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70102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5080" y="2346480"/>
              <a:ext cx="12319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have found one of the few exits.  Roll a D10.  1: Castle 2: Desert 3: City Gate 4: Village 5: Graveyard 6: Bandit Fortress 7: Endless Ocean 8: Dungeon Vault 9: Wizard's Tower 10: Crown of Comman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77040" y="2346480"/>
              <a:ext cx="59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gateway2" descr=""/>
            <p:cNvPicPr/>
            <p:nvPr/>
          </p:nvPicPr>
          <p:blipFill>
            <a:blip r:embed="rId5"/>
            <a:stretch/>
          </p:blipFill>
          <p:spPr>
            <a:xfrm>
              <a:off x="7004160" y="1411200"/>
              <a:ext cx="1143000" cy="8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91" name=""/>
          <p:cNvSpPr/>
          <p:nvPr/>
        </p:nvSpPr>
        <p:spPr>
          <a:xfrm>
            <a:off x="1333440" y="4784760"/>
            <a:ext cx="5907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0720" y="3505320"/>
            <a:ext cx="1282680" cy="2286000"/>
            <a:chOff x="990720" y="3505320"/>
            <a:chExt cx="1282680" cy="2286000"/>
          </a:xfrm>
        </p:grpSpPr>
        <p:grpSp>
          <p:nvGrpSpPr>
            <p:cNvPr id="93" name=""/>
            <p:cNvGrpSpPr/>
            <p:nvPr/>
          </p:nvGrpSpPr>
          <p:grpSpPr>
            <a:xfrm>
              <a:off x="990720" y="3505320"/>
              <a:ext cx="1280880" cy="2286000"/>
              <a:chOff x="990720" y="3505320"/>
              <a:chExt cx="1280880" cy="2286000"/>
            </a:xfrm>
          </p:grpSpPr>
          <p:sp>
            <p:nvSpPr>
              <p:cNvPr id="94" name=""/>
              <p:cNvSpPr/>
              <p:nvPr/>
            </p:nvSpPr>
            <p:spPr>
              <a:xfrm>
                <a:off x="9907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141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365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5858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0666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1480" y="4784760"/>
              <a:ext cx="12319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have found one of the few exits.  Roll a D10.  1: Castle 2: Desert 3: City Gate 4: Village 5: Graveyard 6: Bandit Fortress 7: Endless Ocean 8: Dungeon Vault 9: Wizard's Tower 10: Crown of Comman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doorway" descr=""/>
            <p:cNvPicPr/>
            <p:nvPr/>
          </p:nvPicPr>
          <p:blipFill>
            <a:blip r:embed="rId6"/>
            <a:stretch/>
          </p:blipFill>
          <p:spPr>
            <a:xfrm>
              <a:off x="1066680" y="3828960"/>
              <a:ext cx="1152720" cy="876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102" name=""/>
            <p:cNvGrpSpPr/>
            <p:nvPr/>
          </p:nvGrpSpPr>
          <p:grpSpPr>
            <a:xfrm>
              <a:off x="2514600" y="3505320"/>
              <a:ext cx="1280880" cy="2286000"/>
              <a:chOff x="2514600" y="3505320"/>
              <a:chExt cx="1280880" cy="2286000"/>
            </a:xfrm>
          </p:grpSpPr>
          <p:sp>
            <p:nvSpPr>
              <p:cNvPr id="103" name=""/>
              <p:cNvSpPr/>
              <p:nvPr/>
            </p:nvSpPr>
            <p:spPr>
              <a:xfrm>
                <a:off x="251460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53800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6044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0968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59056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65360" y="4784760"/>
              <a:ext cx="12319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have found one of the few exits.  Roll a D10.  1: Castle 2: Desert 3: City Gate 4: Village 5: Graveyard 6: Bandit Fortress 7: Endless Ocean 8: Dungeon Vault 9: Wizard's Tower 10: Crown of Comman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doorway" descr=""/>
            <p:cNvPicPr/>
            <p:nvPr/>
          </p:nvPicPr>
          <p:blipFill>
            <a:blip r:embed="rId7"/>
            <a:stretch/>
          </p:blipFill>
          <p:spPr>
            <a:xfrm>
              <a:off x="2590560" y="3828960"/>
              <a:ext cx="1152720" cy="876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6934320" y="3505320"/>
            <a:ext cx="1282680" cy="2286000"/>
            <a:chOff x="6934320" y="3505320"/>
            <a:chExt cx="1282680" cy="2286000"/>
          </a:xfrm>
        </p:grpSpPr>
        <p:grpSp>
          <p:nvGrpSpPr>
            <p:cNvPr id="111" name=""/>
            <p:cNvGrpSpPr/>
            <p:nvPr/>
          </p:nvGrpSpPr>
          <p:grpSpPr>
            <a:xfrm>
              <a:off x="6934320" y="3505320"/>
              <a:ext cx="1280880" cy="2286000"/>
              <a:chOff x="6934320" y="3505320"/>
              <a:chExt cx="1280880" cy="228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69343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577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5801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294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0102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85080" y="4784760"/>
              <a:ext cx="12319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have found one of the few exits.  Roll a D10.  1: Castle 2: Desert 3: City Gate 4: Village 5: Graveyard 6: Bandit Fortress 7: Endless Ocean 8: Dungeon Vault 9: Wizard's Tower 10: Crown of Comman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doorway" descr=""/>
            <p:cNvPicPr/>
            <p:nvPr/>
          </p:nvPicPr>
          <p:blipFill>
            <a:blip r:embed="rId8"/>
            <a:stretch/>
          </p:blipFill>
          <p:spPr>
            <a:xfrm>
              <a:off x="7010280" y="3828960"/>
              <a:ext cx="1152720" cy="876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5410080" y="3505320"/>
            <a:ext cx="1282680" cy="2286000"/>
            <a:chOff x="5410080" y="3505320"/>
            <a:chExt cx="1282680" cy="2286000"/>
          </a:xfrm>
        </p:grpSpPr>
        <p:grpSp>
          <p:nvGrpSpPr>
            <p:cNvPr id="120" name=""/>
            <p:cNvGrpSpPr/>
            <p:nvPr/>
          </p:nvGrpSpPr>
          <p:grpSpPr>
            <a:xfrm>
              <a:off x="5410080" y="3505320"/>
              <a:ext cx="1280880" cy="2286000"/>
              <a:chOff x="5410080" y="3505320"/>
              <a:chExt cx="1280880" cy="2286000"/>
            </a:xfrm>
          </p:grpSpPr>
          <p:sp>
            <p:nvSpPr>
              <p:cNvPr id="121" name=""/>
              <p:cNvSpPr/>
              <p:nvPr/>
            </p:nvSpPr>
            <p:spPr>
              <a:xfrm>
                <a:off x="541008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43348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5592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00516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548604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60840" y="4784760"/>
              <a:ext cx="12319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have found one of the few exits.  Roll a D10.  1: Castle 2: Desert 3: City Gate 4: Village 5: Graveyard 6: Bandit Fortress 7: Endless Ocean 8: Dungeon Vault 9: Wizard's Tower 10: Crown of Comman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doorway" descr=""/>
            <p:cNvPicPr/>
            <p:nvPr/>
          </p:nvPicPr>
          <p:blipFill>
            <a:blip r:embed="rId9"/>
            <a:stretch/>
          </p:blipFill>
          <p:spPr>
            <a:xfrm>
              <a:off x="5486040" y="3828960"/>
              <a:ext cx="1152720" cy="876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129" name=""/>
            <p:cNvGrpSpPr/>
            <p:nvPr/>
          </p:nvGrpSpPr>
          <p:grpSpPr>
            <a:xfrm>
              <a:off x="3962520" y="3505320"/>
              <a:ext cx="1280880" cy="2286000"/>
              <a:chOff x="3962520" y="3505320"/>
              <a:chExt cx="1280880" cy="2286000"/>
            </a:xfrm>
          </p:grpSpPr>
          <p:sp>
            <p:nvSpPr>
              <p:cNvPr id="130" name=""/>
              <p:cNvSpPr/>
              <p:nvPr/>
            </p:nvSpPr>
            <p:spPr>
              <a:xfrm>
                <a:off x="39625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859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083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LOC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576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0384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13280" y="4784760"/>
              <a:ext cx="12319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have found one of the few exits.  Roll a D10.  1: Castle 2: Desert 3: City Gate 4: Village 5: Graveyard 6: Bandit Fortress 7: Endless Ocean 8: Dungeon Vault 9: Wizard's Tower 10: Crown of Comman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doorway" descr=""/>
            <p:cNvPicPr/>
            <p:nvPr/>
          </p:nvPicPr>
          <p:blipFill>
            <a:blip r:embed="rId10"/>
            <a:stretch/>
          </p:blipFill>
          <p:spPr>
            <a:xfrm>
              <a:off x="4038480" y="3828960"/>
              <a:ext cx="1152720" cy="876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4:22:27Z</dcterms:modified>
  <cp:revision>17</cp:revision>
  <dc:subject/>
  <dc:title>PowerPoint Presentation</dc:title>
</cp:coreProperties>
</file>