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643-F4BE-4D3C-B8C3-FA99DB19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B0C-2839-4729-BB7B-7497F97F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931-D413-44F9-963A-D869A5F6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1B8-8B3D-40AB-8EB0-6CD277C5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D9D-518F-4D35-8E34-ADD8485A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894-9B27-4411-97AF-7E097FA9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20E-2CBA-4F40-A846-FB44480A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D27-D801-4717-B887-453F5C29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EC4-EA79-4DE8-874C-D2820D88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39C-5491-4822-8EC5-DFF38551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851-7BB6-43BE-AD3D-24364EF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6F5-EBE6-4502-B106-AE305EB9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40E7-1EF6-4DFB-9427-F4ACB6528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141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6365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858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0666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ITCH BLA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4148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darkness becomes so foul as to prevent you from seeing anything.  Lose 1 Turn to recover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334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51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38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60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0968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REEZING RA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6536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ust be somewhere under the Storm River as the cold rain pours down upon you.  Lose 1 Turn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57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freezrain" descr=""/>
          <p:cNvPicPr/>
          <p:nvPr/>
        </p:nvPicPr>
        <p:blipFill>
          <a:blip r:embed="rId1"/>
          <a:stretch/>
        </p:blipFill>
        <p:spPr>
          <a:xfrm>
            <a:off x="2641680" y="1511280"/>
            <a:ext cx="1066680" cy="779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61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62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859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083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576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0384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ISEMBODIED VO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1328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out of the darkness a small voice cries out to you.  It warns you to turn back.  Roll 1D6 for each Follower.  1-4: Follower remains 5-6: Follower turns back, discard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052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70" name=""/>
            <p:cNvGrpSpPr/>
            <p:nvPr/>
          </p:nvGrpSpPr>
          <p:grpSpPr>
            <a:xfrm>
              <a:off x="5410080" y="1066680"/>
              <a:ext cx="1280880" cy="2286000"/>
              <a:chOff x="5410080" y="1066680"/>
              <a:chExt cx="1280880" cy="2286000"/>
            </a:xfrm>
          </p:grpSpPr>
          <p:sp>
            <p:nvSpPr>
              <p:cNvPr id="71" name=""/>
              <p:cNvSpPr/>
              <p:nvPr/>
            </p:nvSpPr>
            <p:spPr>
              <a:xfrm>
                <a:off x="541008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348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5592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00516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548604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ECIP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60840" y="2498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slip but retain your footing.  Roll 1D6 for each Follower &amp; Animal Object: 1-2: They fall, discard 3-6: They are saf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5280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934320" y="1066680"/>
            <a:ext cx="1280880" cy="2286000"/>
            <a:chOff x="6934320" y="1066680"/>
            <a:chExt cx="1280880" cy="2286000"/>
          </a:xfrm>
        </p:grpSpPr>
        <p:sp>
          <p:nvSpPr>
            <p:cNvPr id="79" name=""/>
            <p:cNvSpPr/>
            <p:nvPr/>
          </p:nvSpPr>
          <p:spPr>
            <a:xfrm>
              <a:off x="69343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5772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8016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29400" y="11412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VE IN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85080" y="2225520"/>
            <a:ext cx="12319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where in the darkness you hear the sounds of falling rock and the thunder of cracking stone!  All 4-Legged Animals run off into the shadows, discard.  Roll 1D8 for each Follower: 1-3: Frightened, discard; 4-8: Scared but will remai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770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disembodiedvoice" descr=""/>
          <p:cNvPicPr/>
          <p:nvPr/>
        </p:nvPicPr>
        <p:blipFill>
          <a:blip r:embed="rId2"/>
          <a:stretch/>
        </p:blipFill>
        <p:spPr>
          <a:xfrm>
            <a:off x="4114800" y="1498680"/>
            <a:ext cx="990720" cy="8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recipice" descr=""/>
          <p:cNvPicPr/>
          <p:nvPr/>
        </p:nvPicPr>
        <p:blipFill>
          <a:blip r:embed="rId3"/>
          <a:stretch/>
        </p:blipFill>
        <p:spPr>
          <a:xfrm>
            <a:off x="5613480" y="1403280"/>
            <a:ext cx="874800" cy="10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8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89" name=""/>
            <p:cNvGrpSpPr/>
            <p:nvPr/>
          </p:nvGrpSpPr>
          <p:grpSpPr>
            <a:xfrm>
              <a:off x="6934320" y="3505320"/>
              <a:ext cx="1280880" cy="2286000"/>
              <a:chOff x="6934320" y="3505320"/>
              <a:chExt cx="1280880" cy="2286000"/>
            </a:xfrm>
          </p:grpSpPr>
          <p:sp>
            <p:nvSpPr>
              <p:cNvPr id="90" name=""/>
              <p:cNvSpPr/>
              <p:nvPr/>
            </p:nvSpPr>
            <p:spPr>
              <a:xfrm>
                <a:off x="69343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577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801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5294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0102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RAGON’S BREA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5080" y="49370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hot wind howls through this area.  It blows you off your feet and rids you of 2 Possessions chosen at random.  Discard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770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dragonbreath" descr=""/>
          <p:cNvPicPr/>
          <p:nvPr/>
        </p:nvPicPr>
        <p:blipFill>
          <a:blip r:embed="rId4"/>
          <a:stretch/>
        </p:blipFill>
        <p:spPr>
          <a:xfrm>
            <a:off x="7048440" y="3917880"/>
            <a:ext cx="1067040" cy="80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5410080" y="3505320"/>
            <a:ext cx="1282680" cy="2286000"/>
            <a:chOff x="5410080" y="3505320"/>
            <a:chExt cx="1282680" cy="2286000"/>
          </a:xfrm>
        </p:grpSpPr>
        <p:grpSp>
          <p:nvGrpSpPr>
            <p:cNvPr id="99" name=""/>
            <p:cNvGrpSpPr/>
            <p:nvPr/>
          </p:nvGrpSpPr>
          <p:grpSpPr>
            <a:xfrm>
              <a:off x="5410080" y="3505320"/>
              <a:ext cx="1280880" cy="2286000"/>
              <a:chOff x="5410080" y="3505320"/>
              <a:chExt cx="1280880" cy="2286000"/>
            </a:xfrm>
          </p:grpSpPr>
          <p:sp>
            <p:nvSpPr>
              <p:cNvPr id="100" name=""/>
              <p:cNvSpPr/>
              <p:nvPr/>
            </p:nvSpPr>
            <p:spPr>
              <a:xfrm>
                <a:off x="54100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3348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5592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051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48604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NAKE ATTA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6084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are attacked by a huge Viper.  Roll 1D6 for each Follower.  The Viper eats any with a roll of 1!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5280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snake" descr=""/>
          <p:cNvPicPr/>
          <p:nvPr/>
        </p:nvPicPr>
        <p:blipFill>
          <a:blip r:embed="rId5"/>
          <a:stretch/>
        </p:blipFill>
        <p:spPr>
          <a:xfrm>
            <a:off x="5619600" y="3828960"/>
            <a:ext cx="83664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219320" y="1447920"/>
            <a:ext cx="8380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cavein" descr=""/>
          <p:cNvPicPr/>
          <p:nvPr/>
        </p:nvPicPr>
        <p:blipFill>
          <a:blip r:embed="rId6"/>
          <a:stretch/>
        </p:blipFill>
        <p:spPr>
          <a:xfrm>
            <a:off x="7202520" y="1371600"/>
            <a:ext cx="75564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0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111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859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083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576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ONE TR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13280" y="493704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are ensnared by the stone itself.  If your party Strength is 7 or greater you may break free.  If not, you may not draw another Catacombs card until you roll an 8 on a D8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minitaur" descr=""/>
          <p:cNvPicPr/>
          <p:nvPr/>
        </p:nvPicPr>
        <p:blipFill>
          <a:blip r:embed="rId7"/>
          <a:stretch/>
        </p:blipFill>
        <p:spPr>
          <a:xfrm>
            <a:off x="4149720" y="3828960"/>
            <a:ext cx="87480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0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121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122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380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1604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LOST!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5360" y="49370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knew it could happen!  You lost 2 Turns finding your way.  Roll 1D6 for each Follower: 1: Lose them, discard; 5-6: Saf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32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lost" descr=""/>
          <p:cNvPicPr/>
          <p:nvPr/>
        </p:nvPicPr>
        <p:blipFill>
          <a:blip r:embed="rId8"/>
          <a:stretch/>
        </p:blipFill>
        <p:spPr>
          <a:xfrm>
            <a:off x="2695680" y="3886200"/>
            <a:ext cx="927000" cy="82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0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131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141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858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LOST!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1480" y="49370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knew it could happen!  You lost 2 Turns finding your way.  Roll 1D6 for each Follower: 1: Lose them, discard; 5-6: Saf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334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horse" descr=""/>
          <p:cNvPicPr/>
          <p:nvPr/>
        </p:nvPicPr>
        <p:blipFill>
          <a:blip r:embed="rId9"/>
          <a:stretch/>
        </p:blipFill>
        <p:spPr>
          <a:xfrm>
            <a:off x="1171440" y="3809880"/>
            <a:ext cx="9525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21:26Z</dcterms:modified>
  <cp:revision>16</cp:revision>
  <dc:subject/>
  <dc:title>PowerPoint Presentation</dc:title>
</cp:coreProperties>
</file>