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EF0-DF7C-4634-945C-CDA65AB6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F8A-9BA6-46ED-BCF0-03EBCA2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EAC-1B27-4AC4-ADE5-FC5AD2FE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183-B3F0-4F09-820F-83EFB106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49C-0A28-4055-A140-CA04544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9E8-04B6-4FEA-A14F-1DC94BE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2B7-9845-48B5-B1A4-884FCF6D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83-6EE8-41D5-B0A2-81314506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CC6-C7C4-48FF-AB01-12F6FA72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91A-68F3-4471-BB81-A0BDFE0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633-3A06-4F9B-A0CD-48434BA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867-61C7-40EF-8F9A-99D05D0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7FE-B9C4-473F-AF23-2A9B8266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20040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dventure%20Card%20Back" descr=""/>
          <p:cNvPicPr/>
          <p:nvPr/>
        </p:nvPicPr>
        <p:blipFill>
          <a:blip r:embed="rId1"/>
          <a:stretch/>
        </p:blipFill>
        <p:spPr>
          <a:xfrm>
            <a:off x="5438880" y="3505320"/>
            <a:ext cx="1295280" cy="2295360"/>
          </a:xfrm>
          <a:prstGeom prst="rect">
            <a:avLst/>
          </a:prstGeom>
          <a:ln w="0">
            <a:noFill/>
          </a:ln>
        </p:spPr>
      </p:pic>
      <p:pic>
        <p:nvPicPr>
          <p:cNvPr id="43" name="Adventure%20Card%20Back" descr=""/>
          <p:cNvPicPr/>
          <p:nvPr/>
        </p:nvPicPr>
        <p:blipFill>
          <a:blip r:embed="rId2"/>
          <a:stretch/>
        </p:blipFill>
        <p:spPr>
          <a:xfrm>
            <a:off x="6934320" y="3505320"/>
            <a:ext cx="1295280" cy="22953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990720" y="3505320"/>
            <a:ext cx="1294920" cy="2286000"/>
            <a:chOff x="990720" y="3505320"/>
            <a:chExt cx="1294920" cy="2286000"/>
          </a:xfrm>
        </p:grpSpPr>
        <p:sp>
          <p:nvSpPr>
            <p:cNvPr id="45" name=""/>
            <p:cNvSpPr/>
            <p:nvPr/>
          </p:nvSpPr>
          <p:spPr>
            <a:xfrm>
              <a:off x="990720" y="3505320"/>
              <a:ext cx="129492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14480" y="3579840"/>
              <a:ext cx="615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AGIC IT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43760" y="3579840"/>
              <a:ext cx="615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AGIC IT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92640" y="3579840"/>
              <a:ext cx="92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054080" y="370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IENTIST’S THIN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4080" y="4933800"/>
            <a:ext cx="1143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If you are the Scientist, you may add 2 to your Craft, and  you Gain 1 Craft for each Weather event.  You may take the Time Travelers as a Follower who will add 1 to you Craft.  If you are not the Scientist, you may repair the Ancient Artifact but must lose one turn to do s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3505320"/>
            <a:ext cx="1294920" cy="2286000"/>
            <a:chOff x="990720" y="3505320"/>
            <a:chExt cx="1294920" cy="228600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3505320"/>
              <a:ext cx="1294920" cy="2286000"/>
              <a:chOff x="990720" y="3505320"/>
              <a:chExt cx="1294920" cy="2286000"/>
            </a:xfrm>
          </p:grpSpPr>
          <p:sp>
            <p:nvSpPr>
              <p:cNvPr id="53" name=""/>
              <p:cNvSpPr/>
              <p:nvPr/>
            </p:nvSpPr>
            <p:spPr>
              <a:xfrm>
                <a:off x="990720" y="3505320"/>
                <a:ext cx="129492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1448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4376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92640" y="3579840"/>
                <a:ext cx="92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054080" y="36752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LL OF CHA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54080" y="5057640"/>
              <a:ext cx="1143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e Power of Chaos calls to you.  If you wish you may become the Warrior of Chaos and claim the master level character card.  You must surrender a Magic Object to do so.  The Warrior of Chaos may only remain in play for 10 full round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Chaos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85068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2514600" y="3505320"/>
            <a:ext cx="1294920" cy="2286000"/>
            <a:chOff x="2514600" y="3505320"/>
            <a:chExt cx="129492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2514600" y="3505320"/>
              <a:ext cx="1294920" cy="2286000"/>
              <a:chOff x="2514600" y="3505320"/>
              <a:chExt cx="129492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2514600" y="3505320"/>
                <a:ext cx="129492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3836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6764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16520" y="3579840"/>
                <a:ext cx="92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77960" y="36752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RROR IM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7960" y="5057640"/>
              <a:ext cx="1143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n ancient mirror appears before you.  If you have at least 2 Lives, you may pass through it and take the Mirror Image Master Level Character card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90720" y="1066680"/>
            <a:ext cx="2666880" cy="2257560"/>
            <a:chOff x="990720" y="1066680"/>
            <a:chExt cx="2666880" cy="2257560"/>
          </a:xfrm>
        </p:grpSpPr>
        <p:pic>
          <p:nvPicPr>
            <p:cNvPr id="69" name="character" descr=""/>
            <p:cNvPicPr/>
            <p:nvPr/>
          </p:nvPicPr>
          <p:blipFill>
            <a:blip r:embed="rId4"/>
            <a:stretch/>
          </p:blipFill>
          <p:spPr>
            <a:xfrm>
              <a:off x="990720" y="1066680"/>
              <a:ext cx="26668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8280" y="1219320"/>
              <a:ext cx="11430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LIGNMENT: S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RT: Where Encounte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AL ABILITIE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) You may trade with your Original Character if you Encounter i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) Draw 2 Abilities Card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55880" y="106668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MIRROR IM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mirror" descr=""/>
          <p:cNvPicPr/>
          <p:nvPr/>
        </p:nvPicPr>
        <p:blipFill>
          <a:blip r:embed="rId5"/>
          <a:stretch/>
        </p:blipFill>
        <p:spPr>
          <a:xfrm>
            <a:off x="2666880" y="3879720"/>
            <a:ext cx="96048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mirror" descr=""/>
          <p:cNvPicPr/>
          <p:nvPr/>
        </p:nvPicPr>
        <p:blipFill>
          <a:blip r:embed="rId6"/>
          <a:stretch/>
        </p:blipFill>
        <p:spPr>
          <a:xfrm>
            <a:off x="1270080" y="1200240"/>
            <a:ext cx="96984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master" descr=""/>
          <p:cNvPicPr/>
          <p:nvPr/>
        </p:nvPicPr>
        <p:blipFill>
          <a:blip r:embed="rId7"/>
          <a:stretch/>
        </p:blipFill>
        <p:spPr>
          <a:xfrm>
            <a:off x="5562720" y="1066680"/>
            <a:ext cx="2662200" cy="225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62520" y="6094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irror" descr=""/>
          <p:cNvPicPr/>
          <p:nvPr/>
        </p:nvPicPr>
        <p:blipFill>
          <a:blip r:embed="rId8"/>
          <a:stretch/>
        </p:blipFill>
        <p:spPr>
          <a:xfrm>
            <a:off x="4114800" y="685800"/>
            <a:ext cx="969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114800" y="250200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irror Im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14800" y="3581280"/>
          <a:ext cx="97632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581280"/>
                    <a:ext cx="976320" cy="176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rot="10800000">
            <a:off x="4114800" y="33530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irror Im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00:45:54Z</dcterms:created>
  <dc:creator>Paul &amp; Rosanne Morrow</dc:creator>
  <dc:description/>
  <dc:language>en-US</dc:language>
  <cp:lastModifiedBy>pmorrow</cp:lastModifiedBy>
  <dcterms:modified xsi:type="dcterms:W3CDTF">2003-07-02T20:06:32Z</dcterms:modified>
  <cp:revision>4</cp:revision>
  <dc:subject/>
  <dc:title>PowerPoint Presentation</dc:title>
</cp:coreProperties>
</file>