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AE3-9E41-445E-A997-DD5EDFA9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F03-4AB2-451E-BDEA-24C45243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74B-9B39-4A05-B6FC-4D8B18E1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E4B-4843-4348-A239-9DC85624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2EE-78E8-4209-8A92-3A8B4929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0B6F-F234-4C7A-9610-52542A4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77A-79F8-4AE6-8D8B-AF16801E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E6C-33FA-4AEF-9691-D1260C3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FF32-4864-408C-8DB5-E8C29729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047-56A7-47B0-8BA1-3C570DD0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A19-B775-4085-A00A-5E4BBA6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BC2-D9B3-4007-9E10-36F84A35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1195-42E4-4216-AA3F-21EF53655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3505320"/>
            <a:ext cx="1280880" cy="2286000"/>
            <a:chOff x="990720" y="3505320"/>
            <a:chExt cx="12808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141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85800" y="3579840"/>
                <a:ext cx="91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’S 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54080" y="4678200"/>
              <a:ext cx="11430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he Emperor has been disappointed with the taxes paid by your king and the local gentry.  He has sent his personal guard to collect his taxes.  All Players must pay a tax of 1 Gold.  All Nobles lose half their Gold and all uncollected tithings.  Add the Emperor’s Guard to the boar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Guard%201" descr=""/>
            <p:cNvPicPr/>
            <p:nvPr/>
          </p:nvPicPr>
          <p:blipFill>
            <a:blip r:embed="rId1"/>
            <a:stretch/>
          </p:blipFill>
          <p:spPr>
            <a:xfrm>
              <a:off x="1157400" y="3827520"/>
              <a:ext cx="914400" cy="823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2517840" y="3505320"/>
            <a:ext cx="1280880" cy="2310480"/>
            <a:chOff x="2517840" y="3505320"/>
            <a:chExt cx="1280880" cy="2310480"/>
          </a:xfrm>
        </p:grpSpPr>
        <p:grpSp>
          <p:nvGrpSpPr>
            <p:cNvPr id="51" name=""/>
            <p:cNvGrpSpPr/>
            <p:nvPr/>
          </p:nvGrpSpPr>
          <p:grpSpPr>
            <a:xfrm>
              <a:off x="2517840" y="3505320"/>
              <a:ext cx="1280880" cy="2286000"/>
              <a:chOff x="2517840" y="350532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251784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412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6368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12920" y="3579840"/>
                <a:ext cx="91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59380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’S 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81200" y="4749840"/>
              <a:ext cx="11430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he Emperor has been disappointed with the taxes paid by your king and the local gentry.  He has sent his personal guard to collect his taxes.  All Players must pay a tax of 1 Gold.  All Nobles lose half their Gold and all uncollected tithings.  Add the Emperor’s Guard to the boar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Guard%208" descr=""/>
            <p:cNvPicPr/>
            <p:nvPr/>
          </p:nvPicPr>
          <p:blipFill>
            <a:blip r:embed="rId2"/>
            <a:stretch/>
          </p:blipFill>
          <p:spPr>
            <a:xfrm>
              <a:off x="2732040" y="3822840"/>
              <a:ext cx="801720" cy="915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995400" y="1009800"/>
            <a:ext cx="2724120" cy="2361960"/>
            <a:chOff x="995400" y="1009800"/>
            <a:chExt cx="2724120" cy="2361960"/>
          </a:xfrm>
        </p:grpSpPr>
        <p:sp>
          <p:nvSpPr>
            <p:cNvPr id="60" name=""/>
            <p:cNvSpPr/>
            <p:nvPr/>
          </p:nvSpPr>
          <p:spPr>
            <a:xfrm>
              <a:off x="995400" y="1009800"/>
              <a:ext cx="272412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28600" y="21146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’S 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9320" y="1123920"/>
              <a:ext cx="1523880" cy="202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) Place an Emperor’s Guard on each of the City, Tavern, Village &amp; Chapel).  If the Far-Outer Reaches is in play do the same Bandit Fortress, Tower of Ultimate Evil, Endless Ocean, Monastery of Pure Goo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) At end of each Round, roll 1D6 and move each remaining Guard piece that many spaces clockwise.  No Guard will change region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) Any Character may attempt to bribe the Guard by paying Gold, Objects, Magic Objects or Magic Items.  Roll 1D8 and add 1 for each Possession donated.  1-2: Arrested, beaten &amp; imprisoned in the Donjon; 3-4: The Guard takes your donation but elects to fight anyway; 5-6: The Guard leaves you alone; 7-8: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Guard%204" descr=""/>
            <p:cNvPicPr/>
            <p:nvPr/>
          </p:nvPicPr>
          <p:blipFill>
            <a:blip r:embed="rId3"/>
            <a:stretch/>
          </p:blipFill>
          <p:spPr>
            <a:xfrm>
              <a:off x="1077840" y="1085760"/>
              <a:ext cx="907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64" name="Character%20Card%20Back" descr=""/>
          <p:cNvPicPr/>
          <p:nvPr/>
        </p:nvPicPr>
        <p:blipFill>
          <a:blip r:embed="rId4"/>
          <a:stretch/>
        </p:blipFill>
        <p:spPr>
          <a:xfrm>
            <a:off x="990720" y="990720"/>
            <a:ext cx="2684520" cy="2280960"/>
          </a:xfrm>
          <a:prstGeom prst="rect">
            <a:avLst/>
          </a:prstGeom>
          <a:ln w="0">
            <a:noFill/>
          </a:ln>
        </p:spPr>
      </p:pic>
      <p:pic>
        <p:nvPicPr>
          <p:cNvPr id="65" name="Adventure%20Card%20Back" descr=""/>
          <p:cNvPicPr/>
          <p:nvPr/>
        </p:nvPicPr>
        <p:blipFill>
          <a:blip r:embed="rId5"/>
          <a:stretch/>
        </p:blipFill>
        <p:spPr>
          <a:xfrm>
            <a:off x="990720" y="3505320"/>
            <a:ext cx="1295280" cy="2295360"/>
          </a:xfrm>
          <a:prstGeom prst="rect">
            <a:avLst/>
          </a:prstGeom>
          <a:ln w="0">
            <a:noFill/>
          </a:ln>
        </p:spPr>
      </p:pic>
      <p:pic>
        <p:nvPicPr>
          <p:cNvPr id="66" name="Adventure%20Card%20Back" descr=""/>
          <p:cNvPicPr/>
          <p:nvPr/>
        </p:nvPicPr>
        <p:blipFill>
          <a:blip r:embed="rId6"/>
          <a:stretch/>
        </p:blipFill>
        <p:spPr>
          <a:xfrm>
            <a:off x="2514600" y="3505320"/>
            <a:ext cx="12952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1-20T16:32:48Z</dcterms:modified>
  <cp:revision>14</cp:revision>
  <dc:subject/>
  <dc:title>PowerPoint Presentation</dc:title>
</cp:coreProperties>
</file>