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20F-96B7-4C87-9095-5E801450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C029-8443-44A4-8895-E0BD483A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07D9-5C07-431D-BF09-0B2A491B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75F-0BA2-4E24-A811-B495F055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EE7-31E0-472F-9C76-29C4CF8D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9B1-3AA8-4669-81F7-F5349C6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1A8-7416-4A53-A4C9-A2AADA6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6637-41AE-4901-8277-24C79E6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8B5-A454-41C9-ABF4-EC5C37BD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DCA-27B4-4FD6-9FB6-5DD3024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CF3-7BBA-4606-B218-C0D99ED7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74C-03DC-4884-87BD-D1C84A5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875D-5665-42A5-98A5-A920F2A6A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43560" y="106668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uard%208%20Reverse" descr=""/>
          <p:cNvPicPr/>
          <p:nvPr/>
        </p:nvPicPr>
        <p:blipFill>
          <a:blip r:embed="rId1"/>
          <a:stretch/>
        </p:blipFill>
        <p:spPr>
          <a:xfrm>
            <a:off x="552456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62520" y="10666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uard%207%20Reverse" descr=""/>
          <p:cNvPicPr/>
          <p:nvPr/>
        </p:nvPicPr>
        <p:blipFill>
          <a:blip r:embed="rId2"/>
          <a:stretch/>
        </p:blipFill>
        <p:spPr>
          <a:xfrm>
            <a:off x="403236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106668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uard%206%20Reverse" descr=""/>
          <p:cNvPicPr/>
          <p:nvPr/>
        </p:nvPicPr>
        <p:blipFill>
          <a:blip r:embed="rId3"/>
          <a:stretch/>
        </p:blipFill>
        <p:spPr>
          <a:xfrm>
            <a:off x="259092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90720" y="106668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uard%205%20Reverse" descr=""/>
          <p:cNvPicPr/>
          <p:nvPr/>
        </p:nvPicPr>
        <p:blipFill>
          <a:blip r:embed="rId4"/>
          <a:stretch/>
        </p:blipFill>
        <p:spPr>
          <a:xfrm>
            <a:off x="1066680" y="114300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443560" y="350532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uard%204%20Reverse" descr=""/>
          <p:cNvPicPr/>
          <p:nvPr/>
        </p:nvPicPr>
        <p:blipFill>
          <a:blip r:embed="rId5"/>
          <a:stretch/>
        </p:blipFill>
        <p:spPr>
          <a:xfrm>
            <a:off x="5511960" y="3581280"/>
            <a:ext cx="1143000" cy="2129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62520" y="350532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Guard%203%20Reverse" descr=""/>
          <p:cNvPicPr/>
          <p:nvPr/>
        </p:nvPicPr>
        <p:blipFill>
          <a:blip r:embed="rId6"/>
          <a:stretch/>
        </p:blipFill>
        <p:spPr>
          <a:xfrm>
            <a:off x="403848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0800000">
            <a:off x="2622240" y="140652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63680" y="140652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562360" y="140652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800000">
            <a:off x="1104840" y="1406520"/>
            <a:ext cx="10670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505320"/>
            <a:ext cx="128088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Guard%201%20Reverse" descr=""/>
          <p:cNvPicPr/>
          <p:nvPr/>
        </p:nvPicPr>
        <p:blipFill>
          <a:blip r:embed="rId7"/>
          <a:stretch/>
        </p:blipFill>
        <p:spPr>
          <a:xfrm>
            <a:off x="1066680" y="3581280"/>
            <a:ext cx="113040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10785600">
            <a:off x="1095120" y="384336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505320"/>
            <a:ext cx="12812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uard%202%20Reverse" descr=""/>
          <p:cNvPicPr/>
          <p:nvPr/>
        </p:nvPicPr>
        <p:blipFill>
          <a:blip r:embed="rId8"/>
          <a:stretch/>
        </p:blipFill>
        <p:spPr>
          <a:xfrm>
            <a:off x="2590920" y="3581280"/>
            <a:ext cx="1143000" cy="2133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10800000">
            <a:off x="2622240" y="384480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76640" y="3844800"/>
            <a:ext cx="10670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5536800" y="3844800"/>
            <a:ext cx="106668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RAFT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NGTH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1-11-03T15:42:08Z</dcterms:modified>
  <cp:revision>12</cp:revision>
  <dc:subject/>
  <dc:title>PowerPoint Presentation</dc:title>
</cp:coreProperties>
</file>