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DA8D-BA0C-43D3-A04F-318F2C0E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2575-58B9-45F6-B8CF-A83F4C35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3FEB-E094-4100-AE7B-D10CC53A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9DF7-FE4A-4946-8CBD-4461C2C0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1EA-06DA-41EF-AF69-3D844A8A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586-DEAB-4611-838E-E378FB78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4E5-EED3-408A-BAEB-36C44B85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709-7CDF-4A0F-B66B-8130B854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04C7-E8A6-4AE1-89B3-DA02E300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63F9-28E3-4BC2-9237-0042C38F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9DBE-EB4A-454F-9116-8D79C547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6190-215F-42C6-8120-73BC602B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D8A0-E951-4892-8E39-6492438C6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505320"/>
            <a:ext cx="128088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1066680"/>
            <a:ext cx="128088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62520" y="3505320"/>
            <a:ext cx="128088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43560" y="3505320"/>
            <a:ext cx="12812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43560" y="1066680"/>
            <a:ext cx="12812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3505320"/>
            <a:ext cx="12812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1066680"/>
            <a:ext cx="128088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uard%201" descr=""/>
          <p:cNvPicPr/>
          <p:nvPr/>
        </p:nvPicPr>
        <p:blipFill>
          <a:blip r:embed="rId1"/>
          <a:stretch/>
        </p:blipFill>
        <p:spPr>
          <a:xfrm>
            <a:off x="1079640" y="1143000"/>
            <a:ext cx="1104840" cy="2133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14560" y="2720880"/>
            <a:ext cx="99036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RAFT 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RENGTH 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066680"/>
            <a:ext cx="12812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uard%202" descr=""/>
          <p:cNvPicPr/>
          <p:nvPr/>
        </p:nvPicPr>
        <p:blipFill>
          <a:blip r:embed="rId2"/>
          <a:stretch/>
        </p:blipFill>
        <p:spPr>
          <a:xfrm>
            <a:off x="2590920" y="1143000"/>
            <a:ext cx="1143000" cy="2133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638440" y="2720880"/>
            <a:ext cx="99072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RAFT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RENGTH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Guard%203" descr=""/>
          <p:cNvPicPr/>
          <p:nvPr/>
        </p:nvPicPr>
        <p:blipFill>
          <a:blip r:embed="rId3"/>
          <a:stretch/>
        </p:blipFill>
        <p:spPr>
          <a:xfrm>
            <a:off x="4032360" y="1143000"/>
            <a:ext cx="1143000" cy="2133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92480" y="2720880"/>
            <a:ext cx="99072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RAFT 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RENGTH 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uard%204" descr=""/>
          <p:cNvPicPr/>
          <p:nvPr/>
        </p:nvPicPr>
        <p:blipFill>
          <a:blip r:embed="rId4"/>
          <a:stretch/>
        </p:blipFill>
        <p:spPr>
          <a:xfrm>
            <a:off x="5511960" y="1143000"/>
            <a:ext cx="1143000" cy="2133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78560" y="2720880"/>
            <a:ext cx="99036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RAFT 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RENGTH 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Guard%205" descr=""/>
          <p:cNvPicPr/>
          <p:nvPr/>
        </p:nvPicPr>
        <p:blipFill>
          <a:blip r:embed="rId5"/>
          <a:stretch/>
        </p:blipFill>
        <p:spPr>
          <a:xfrm>
            <a:off x="1066680" y="3581280"/>
            <a:ext cx="1143000" cy="2133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14560" y="5159520"/>
            <a:ext cx="99036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RAFT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RENGTH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uard%206" descr=""/>
          <p:cNvPicPr/>
          <p:nvPr/>
        </p:nvPicPr>
        <p:blipFill>
          <a:blip r:embed="rId6"/>
          <a:stretch/>
        </p:blipFill>
        <p:spPr>
          <a:xfrm>
            <a:off x="2584440" y="3581280"/>
            <a:ext cx="1143000" cy="2133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651040" y="5159520"/>
            <a:ext cx="99072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RAFT 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RENGTH 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Guard%207" descr=""/>
          <p:cNvPicPr/>
          <p:nvPr/>
        </p:nvPicPr>
        <p:blipFill>
          <a:blip r:embed="rId7"/>
          <a:stretch/>
        </p:blipFill>
        <p:spPr>
          <a:xfrm>
            <a:off x="4032360" y="3581280"/>
            <a:ext cx="1143000" cy="2133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098960" y="5159520"/>
            <a:ext cx="99072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RAFT 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RENGTH 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Guard%208" descr=""/>
          <p:cNvPicPr/>
          <p:nvPr/>
        </p:nvPicPr>
        <p:blipFill>
          <a:blip r:embed="rId8"/>
          <a:stretch/>
        </p:blipFill>
        <p:spPr>
          <a:xfrm>
            <a:off x="5511960" y="3581280"/>
            <a:ext cx="1143000" cy="213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591160" y="5159520"/>
            <a:ext cx="99072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RAFT 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RENGTH 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1-11-03T15:38:03Z</dcterms:modified>
  <cp:revision>10</cp:revision>
  <dc:subject/>
  <dc:title>PowerPoint Presentation</dc:title>
</cp:coreProperties>
</file>