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744B-EEBE-44AE-B5CF-B05E3C2F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C7C4-5AE5-481F-A276-BB8655A7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857E-18D7-414D-B38A-0F81F4368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CB8A-2134-44E1-87EC-31F3F7B17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3A35-27CF-4494-BBEE-501B1AF8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7DE5-A2C2-4E79-BE63-8F5A9819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FD09-5592-48DC-A2AB-C07879CA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AB6C-E8C3-4D56-A573-04178EE5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3F6C-C69E-42B2-8557-83ED0030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B92D-40E3-4EF5-89D0-A0505794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8ABA-C338-457C-9FBD-D721E595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1451-D30A-482A-888E-185A1266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A54A-A6BF-4450-9215-E4EB10AFC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3505320"/>
            <a:ext cx="1280880" cy="2286000"/>
            <a:chOff x="990720" y="3505320"/>
            <a:chExt cx="1280880" cy="2286000"/>
          </a:xfrm>
        </p:grpSpPr>
        <p:grpSp>
          <p:nvGrpSpPr>
            <p:cNvPr id="42" name=""/>
            <p:cNvGrpSpPr/>
            <p:nvPr/>
          </p:nvGrpSpPr>
          <p:grpSpPr>
            <a:xfrm>
              <a:off x="990720" y="3505320"/>
              <a:ext cx="1280880" cy="2286000"/>
              <a:chOff x="990720" y="3505320"/>
              <a:chExt cx="1280880" cy="2286000"/>
            </a:xfrm>
          </p:grpSpPr>
          <p:sp>
            <p:nvSpPr>
              <p:cNvPr id="43" name=""/>
              <p:cNvSpPr/>
              <p:nvPr/>
            </p:nvSpPr>
            <p:spPr>
              <a:xfrm>
                <a:off x="99072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01412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63656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585800" y="3579840"/>
                <a:ext cx="91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106668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MPEROR’S GUAR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054080" y="4678200"/>
              <a:ext cx="114300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he Emperor has been disappointed with the taxes paid by your king and the local gentry.  He has sent his personal guard to collect his taxes.  All Players must pay a tax of 1 Gold.  All Nobles lose half their Gold and all uncollected tithings.  Add the Emperor’s Guard to the board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Guard%201" descr=""/>
            <p:cNvPicPr/>
            <p:nvPr/>
          </p:nvPicPr>
          <p:blipFill>
            <a:blip r:embed="rId1"/>
            <a:stretch/>
          </p:blipFill>
          <p:spPr>
            <a:xfrm>
              <a:off x="1157400" y="3827520"/>
              <a:ext cx="914400" cy="823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50" name=""/>
          <p:cNvGrpSpPr/>
          <p:nvPr/>
        </p:nvGrpSpPr>
        <p:grpSpPr>
          <a:xfrm>
            <a:off x="2517840" y="3505320"/>
            <a:ext cx="1280880" cy="2310480"/>
            <a:chOff x="2517840" y="3505320"/>
            <a:chExt cx="1280880" cy="2310480"/>
          </a:xfrm>
        </p:grpSpPr>
        <p:grpSp>
          <p:nvGrpSpPr>
            <p:cNvPr id="51" name=""/>
            <p:cNvGrpSpPr/>
            <p:nvPr/>
          </p:nvGrpSpPr>
          <p:grpSpPr>
            <a:xfrm>
              <a:off x="2517840" y="3505320"/>
              <a:ext cx="1280880" cy="2286000"/>
              <a:chOff x="2517840" y="3505320"/>
              <a:chExt cx="1280880" cy="2286000"/>
            </a:xfrm>
          </p:grpSpPr>
          <p:sp>
            <p:nvSpPr>
              <p:cNvPr id="52" name=""/>
              <p:cNvSpPr/>
              <p:nvPr/>
            </p:nvSpPr>
            <p:spPr>
              <a:xfrm>
                <a:off x="2517840" y="3505320"/>
                <a:ext cx="128088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54124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63680" y="3579840"/>
                <a:ext cx="6091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112920" y="3579840"/>
                <a:ext cx="914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2593800" y="3691080"/>
              <a:ext cx="1143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MPEROR’S GUAR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81200" y="4749840"/>
              <a:ext cx="114300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he Emperor has been disappointed with the taxes paid by your king and the local gentry.  He has sent his personal guard to collect his taxes.  All Players must pay a tax of 1 Gold.  All Nobles lose half their Gold and all uncollected tithings.  Add the Emperor’s Guard to the board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" name="Guard%208" descr=""/>
            <p:cNvPicPr/>
            <p:nvPr/>
          </p:nvPicPr>
          <p:blipFill>
            <a:blip r:embed="rId2"/>
            <a:stretch/>
          </p:blipFill>
          <p:spPr>
            <a:xfrm>
              <a:off x="2732040" y="3822840"/>
              <a:ext cx="801720" cy="915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59" name=""/>
          <p:cNvGrpSpPr/>
          <p:nvPr/>
        </p:nvGrpSpPr>
        <p:grpSpPr>
          <a:xfrm>
            <a:off x="995400" y="1009800"/>
            <a:ext cx="2724120" cy="2361960"/>
            <a:chOff x="995400" y="1009800"/>
            <a:chExt cx="2724120" cy="2361960"/>
          </a:xfrm>
        </p:grpSpPr>
        <p:sp>
          <p:nvSpPr>
            <p:cNvPr id="60" name=""/>
            <p:cNvSpPr/>
            <p:nvPr/>
          </p:nvSpPr>
          <p:spPr>
            <a:xfrm>
              <a:off x="995400" y="1009800"/>
              <a:ext cx="2724120" cy="236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28600" y="21146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EMPEROR’S GUAR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19320" y="1123920"/>
              <a:ext cx="1523880" cy="202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) Place an Emperor’s Guard on each of the City, Tavern, Village &amp; Chapel).  If the Far-Outer Reaches is in play do the same Bandit Fortress, Tower of Ultimate Evil, Endless Ocean, Monastery of Pure Good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2) At end of each Round, roll 1D6 and move each remaining Guard piece that many spaces clockwise.  No Guard will change regions.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3) Any Character may attempt to bribe the Guard by paying Gold, Objects, Magic Objects or Magic Items.  Roll 1D8 and add 1 for each Possession donated.  1-2: Arrested, beaten &amp; imprisoned in the Donjon; 3-4: The Guard takes your donation but elects to fight anyway; 5-6: The Guard leaves you alone; 7-8: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Guard%204" descr=""/>
            <p:cNvPicPr/>
            <p:nvPr/>
          </p:nvPicPr>
          <p:blipFill>
            <a:blip r:embed="rId3"/>
            <a:stretch/>
          </p:blipFill>
          <p:spPr>
            <a:xfrm>
              <a:off x="1077840" y="1085760"/>
              <a:ext cx="907920" cy="990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pic>
        <p:nvPicPr>
          <p:cNvPr id="64" name="Character%20Card%20Back" descr=""/>
          <p:cNvPicPr/>
          <p:nvPr/>
        </p:nvPicPr>
        <p:blipFill>
          <a:blip r:embed="rId4"/>
          <a:stretch/>
        </p:blipFill>
        <p:spPr>
          <a:xfrm>
            <a:off x="5715000" y="990720"/>
            <a:ext cx="2684520" cy="22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2-01-13T01:23:42Z</dcterms:modified>
  <cp:revision>13</cp:revision>
  <dc:subject/>
  <dc:title>PowerPoint Presentation</dc:title>
</cp:coreProperties>
</file>