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74F4-FC90-449F-80C3-41E4F437C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5880-B8B5-4B83-8F0A-483276F4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39D5-7225-4CE3-B695-5D42A2F96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DF67-9514-4C55-99B3-EF8FDD649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A6B2-83A0-4988-BAFA-7E3EE630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71AF-9A8E-490C-8917-5DC27CC7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D528-E546-49F9-B0F3-798B6F74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8041-8419-4EB7-8F67-068374BA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F535-EB65-495F-8F71-8CCEA08D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4695-3836-4952-8BA5-A0EEFB67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CF49-E9A4-41DD-91A5-5D93CDA1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45A1-44DB-4708-8E72-21B25840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0FD0-E316-4CE7-8E98-E87EF5114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56120" y="1028880"/>
            <a:ext cx="2724120" cy="23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7680" y="1028880"/>
            <a:ext cx="2724120" cy="23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133720"/>
            <a:ext cx="91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LORD BLACKADD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lackadder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966960" cy="990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371600" y="1143000"/>
            <a:ext cx="1523880" cy="220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) You may claim any unoccupied, non-permanent location space as your Realm.  Place your Realm Marker ther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) You need not pay to enter the City or the Villa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) You are healed for no fee in the Castl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) You may add 1 to your die roll for any Event in the City or Villa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) Starting now, no one may be healed at a permanent location for Free.  They must pay 1 Gold for each Life healed.  The Gold is placed on that space and only you may collect it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rd%20Baldrick" descr=""/>
          <p:cNvPicPr/>
          <p:nvPr/>
        </p:nvPicPr>
        <p:blipFill>
          <a:blip r:embed="rId2"/>
          <a:stretch/>
        </p:blipFill>
        <p:spPr>
          <a:xfrm>
            <a:off x="3276720" y="1143000"/>
            <a:ext cx="990360" cy="1066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327480" y="2270160"/>
            <a:ext cx="914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BARON BALDR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86160" y="1143000"/>
            <a:ext cx="1524240" cy="20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) You may claim any unoccupied, non-permanent location space as your Realm.  Place your Realm Marker there.  If your Realm is placed in the Far-Outer Region you may choose the space either to the right or left of your Realm as well.  This second space may be occupied or may be a permanent locati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) You need not pay to enter the City or the Villa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) You are healed for no fee in the Castl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) You may add 1 to your die roll for any Event in the City or Villa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86520" y="1028880"/>
            <a:ext cx="2724120" cy="23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57880" y="2270160"/>
            <a:ext cx="828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DUKE OF BENS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16920" y="1143000"/>
            <a:ext cx="1523880" cy="207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) You may claim any unoccupied, non-permanent location space as your Realm.  Place your Realm Marker ther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) You need not pay to enter the City or the Villa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) You are healed for no fee in the Castl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) You may add 1 to your die roll for any Event in the City or Villa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) Your Followers are so loyal to you, they will never leave you for any reason except killed in Combat or Psychic Combat.  Ignore any instruction to discard a Follow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Vonbenzen" descr=""/>
          <p:cNvPicPr/>
          <p:nvPr/>
        </p:nvPicPr>
        <p:blipFill>
          <a:blip r:embed="rId3"/>
          <a:stretch/>
        </p:blipFill>
        <p:spPr>
          <a:xfrm>
            <a:off x="6207120" y="1143000"/>
            <a:ext cx="981000" cy="1066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086520" y="3524400"/>
            <a:ext cx="2724120" cy="23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57880" y="4765680"/>
            <a:ext cx="828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EARL OF BER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16920" y="3638520"/>
            <a:ext cx="1523880" cy="207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) You may claim any unoccupied, non-permanent location space as your Realm.  Place your Realm Marker ther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) You need not pay to enter the City or the Villa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) You are healed for no fee in the Castl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) You may add 1 to your die roll for any Event in the City or Villa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) Your Followers are so loyal to you, they will never leave you for any reason except killed in Combat or Psychic Combat.  Ignore any instruction to discard a Followe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Vonbretzenstadt" descr=""/>
          <p:cNvPicPr/>
          <p:nvPr/>
        </p:nvPicPr>
        <p:blipFill>
          <a:blip r:embed="rId4"/>
          <a:stretch/>
        </p:blipFill>
        <p:spPr>
          <a:xfrm>
            <a:off x="6172200" y="3638520"/>
            <a:ext cx="981000" cy="10666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143160" y="3505320"/>
            <a:ext cx="2724120" cy="23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14880" y="4746600"/>
            <a:ext cx="828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KNIGHT OF BER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73560" y="3619440"/>
            <a:ext cx="1523880" cy="207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) You may claim any unoccupied, non-permanent location space as your Realm.  Place your Realm Marker ther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) You need not pay to enter the City or the Villa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) You are healed for no fee in the Castl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) You may add 1 to your die roll for any Event in the City or Villa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) Whenever you visit or pass over the Village Space without a horse you will be offered one by the villagers.  Take one from the Purchase dec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Vonhacht" descr=""/>
          <p:cNvPicPr/>
          <p:nvPr/>
        </p:nvPicPr>
        <p:blipFill>
          <a:blip r:embed="rId5"/>
          <a:stretch/>
        </p:blipFill>
        <p:spPr>
          <a:xfrm>
            <a:off x="3228840" y="3638520"/>
            <a:ext cx="990720" cy="1066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37960" y="3505320"/>
            <a:ext cx="2724480" cy="23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9680" y="4746600"/>
            <a:ext cx="828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LORD OF BREM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68360" y="3619440"/>
            <a:ext cx="1524240" cy="207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) You may claim any unoccupied, non-permanent location space as your Realm.  Place your Realm Marker ther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) You need not pay to enter the City or the Villa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) You are healed for no fee in the Castl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) You may add 1 to your die roll for any Event in the City or Villa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) You may never lose any Animal Possession of Follower for any reason except killed in Combat or Psychic Combat.  Ignore all instructions to discar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Vonthundahl" descr=""/>
          <p:cNvPicPr/>
          <p:nvPr/>
        </p:nvPicPr>
        <p:blipFill>
          <a:blip r:embed="rId6"/>
          <a:stretch/>
        </p:blipFill>
        <p:spPr>
          <a:xfrm>
            <a:off x="295200" y="3657600"/>
            <a:ext cx="9986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1:14:26Z</dcterms:created>
  <dc:creator>Paul &amp; Rosanne Morrow</dc:creator>
  <dc:description/>
  <dc:language>en-US</dc:language>
  <cp:lastModifiedBy>Paul &amp; Rosanne Morrow</cp:lastModifiedBy>
  <dcterms:modified xsi:type="dcterms:W3CDTF">2002-01-26T21:14:35Z</dcterms:modified>
  <cp:revision>13</cp:revision>
  <dc:subject/>
  <dc:title>PowerPoint Presentation</dc:title>
</cp:coreProperties>
</file>