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EFA-6A72-4B8A-96DC-5E0D29BC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E2B-EBAD-4B9E-B0F8-665353E0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C119-E93E-4464-A186-50E1F67B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A205-04AD-46E6-A4F2-E2DF944A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0881-9359-4F8C-B59D-C84F8615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1DF-3C84-473D-B469-34E8925B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47D-878C-486B-9EF5-ADDC647D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8377-E72B-439C-9CD7-318F2126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B5D2-B659-44B5-B388-02A13791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CDBF-DD1A-413A-84EE-E8FBE73E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E9BD-2469-4676-B59A-91EF7146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1B2-426F-48D1-A7FF-4F6617BD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17EA-C9F2-417B-92CB-9B5E44650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478240" y="1066680"/>
            <a:ext cx="1280880" cy="2286000"/>
            <a:chOff x="2478240" y="1066680"/>
            <a:chExt cx="1280880" cy="2286000"/>
          </a:xfrm>
        </p:grpSpPr>
        <p:sp>
          <p:nvSpPr>
            <p:cNvPr id="42" name=""/>
            <p:cNvSpPr/>
            <p:nvPr/>
          </p:nvSpPr>
          <p:spPr>
            <a:xfrm>
              <a:off x="247824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0164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12408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73320" y="1141200"/>
              <a:ext cx="91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90720" y="1066680"/>
            <a:ext cx="1280880" cy="2286000"/>
            <a:chOff x="990720" y="1066680"/>
            <a:chExt cx="1280880" cy="2286000"/>
          </a:xfrm>
        </p:grpSpPr>
        <p:sp>
          <p:nvSpPr>
            <p:cNvPr id="47" name=""/>
            <p:cNvSpPr/>
            <p:nvPr/>
          </p:nvSpPr>
          <p:spPr>
            <a:xfrm>
              <a:off x="99072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1412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3656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85800" y="1141200"/>
              <a:ext cx="91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06668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RD BLACKAD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4080" y="250812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t Gold you may offer any other Possession.  Only Lord Blackadder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lackadder" descr=""/>
          <p:cNvPicPr/>
          <p:nvPr/>
        </p:nvPicPr>
        <p:blipFill>
          <a:blip r:embed="rId1"/>
          <a:stretch/>
        </p:blipFill>
        <p:spPr>
          <a:xfrm>
            <a:off x="1120680" y="1390680"/>
            <a:ext cx="10414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Lord%20Baldrick" descr=""/>
          <p:cNvPicPr/>
          <p:nvPr/>
        </p:nvPicPr>
        <p:blipFill>
          <a:blip r:embed="rId2"/>
          <a:stretch/>
        </p:blipFill>
        <p:spPr>
          <a:xfrm>
            <a:off x="2629080" y="1397160"/>
            <a:ext cx="9903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55420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ARON BALD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41600" y="250812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 Gold, you may offer any other Possession.  Only Baron Baldrick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938760" y="1066680"/>
            <a:ext cx="1280880" cy="2286000"/>
            <a:chOff x="3938760" y="1066680"/>
            <a:chExt cx="1280880" cy="2286000"/>
          </a:xfrm>
        </p:grpSpPr>
        <p:sp>
          <p:nvSpPr>
            <p:cNvPr id="58" name=""/>
            <p:cNvSpPr/>
            <p:nvPr/>
          </p:nvSpPr>
          <p:spPr>
            <a:xfrm>
              <a:off x="3938760" y="1066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216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84600" y="1141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33840" y="1141200"/>
              <a:ext cx="91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401472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UKE OF B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2120" y="250812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 Gold, you may offer any other Possession.  Only Duke of Bensen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Vonbenzen" descr=""/>
          <p:cNvPicPr/>
          <p:nvPr/>
        </p:nvPicPr>
        <p:blipFill>
          <a:blip r:embed="rId3"/>
          <a:stretch/>
        </p:blipFill>
        <p:spPr>
          <a:xfrm>
            <a:off x="4076640" y="1390680"/>
            <a:ext cx="9810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5" name=""/>
          <p:cNvGrpSpPr/>
          <p:nvPr/>
        </p:nvGrpSpPr>
        <p:grpSpPr>
          <a:xfrm>
            <a:off x="5424480" y="1066680"/>
            <a:ext cx="1281240" cy="2286000"/>
            <a:chOff x="5424480" y="1066680"/>
            <a:chExt cx="1281240" cy="2286000"/>
          </a:xfrm>
        </p:grpSpPr>
        <p:sp>
          <p:nvSpPr>
            <p:cNvPr id="66" name=""/>
            <p:cNvSpPr/>
            <p:nvPr/>
          </p:nvSpPr>
          <p:spPr>
            <a:xfrm>
              <a:off x="5424480" y="106668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44824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07068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9920" y="114120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550080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ARL OF BUR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7840" y="250812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 Gold, you may offer any other Possession.  Only Earl of Burber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Vonbretzenstadt" descr=""/>
          <p:cNvPicPr/>
          <p:nvPr/>
        </p:nvPicPr>
        <p:blipFill>
          <a:blip r:embed="rId4"/>
          <a:stretch/>
        </p:blipFill>
        <p:spPr>
          <a:xfrm>
            <a:off x="5562720" y="1397160"/>
            <a:ext cx="9810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3" name=""/>
          <p:cNvGrpSpPr/>
          <p:nvPr/>
        </p:nvGrpSpPr>
        <p:grpSpPr>
          <a:xfrm>
            <a:off x="6902280" y="1066680"/>
            <a:ext cx="1281240" cy="2286000"/>
            <a:chOff x="6902280" y="1066680"/>
            <a:chExt cx="1281240" cy="2286000"/>
          </a:xfrm>
        </p:grpSpPr>
        <p:sp>
          <p:nvSpPr>
            <p:cNvPr id="74" name=""/>
            <p:cNvSpPr/>
            <p:nvPr/>
          </p:nvSpPr>
          <p:spPr>
            <a:xfrm>
              <a:off x="6902280" y="106668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2604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48480" y="114120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97720" y="114120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978600" y="1252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KNIGHT OF BE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66000" y="250812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 Gold, you may offer any other Possession.  Only the Knight of Berm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Vonhacht" descr=""/>
          <p:cNvPicPr/>
          <p:nvPr/>
        </p:nvPicPr>
        <p:blipFill>
          <a:blip r:embed="rId5"/>
          <a:stretch/>
        </p:blipFill>
        <p:spPr>
          <a:xfrm>
            <a:off x="7061040" y="1390680"/>
            <a:ext cx="99072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1" name=""/>
          <p:cNvGrpSpPr/>
          <p:nvPr/>
        </p:nvGrpSpPr>
        <p:grpSpPr>
          <a:xfrm>
            <a:off x="6915240" y="3511440"/>
            <a:ext cx="1280880" cy="2286000"/>
            <a:chOff x="6915240" y="3511440"/>
            <a:chExt cx="1280880" cy="2286000"/>
          </a:xfrm>
        </p:grpSpPr>
        <p:sp>
          <p:nvSpPr>
            <p:cNvPr id="82" name=""/>
            <p:cNvSpPr/>
            <p:nvPr/>
          </p:nvSpPr>
          <p:spPr>
            <a:xfrm>
              <a:off x="6915240" y="351144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38640" y="358596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61080" y="358596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10320" y="3585960"/>
              <a:ext cx="91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991200" y="369720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RD OF BRE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78600" y="495288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 Gold, you may offer any other Possession.  Only Lord of Bremen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Vonthundahl" descr=""/>
          <p:cNvPicPr/>
          <p:nvPr/>
        </p:nvPicPr>
        <p:blipFill>
          <a:blip r:embed="rId6"/>
          <a:stretch/>
        </p:blipFill>
        <p:spPr>
          <a:xfrm>
            <a:off x="7054920" y="3848040"/>
            <a:ext cx="99864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9" name=""/>
          <p:cNvGrpSpPr/>
          <p:nvPr/>
        </p:nvGrpSpPr>
        <p:grpSpPr>
          <a:xfrm>
            <a:off x="5429160" y="3530520"/>
            <a:ext cx="1281240" cy="2286000"/>
            <a:chOff x="5429160" y="3530520"/>
            <a:chExt cx="1281240" cy="2286000"/>
          </a:xfrm>
        </p:grpSpPr>
        <p:sp>
          <p:nvSpPr>
            <p:cNvPr id="90" name=""/>
            <p:cNvSpPr/>
            <p:nvPr/>
          </p:nvSpPr>
          <p:spPr>
            <a:xfrm>
              <a:off x="5429160" y="353052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52920" y="360504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75360" y="360504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24600" y="360504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505480" y="37162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INCE BLACKM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92880" y="497196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 Gold, you may offer any other Possession.  Only Prince Blackmere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Vonunterhampton" descr=""/>
          <p:cNvPicPr/>
          <p:nvPr/>
        </p:nvPicPr>
        <p:blipFill>
          <a:blip r:embed="rId7"/>
          <a:stretch/>
        </p:blipFill>
        <p:spPr>
          <a:xfrm>
            <a:off x="5581800" y="3867120"/>
            <a:ext cx="100620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97" name=""/>
          <p:cNvGrpSpPr/>
          <p:nvPr/>
        </p:nvGrpSpPr>
        <p:grpSpPr>
          <a:xfrm>
            <a:off x="3956040" y="3530520"/>
            <a:ext cx="1281240" cy="2286000"/>
            <a:chOff x="3956040" y="3530520"/>
            <a:chExt cx="1281240" cy="2286000"/>
          </a:xfrm>
        </p:grpSpPr>
        <p:sp>
          <p:nvSpPr>
            <p:cNvPr id="98" name=""/>
            <p:cNvSpPr/>
            <p:nvPr/>
          </p:nvSpPr>
          <p:spPr>
            <a:xfrm>
              <a:off x="3956040" y="353052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79800" y="360504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02240" y="360504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51480" y="360504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032360" y="371628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QUIRE BLE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9400" y="497196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 Gold, you may offer any other Possession.  Only Squire Bleek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eeble" descr=""/>
          <p:cNvPicPr/>
          <p:nvPr/>
        </p:nvPicPr>
        <p:blipFill>
          <a:blip r:embed="rId8"/>
          <a:stretch/>
        </p:blipFill>
        <p:spPr>
          <a:xfrm>
            <a:off x="4114800" y="3854520"/>
            <a:ext cx="987480" cy="107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05" name=""/>
          <p:cNvGrpSpPr/>
          <p:nvPr/>
        </p:nvGrpSpPr>
        <p:grpSpPr>
          <a:xfrm>
            <a:off x="2495520" y="3505320"/>
            <a:ext cx="1281240" cy="2286000"/>
            <a:chOff x="2495520" y="3505320"/>
            <a:chExt cx="1281240" cy="2286000"/>
          </a:xfrm>
        </p:grpSpPr>
        <p:sp>
          <p:nvSpPr>
            <p:cNvPr id="106" name=""/>
            <p:cNvSpPr/>
            <p:nvPr/>
          </p:nvSpPr>
          <p:spPr>
            <a:xfrm>
              <a:off x="2495520" y="3505320"/>
              <a:ext cx="128124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9280" y="357984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41720" y="3579840"/>
              <a:ext cx="609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90960" y="3579840"/>
              <a:ext cx="9180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71840" y="3691080"/>
            <a:ext cx="11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RCHDUKE OF BL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58880" y="494676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 Gold, you may offer any other Possession.  Only Archduke of Bluth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06560" y="3514680"/>
            <a:ext cx="1280880" cy="2286000"/>
            <a:chOff x="1006560" y="3514680"/>
            <a:chExt cx="1280880" cy="2286000"/>
          </a:xfrm>
        </p:grpSpPr>
        <p:sp>
          <p:nvSpPr>
            <p:cNvPr id="113" name=""/>
            <p:cNvSpPr/>
            <p:nvPr/>
          </p:nvSpPr>
          <p:spPr>
            <a:xfrm>
              <a:off x="1006560" y="3514680"/>
              <a:ext cx="1280880" cy="22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9960" y="3589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52400" y="3589200"/>
              <a:ext cx="609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AL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1640" y="3589200"/>
              <a:ext cx="91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082520" y="3700440"/>
            <a:ext cx="1143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KNIGHT OF BREK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9920" y="4956120"/>
            <a:ext cx="1143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y Player landing here or passing over must pay a tariff of 1 Gold.  Place the Gold token here.  If you have no Gold, you may offer any other Possession.  Only Knight of Brekton may claim any possessions on this space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eeble1" descr=""/>
          <p:cNvPicPr/>
          <p:nvPr/>
        </p:nvPicPr>
        <p:blipFill>
          <a:blip r:embed="rId9"/>
          <a:stretch/>
        </p:blipFill>
        <p:spPr>
          <a:xfrm>
            <a:off x="2641680" y="3835440"/>
            <a:ext cx="97776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0" name="beeble2" descr=""/>
          <p:cNvPicPr/>
          <p:nvPr/>
        </p:nvPicPr>
        <p:blipFill>
          <a:blip r:embed="rId10"/>
          <a:stretch/>
        </p:blipFill>
        <p:spPr>
          <a:xfrm>
            <a:off x="1117440" y="3851280"/>
            <a:ext cx="1009800" cy="11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1-26T21:17:55Z</dcterms:modified>
  <cp:revision>12</cp:revision>
  <dc:subject/>
  <dc:title>PowerPoint Presentation</dc:title>
</cp:coreProperties>
</file>