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BBC1-0CF4-4BC8-A84A-6AC2256A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EF31-DB34-4470-822D-47C47044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53E-3D88-4553-9983-21115C4C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E11-D92F-4BCC-8CA6-2DFA08707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6524-B4B9-4ADB-9CAB-2F891F01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3864-7663-42C8-9119-E4CD7614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E55-8438-4DB4-B16A-2415D974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432-8583-4AE6-A1C9-C550FDE0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EE5-C181-4704-B416-D53E5546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C6A-E1E4-4DD4-A0C5-226D973A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25C-A2AF-433B-A194-BDA62BC4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D590-400D-4972-807C-5429DB34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098D-483B-460F-AC86-4A3A79182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4840" y="985680"/>
            <a:ext cx="8695800" cy="4943520"/>
            <a:chOff x="204840" y="985680"/>
            <a:chExt cx="8695800" cy="4943520"/>
          </a:xfrm>
        </p:grpSpPr>
        <p:pic>
          <p:nvPicPr>
            <p:cNvPr id="42" name="titleback" descr=""/>
            <p:cNvPicPr/>
            <p:nvPr/>
          </p:nvPicPr>
          <p:blipFill>
            <a:blip r:embed="rId1"/>
            <a:stretch/>
          </p:blipFill>
          <p:spPr>
            <a:xfrm>
              <a:off x="204840" y="990720"/>
              <a:ext cx="289548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titleback" descr=""/>
            <p:cNvPicPr/>
            <p:nvPr/>
          </p:nvPicPr>
          <p:blipFill>
            <a:blip r:embed="rId2"/>
            <a:stretch/>
          </p:blipFill>
          <p:spPr>
            <a:xfrm>
              <a:off x="214200" y="3516480"/>
              <a:ext cx="289512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titleback" descr=""/>
            <p:cNvPicPr/>
            <p:nvPr/>
          </p:nvPicPr>
          <p:blipFill>
            <a:blip r:embed="rId3"/>
            <a:stretch/>
          </p:blipFill>
          <p:spPr>
            <a:xfrm>
              <a:off x="3109680" y="985680"/>
              <a:ext cx="2895120" cy="24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titleback" descr=""/>
            <p:cNvPicPr/>
            <p:nvPr/>
          </p:nvPicPr>
          <p:blipFill>
            <a:blip r:embed="rId4"/>
            <a:stretch/>
          </p:blipFill>
          <p:spPr>
            <a:xfrm>
              <a:off x="3119400" y="3511440"/>
              <a:ext cx="2895120" cy="24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titleback" descr=""/>
            <p:cNvPicPr/>
            <p:nvPr/>
          </p:nvPicPr>
          <p:blipFill>
            <a:blip r:embed="rId5"/>
            <a:stretch/>
          </p:blipFill>
          <p:spPr>
            <a:xfrm>
              <a:off x="5995800" y="990720"/>
              <a:ext cx="2895120" cy="24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itleback" descr=""/>
            <p:cNvPicPr/>
            <p:nvPr/>
          </p:nvPicPr>
          <p:blipFill>
            <a:blip r:embed="rId6"/>
            <a:stretch/>
          </p:blipFill>
          <p:spPr>
            <a:xfrm>
              <a:off x="6005160" y="3516480"/>
              <a:ext cx="2895480" cy="241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05:09:22Z</dcterms:created>
  <dc:creator>Paul &amp; Rosanne Morrow</dc:creator>
  <dc:description/>
  <dc:language>en-US</dc:language>
  <cp:lastModifiedBy>Paul &amp; Rosanne Morrow</cp:lastModifiedBy>
  <dcterms:modified xsi:type="dcterms:W3CDTF">2002-01-26T21:18:43Z</dcterms:modified>
  <cp:revision>2</cp:revision>
  <dc:subject/>
  <dc:title>PowerPoint Presentation</dc:title>
</cp:coreProperties>
</file>