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5329-2C44-4D24-AFAD-4298868A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6633-268A-4191-AB51-5701C295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E7A-8CB1-4484-A05B-C7D84D1C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562B-E7BA-426D-AADE-73AEE11B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759-8C8D-4BC5-98A6-C01C0BC5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0B01-D5D1-49C6-94DA-8CE966C2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BF70-B1AD-4B6A-BBDD-99ABE07A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97C-B6F2-4D48-8E12-EFBB025A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00F4-B7BA-4A71-9700-866CAE22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34F1-EA39-4A74-8F80-9F1ED231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323-94E3-4FE4-9996-EF590D7A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861F-2CB4-442A-9EE9-4DEF30C6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9DB7-51FF-4263-B7AA-D602D9083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19080" y="1000080"/>
            <a:ext cx="7344000" cy="4886280"/>
            <a:chOff x="919080" y="1000080"/>
            <a:chExt cx="7344000" cy="4886280"/>
          </a:xfrm>
        </p:grpSpPr>
        <p:pic>
          <p:nvPicPr>
            <p:cNvPr id="42" name="nobleback" descr=""/>
            <p:cNvPicPr/>
            <p:nvPr/>
          </p:nvPicPr>
          <p:blipFill>
            <a:blip r:embed="rId1"/>
            <a:stretch/>
          </p:blipFill>
          <p:spPr>
            <a:xfrm>
              <a:off x="919080" y="1009800"/>
              <a:ext cx="1428840" cy="24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nobleback" descr=""/>
            <p:cNvPicPr/>
            <p:nvPr/>
          </p:nvPicPr>
          <p:blipFill>
            <a:blip r:embed="rId2"/>
            <a:stretch/>
          </p:blipFill>
          <p:spPr>
            <a:xfrm>
              <a:off x="928800" y="3457440"/>
              <a:ext cx="1428480" cy="241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nobleback" descr=""/>
            <p:cNvPicPr/>
            <p:nvPr/>
          </p:nvPicPr>
          <p:blipFill>
            <a:blip r:embed="rId3"/>
            <a:stretch/>
          </p:blipFill>
          <p:spPr>
            <a:xfrm>
              <a:off x="2400480" y="1004760"/>
              <a:ext cx="1428480" cy="241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nobleback" descr=""/>
            <p:cNvPicPr/>
            <p:nvPr/>
          </p:nvPicPr>
          <p:blipFill>
            <a:blip r:embed="rId4"/>
            <a:stretch/>
          </p:blipFill>
          <p:spPr>
            <a:xfrm>
              <a:off x="2409840" y="3452760"/>
              <a:ext cx="1428840" cy="2419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" name=""/>
            <p:cNvGrpSpPr/>
            <p:nvPr/>
          </p:nvGrpSpPr>
          <p:grpSpPr>
            <a:xfrm>
              <a:off x="3862440" y="1014480"/>
              <a:ext cx="2919240" cy="4871880"/>
              <a:chOff x="3862440" y="1014480"/>
              <a:chExt cx="2919240" cy="4871880"/>
            </a:xfrm>
          </p:grpSpPr>
          <p:pic>
            <p:nvPicPr>
              <p:cNvPr id="47" name="nobleback" descr=""/>
              <p:cNvPicPr/>
              <p:nvPr/>
            </p:nvPicPr>
            <p:blipFill>
              <a:blip r:embed="rId5"/>
              <a:stretch/>
            </p:blipFill>
            <p:spPr>
              <a:xfrm>
                <a:off x="3862440" y="1019160"/>
                <a:ext cx="1428840" cy="241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nobleback" descr=""/>
              <p:cNvPicPr/>
              <p:nvPr/>
            </p:nvPicPr>
            <p:blipFill>
              <a:blip r:embed="rId6"/>
              <a:stretch/>
            </p:blipFill>
            <p:spPr>
              <a:xfrm>
                <a:off x="3871800" y="3467160"/>
                <a:ext cx="1428840" cy="241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nobleback" descr=""/>
              <p:cNvPicPr/>
              <p:nvPr/>
            </p:nvPicPr>
            <p:blipFill>
              <a:blip r:embed="rId7"/>
              <a:stretch/>
            </p:blipFill>
            <p:spPr>
              <a:xfrm>
                <a:off x="5343480" y="1014480"/>
                <a:ext cx="1428840" cy="241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nobleback" descr=""/>
              <p:cNvPicPr/>
              <p:nvPr/>
            </p:nvPicPr>
            <p:blipFill>
              <a:blip r:embed="rId8"/>
              <a:stretch/>
            </p:blipFill>
            <p:spPr>
              <a:xfrm>
                <a:off x="5353200" y="3462480"/>
                <a:ext cx="1428480" cy="2419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" name="nobleback" descr=""/>
            <p:cNvPicPr/>
            <p:nvPr/>
          </p:nvPicPr>
          <p:blipFill>
            <a:blip r:embed="rId9"/>
            <a:stretch/>
          </p:blipFill>
          <p:spPr>
            <a:xfrm>
              <a:off x="6824520" y="1000080"/>
              <a:ext cx="1428840" cy="241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nobleback" descr=""/>
            <p:cNvPicPr/>
            <p:nvPr/>
          </p:nvPicPr>
          <p:blipFill>
            <a:blip r:embed="rId10"/>
            <a:stretch/>
          </p:blipFill>
          <p:spPr>
            <a:xfrm>
              <a:off x="6834240" y="3448080"/>
              <a:ext cx="1428840" cy="241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2-01-26T21:16:29Z</dcterms:modified>
  <cp:revision>12</cp:revision>
  <dc:subject/>
  <dc:title>PowerPoint Presentation</dc:title>
</cp:coreProperties>
</file>