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675-2BDC-4D37-B161-7BF3A372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A16F-D3A6-4C5D-B79D-148A771D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BBFC-9F6E-44F5-A051-A9376BE9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194-491E-4D96-88E7-8BB9C538F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00A-9DB5-4779-A290-20E6BB6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373-65BC-488A-8895-A6B0A60C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64D-514B-4610-BD87-90D43F3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92C-15B5-40E5-A5C0-091B30C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C61-5022-441F-B058-A4428194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726-EFA3-481F-96D9-DB18F8F7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E10-65A7-4BB8-A146-958975C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BEB1-30CF-4CED-8867-CE9879A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433C-D340-4CC5-A1F0-B27A88B0F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23840" y="3473280"/>
            <a:ext cx="1281240" cy="2286000"/>
            <a:chOff x="1023840" y="3473280"/>
            <a:chExt cx="1281240" cy="2286000"/>
          </a:xfrm>
        </p:grpSpPr>
        <p:sp>
          <p:nvSpPr>
            <p:cNvPr id="42" name=""/>
            <p:cNvSpPr/>
            <p:nvPr/>
          </p:nvSpPr>
          <p:spPr>
            <a:xfrm>
              <a:off x="1023840" y="34732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47600" y="35478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0040" y="35478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19280" y="35478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00160" y="36590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4759200"/>
            <a:ext cx="1143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have been granted a title by the King. 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73200" y="3473280"/>
            <a:ext cx="1281240" cy="2286000"/>
            <a:chOff x="2473200" y="3473280"/>
            <a:chExt cx="1281240" cy="2286000"/>
          </a:xfrm>
        </p:grpSpPr>
        <p:sp>
          <p:nvSpPr>
            <p:cNvPr id="49" name=""/>
            <p:cNvSpPr/>
            <p:nvPr/>
          </p:nvSpPr>
          <p:spPr>
            <a:xfrm>
              <a:off x="2473200" y="34732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6960" y="35478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19400" y="35478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68640" y="35478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549520" y="36590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36920" y="4759200"/>
            <a:ext cx="1143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have been granted a title by the King. 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03880" y="3479760"/>
            <a:ext cx="1281240" cy="2286000"/>
            <a:chOff x="5303880" y="3479760"/>
            <a:chExt cx="1281240" cy="2286000"/>
          </a:xfrm>
        </p:grpSpPr>
        <p:sp>
          <p:nvSpPr>
            <p:cNvPr id="56" name=""/>
            <p:cNvSpPr/>
            <p:nvPr/>
          </p:nvSpPr>
          <p:spPr>
            <a:xfrm>
              <a:off x="5303880" y="347976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27640" y="355428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50080" y="355428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99320" y="355428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5380200" y="36655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67240" y="47656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read this Scroll at any time on your turn.  You are granted a title of Nobility.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94120" y="3479760"/>
            <a:ext cx="1281240" cy="2286000"/>
            <a:chOff x="3894120" y="3479760"/>
            <a:chExt cx="1281240" cy="2286000"/>
          </a:xfrm>
        </p:grpSpPr>
        <p:sp>
          <p:nvSpPr>
            <p:cNvPr id="63" name=""/>
            <p:cNvSpPr/>
            <p:nvPr/>
          </p:nvSpPr>
          <p:spPr>
            <a:xfrm>
              <a:off x="3894120" y="347976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17880" y="355428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40320" y="355428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PE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89560" y="355428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970440" y="366552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7480" y="476568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read this Scroll at any time on your turn.  You are granted a title of Nobility.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23840" y="1028880"/>
            <a:ext cx="1281240" cy="2286000"/>
            <a:chOff x="1023840" y="1028880"/>
            <a:chExt cx="1281240" cy="2286000"/>
          </a:xfrm>
        </p:grpSpPr>
        <p:sp>
          <p:nvSpPr>
            <p:cNvPr id="70" name=""/>
            <p:cNvSpPr/>
            <p:nvPr/>
          </p:nvSpPr>
          <p:spPr>
            <a:xfrm>
              <a:off x="1023840" y="10288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47600" y="11034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70040" y="11034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19280" y="11034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100160" y="12142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87560" y="2314440"/>
            <a:ext cx="1143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have been granted a title by the King. 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admiral" descr=""/>
          <p:cNvPicPr/>
          <p:nvPr/>
        </p:nvPicPr>
        <p:blipFill>
          <a:blip r:embed="rId1"/>
          <a:stretch/>
        </p:blipFill>
        <p:spPr>
          <a:xfrm>
            <a:off x="1176480" y="1409760"/>
            <a:ext cx="99036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7" name=""/>
          <p:cNvGrpSpPr/>
          <p:nvPr/>
        </p:nvGrpSpPr>
        <p:grpSpPr>
          <a:xfrm>
            <a:off x="2473200" y="1028880"/>
            <a:ext cx="1281240" cy="2286000"/>
            <a:chOff x="2473200" y="1028880"/>
            <a:chExt cx="1281240" cy="2286000"/>
          </a:xfrm>
        </p:grpSpPr>
        <p:sp>
          <p:nvSpPr>
            <p:cNvPr id="78" name=""/>
            <p:cNvSpPr/>
            <p:nvPr/>
          </p:nvSpPr>
          <p:spPr>
            <a:xfrm>
              <a:off x="2473200" y="10288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96960" y="11034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19400" y="11034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VEN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68640" y="1103400"/>
              <a:ext cx="91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549520" y="12142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36920" y="2314440"/>
            <a:ext cx="1143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have been granted a title by the King. 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admiral" descr=""/>
          <p:cNvPicPr/>
          <p:nvPr/>
        </p:nvPicPr>
        <p:blipFill>
          <a:blip r:embed="rId2"/>
          <a:stretch/>
        </p:blipFill>
        <p:spPr>
          <a:xfrm>
            <a:off x="2625840" y="1409760"/>
            <a:ext cx="99036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admiral" descr=""/>
          <p:cNvPicPr/>
          <p:nvPr/>
        </p:nvPicPr>
        <p:blipFill>
          <a:blip r:embed="rId3"/>
          <a:stretch/>
        </p:blipFill>
        <p:spPr>
          <a:xfrm>
            <a:off x="1176480" y="3854520"/>
            <a:ext cx="99036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6" name="admiral" descr=""/>
          <p:cNvPicPr/>
          <p:nvPr/>
        </p:nvPicPr>
        <p:blipFill>
          <a:blip r:embed="rId4"/>
          <a:stretch/>
        </p:blipFill>
        <p:spPr>
          <a:xfrm>
            <a:off x="2625840" y="3854520"/>
            <a:ext cx="99036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admiral" descr=""/>
          <p:cNvPicPr/>
          <p:nvPr/>
        </p:nvPicPr>
        <p:blipFill>
          <a:blip r:embed="rId5"/>
          <a:stretch/>
        </p:blipFill>
        <p:spPr>
          <a:xfrm>
            <a:off x="5456160" y="3860640"/>
            <a:ext cx="990720" cy="78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8" name="admiral" descr=""/>
          <p:cNvPicPr/>
          <p:nvPr/>
        </p:nvPicPr>
        <p:blipFill>
          <a:blip r:embed="rId6"/>
          <a:stretch/>
        </p:blipFill>
        <p:spPr>
          <a:xfrm>
            <a:off x="4046400" y="3860640"/>
            <a:ext cx="990720" cy="78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5316480" y="1047600"/>
            <a:ext cx="1281240" cy="2286000"/>
            <a:chOff x="5316480" y="1047600"/>
            <a:chExt cx="1281240" cy="2286000"/>
          </a:xfrm>
        </p:grpSpPr>
        <p:sp>
          <p:nvSpPr>
            <p:cNvPr id="90" name=""/>
            <p:cNvSpPr/>
            <p:nvPr/>
          </p:nvSpPr>
          <p:spPr>
            <a:xfrm>
              <a:off x="5316480" y="104760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40240" y="11221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2680" y="11221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1920" y="112212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392800" y="12333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80200" y="233352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read this Scroll at any time on your turn.  You are granted a title of Nobility.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dmiral" descr=""/>
          <p:cNvPicPr/>
          <p:nvPr/>
        </p:nvPicPr>
        <p:blipFill>
          <a:blip r:embed="rId7"/>
          <a:stretch/>
        </p:blipFill>
        <p:spPr>
          <a:xfrm>
            <a:off x="5468760" y="1428840"/>
            <a:ext cx="99072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7" name=""/>
          <p:cNvGrpSpPr/>
          <p:nvPr/>
        </p:nvGrpSpPr>
        <p:grpSpPr>
          <a:xfrm>
            <a:off x="3906720" y="1047600"/>
            <a:ext cx="1281240" cy="2286000"/>
            <a:chOff x="3906720" y="1047600"/>
            <a:chExt cx="1281240" cy="2286000"/>
          </a:xfrm>
        </p:grpSpPr>
        <p:sp>
          <p:nvSpPr>
            <p:cNvPr id="98" name=""/>
            <p:cNvSpPr/>
            <p:nvPr/>
          </p:nvSpPr>
          <p:spPr>
            <a:xfrm>
              <a:off x="3906720" y="104760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30480" y="11221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52920" y="112212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CROL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02160" y="112212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983040" y="123336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NTIT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70440" y="2333520"/>
            <a:ext cx="11430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You may read this Scroll at any time on your turn.  You are granted a title of Nobility. Draw a Nobleman Card and claim your Real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dmiral" descr=""/>
          <p:cNvPicPr/>
          <p:nvPr/>
        </p:nvPicPr>
        <p:blipFill>
          <a:blip r:embed="rId8"/>
          <a:stretch/>
        </p:blipFill>
        <p:spPr>
          <a:xfrm>
            <a:off x="4059360" y="1428840"/>
            <a:ext cx="990360" cy="78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00:10:11Z</dcterms:created>
  <dc:creator>Paul &amp; Rosanne Morrow</dc:creator>
  <dc:description/>
  <dc:language>en-US</dc:language>
  <cp:lastModifiedBy>Paul &amp; Rosanne Morrow</cp:lastModifiedBy>
  <dcterms:modified xsi:type="dcterms:W3CDTF">2002-01-26T21:17:17Z</dcterms:modified>
  <cp:revision>4</cp:revision>
  <dc:subject/>
  <dc:title>PowerPoint Presentation</dc:title>
</cp:coreProperties>
</file>