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F54E-C86A-4AC6-8268-CADB8782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A7F7-5C3C-46CF-ABF0-4549102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619-98A2-4AB0-BA40-4100B03A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E7C-B778-44D9-903D-F098E329E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75F4-58FA-4967-B1D0-7D0B4DE8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230-2AFA-4341-B038-C0E65CDF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E2A-C76F-43EF-A732-63C2E034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E2C4-29AF-4676-A21E-BB68D8AF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BFAA-B747-4A3D-BC78-8450BC90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4F02-A1A1-46D2-BE0B-94126AE3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BA4-8DDC-4E99-93EB-A01675F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879-086E-4263-B821-850218A7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FE03-DA0A-42B2-A605-EAAEF6A66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6120" y="1028880"/>
            <a:ext cx="27241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7680" y="1028880"/>
            <a:ext cx="27241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7016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INCE BLACKM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1143000"/>
            <a:ext cx="1523880" cy="207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Whenever you visit or pass over the Village Space without a horse you will be offered one by the villagers.  Take one from the Purchase de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27480" y="2270160"/>
            <a:ext cx="914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QUIRE BLEE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86160" y="1143000"/>
            <a:ext cx="1524240" cy="207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Each Follower of yours may use a Sword or Axe and you may send any Follower into Combat for you.  Killed Followers are discarded as are their weap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86520" y="1028880"/>
            <a:ext cx="27241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57880" y="2270160"/>
            <a:ext cx="82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ARCHDUKE OF BL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16920" y="1143000"/>
            <a:ext cx="1523880" cy="171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Your piety is so great you may add 2 to ANY die ro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7960" y="3505320"/>
            <a:ext cx="272448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4746600"/>
            <a:ext cx="82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KNIGHT OF BREK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68360" y="3619440"/>
            <a:ext cx="1524240" cy="195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Your fighting skills are unsurpassed.  In Combat you may roll a D8 and may add 1 to your die ro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Vonunterhampton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100620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beeble" descr=""/>
          <p:cNvPicPr/>
          <p:nvPr/>
        </p:nvPicPr>
        <p:blipFill>
          <a:blip r:embed="rId2"/>
          <a:stretch/>
        </p:blipFill>
        <p:spPr>
          <a:xfrm>
            <a:off x="3238560" y="1143000"/>
            <a:ext cx="987480" cy="1076400"/>
          </a:xfrm>
          <a:prstGeom prst="rect">
            <a:avLst/>
          </a:prstGeom>
          <a:ln w="0">
            <a:noFill/>
          </a:ln>
        </p:spPr>
      </p:pic>
      <p:pic>
        <p:nvPicPr>
          <p:cNvPr id="55" name="beeble1" descr=""/>
          <p:cNvPicPr/>
          <p:nvPr/>
        </p:nvPicPr>
        <p:blipFill>
          <a:blip r:embed="rId3"/>
          <a:stretch/>
        </p:blipFill>
        <p:spPr>
          <a:xfrm>
            <a:off x="6165720" y="1104840"/>
            <a:ext cx="1009800" cy="1101960"/>
          </a:xfrm>
          <a:prstGeom prst="rect">
            <a:avLst/>
          </a:prstGeom>
          <a:ln w="0">
            <a:noFill/>
          </a:ln>
        </p:spPr>
      </p:pic>
      <p:pic>
        <p:nvPicPr>
          <p:cNvPr id="56" name="beeble2" descr=""/>
          <p:cNvPicPr/>
          <p:nvPr/>
        </p:nvPicPr>
        <p:blipFill>
          <a:blip r:embed="rId4"/>
          <a:stretch/>
        </p:blipFill>
        <p:spPr>
          <a:xfrm>
            <a:off x="298440" y="3581280"/>
            <a:ext cx="100980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1-26T21:15:03Z</dcterms:modified>
  <cp:revision>15</cp:revision>
  <dc:subject/>
  <dc:title>PowerPoint Presentation</dc:title>
</cp:coreProperties>
</file>