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FFE7-5AB1-40C2-93FF-495A9B506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ED09-A0C0-4735-8E9A-87F158F27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60BC-15D5-4D6F-83BA-2264656D4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F50F-2BB0-4096-8CDA-40AB348D0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07CC-63AF-4F62-BCC1-9490CD405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B775-B916-401B-8CED-2913980C7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B703-6B1B-4F01-AE78-F16BD0E3F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9914-A003-4E86-A604-6F3C51F06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80CE-DDDF-4C44-A3A3-5CC31EC85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CC10-CD9B-4AE4-8815-12B8CD8B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6CF2-4036-4BE3-BE07-B7C2FE60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150C-39AD-477E-A7C4-0284ADDD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6B7C2-BBD8-4E08-BFCB-FF586D5D7B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33440" y="2346480"/>
            <a:ext cx="5907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990720" y="1085760"/>
            <a:ext cx="1282680" cy="2286000"/>
            <a:chOff x="990720" y="1085760"/>
            <a:chExt cx="1282680" cy="2286000"/>
          </a:xfrm>
        </p:grpSpPr>
        <p:grpSp>
          <p:nvGrpSpPr>
            <p:cNvPr id="43" name=""/>
            <p:cNvGrpSpPr/>
            <p:nvPr/>
          </p:nvGrpSpPr>
          <p:grpSpPr>
            <a:xfrm>
              <a:off x="990720" y="1085760"/>
              <a:ext cx="1280880" cy="2286000"/>
              <a:chOff x="990720" y="1085760"/>
              <a:chExt cx="1280880" cy="2286000"/>
            </a:xfrm>
          </p:grpSpPr>
          <p:sp>
            <p:nvSpPr>
              <p:cNvPr id="44" name=""/>
              <p:cNvSpPr/>
              <p:nvPr/>
            </p:nvSpPr>
            <p:spPr>
              <a:xfrm>
                <a:off x="990720" y="108576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1014120" y="116028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POTIO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636560" y="116028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POTIO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1585800" y="1160280"/>
                <a:ext cx="9180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" name=""/>
            <p:cNvSpPr/>
            <p:nvPr/>
          </p:nvSpPr>
          <p:spPr>
            <a:xfrm>
              <a:off x="1066680" y="1271520"/>
              <a:ext cx="11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POTION OF STRENG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41480" y="2641680"/>
              <a:ext cx="1231920" cy="6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You may drink this just before any Combat.  Roll 1D6 and add the result to your Strength for one Combat only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" name="Potion%20Pic" descr=""/>
            <p:cNvPicPr/>
            <p:nvPr/>
          </p:nvPicPr>
          <p:blipFill>
            <a:blip r:embed="rId1"/>
            <a:stretch/>
          </p:blipFill>
          <p:spPr>
            <a:xfrm>
              <a:off x="1300320" y="1514520"/>
              <a:ext cx="682560" cy="1066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51" name=""/>
          <p:cNvGrpSpPr/>
          <p:nvPr/>
        </p:nvGrpSpPr>
        <p:grpSpPr>
          <a:xfrm>
            <a:off x="2514600" y="1081080"/>
            <a:ext cx="1282680" cy="2286360"/>
            <a:chOff x="2514600" y="1081080"/>
            <a:chExt cx="1282680" cy="2286360"/>
          </a:xfrm>
        </p:grpSpPr>
        <p:grpSp>
          <p:nvGrpSpPr>
            <p:cNvPr id="52" name=""/>
            <p:cNvGrpSpPr/>
            <p:nvPr/>
          </p:nvGrpSpPr>
          <p:grpSpPr>
            <a:xfrm>
              <a:off x="2514600" y="1081080"/>
              <a:ext cx="1280880" cy="2286000"/>
              <a:chOff x="2514600" y="1081080"/>
              <a:chExt cx="1280880" cy="2286000"/>
            </a:xfrm>
          </p:grpSpPr>
          <p:sp>
            <p:nvSpPr>
              <p:cNvPr id="53" name=""/>
              <p:cNvSpPr/>
              <p:nvPr/>
            </p:nvSpPr>
            <p:spPr>
              <a:xfrm>
                <a:off x="2514600" y="108108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38000" y="115560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POTIO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160440" y="115560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POTIO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109680" y="1155600"/>
                <a:ext cx="9180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2590560" y="1266840"/>
              <a:ext cx="11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POTION OF DRAGON CONTR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565360" y="2637000"/>
              <a:ext cx="123192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You may drink this just as you Encounter any Dragon.  You may send the Dragon off to fight any other Character, except in the Dungeon &amp; Timescape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" name="Potion%20Pic" descr=""/>
            <p:cNvPicPr/>
            <p:nvPr/>
          </p:nvPicPr>
          <p:blipFill>
            <a:blip r:embed="rId2"/>
            <a:stretch/>
          </p:blipFill>
          <p:spPr>
            <a:xfrm>
              <a:off x="2824200" y="1509840"/>
              <a:ext cx="682560" cy="1066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60" name=""/>
          <p:cNvGrpSpPr/>
          <p:nvPr/>
        </p:nvGrpSpPr>
        <p:grpSpPr>
          <a:xfrm>
            <a:off x="3962520" y="1081080"/>
            <a:ext cx="1282680" cy="2286000"/>
            <a:chOff x="3962520" y="1081080"/>
            <a:chExt cx="1282680" cy="2286000"/>
          </a:xfrm>
        </p:grpSpPr>
        <p:grpSp>
          <p:nvGrpSpPr>
            <p:cNvPr id="61" name=""/>
            <p:cNvGrpSpPr/>
            <p:nvPr/>
          </p:nvGrpSpPr>
          <p:grpSpPr>
            <a:xfrm>
              <a:off x="3962520" y="1081080"/>
              <a:ext cx="1280880" cy="2286000"/>
              <a:chOff x="3962520" y="1081080"/>
              <a:chExt cx="1280880" cy="2286000"/>
            </a:xfrm>
          </p:grpSpPr>
          <p:sp>
            <p:nvSpPr>
              <p:cNvPr id="62" name=""/>
              <p:cNvSpPr/>
              <p:nvPr/>
            </p:nvSpPr>
            <p:spPr>
              <a:xfrm>
                <a:off x="3962520" y="108108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985920" y="115560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POTIO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608360" y="115560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POTIO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557600" y="1155600"/>
                <a:ext cx="9180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" name=""/>
            <p:cNvSpPr/>
            <p:nvPr/>
          </p:nvSpPr>
          <p:spPr>
            <a:xfrm>
              <a:off x="4038480" y="1266840"/>
              <a:ext cx="11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POTION OF DUPLI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013280" y="2637000"/>
              <a:ext cx="12319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You may drink this as needed.  It creates a duplicate of your Character which lasts for one full Round of play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" name="Potion%20Pic" descr=""/>
            <p:cNvPicPr/>
            <p:nvPr/>
          </p:nvPicPr>
          <p:blipFill>
            <a:blip r:embed="rId3"/>
            <a:stretch/>
          </p:blipFill>
          <p:spPr>
            <a:xfrm>
              <a:off x="4272120" y="1509840"/>
              <a:ext cx="682560" cy="1066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69" name=""/>
          <p:cNvGrpSpPr/>
          <p:nvPr/>
        </p:nvGrpSpPr>
        <p:grpSpPr>
          <a:xfrm>
            <a:off x="1004760" y="3519360"/>
            <a:ext cx="1282680" cy="2286000"/>
            <a:chOff x="1004760" y="3519360"/>
            <a:chExt cx="1282680" cy="2286000"/>
          </a:xfrm>
        </p:grpSpPr>
        <p:grpSp>
          <p:nvGrpSpPr>
            <p:cNvPr id="70" name=""/>
            <p:cNvGrpSpPr/>
            <p:nvPr/>
          </p:nvGrpSpPr>
          <p:grpSpPr>
            <a:xfrm>
              <a:off x="1004760" y="3519360"/>
              <a:ext cx="1280880" cy="2286000"/>
              <a:chOff x="1004760" y="3519360"/>
              <a:chExt cx="1280880" cy="2286000"/>
            </a:xfrm>
          </p:grpSpPr>
          <p:sp>
            <p:nvSpPr>
              <p:cNvPr id="71" name=""/>
              <p:cNvSpPr/>
              <p:nvPr/>
            </p:nvSpPr>
            <p:spPr>
              <a:xfrm>
                <a:off x="1004760" y="351936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028160" y="359388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POTIO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650600" y="359388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POTIO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599840" y="3593880"/>
                <a:ext cx="9180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>
              <a:off x="1080720" y="370512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POTION OF WISDO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055520" y="5075280"/>
              <a:ext cx="1231920" cy="6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You may drink this just before any Psychic Combat.  Roll 1D6 and add the result to your Craft for one Psychic Combat only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7" name="Potion%20Pic" descr=""/>
            <p:cNvPicPr/>
            <p:nvPr/>
          </p:nvPicPr>
          <p:blipFill>
            <a:blip r:embed="rId4"/>
            <a:stretch/>
          </p:blipFill>
          <p:spPr>
            <a:xfrm>
              <a:off x="1314360" y="3948120"/>
              <a:ext cx="682560" cy="1066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78" name=""/>
          <p:cNvGrpSpPr/>
          <p:nvPr/>
        </p:nvGrpSpPr>
        <p:grpSpPr>
          <a:xfrm>
            <a:off x="5448240" y="1076400"/>
            <a:ext cx="1282680" cy="2286000"/>
            <a:chOff x="5448240" y="1076400"/>
            <a:chExt cx="1282680" cy="2286000"/>
          </a:xfrm>
        </p:grpSpPr>
        <p:grpSp>
          <p:nvGrpSpPr>
            <p:cNvPr id="79" name=""/>
            <p:cNvGrpSpPr/>
            <p:nvPr/>
          </p:nvGrpSpPr>
          <p:grpSpPr>
            <a:xfrm>
              <a:off x="5448240" y="1076400"/>
              <a:ext cx="1280880" cy="2286000"/>
              <a:chOff x="5448240" y="1076400"/>
              <a:chExt cx="1280880" cy="2286000"/>
            </a:xfrm>
          </p:grpSpPr>
          <p:sp>
            <p:nvSpPr>
              <p:cNvPr id="80" name=""/>
              <p:cNvSpPr/>
              <p:nvPr/>
            </p:nvSpPr>
            <p:spPr>
              <a:xfrm>
                <a:off x="5448240" y="107640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471640" y="115092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POTIO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094080" y="115092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POTIO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043320" y="1150920"/>
                <a:ext cx="9180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5524200" y="1262160"/>
              <a:ext cx="11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POTION OF DISPEL MAGI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499000" y="2632320"/>
              <a:ext cx="12319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You may drink this as needed.  It will Dispel any Spell or Scroll cast directly on you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" name="Potion%20Pic" descr=""/>
            <p:cNvPicPr/>
            <p:nvPr/>
          </p:nvPicPr>
          <p:blipFill>
            <a:blip r:embed="rId5"/>
            <a:stretch/>
          </p:blipFill>
          <p:spPr>
            <a:xfrm>
              <a:off x="5757840" y="1505160"/>
              <a:ext cx="682560" cy="1066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87" name=""/>
          <p:cNvGrpSpPr/>
          <p:nvPr/>
        </p:nvGrpSpPr>
        <p:grpSpPr>
          <a:xfrm>
            <a:off x="6934320" y="1081080"/>
            <a:ext cx="1282680" cy="2286000"/>
            <a:chOff x="6934320" y="1081080"/>
            <a:chExt cx="1282680" cy="2286000"/>
          </a:xfrm>
        </p:grpSpPr>
        <p:grpSp>
          <p:nvGrpSpPr>
            <p:cNvPr id="88" name=""/>
            <p:cNvGrpSpPr/>
            <p:nvPr/>
          </p:nvGrpSpPr>
          <p:grpSpPr>
            <a:xfrm>
              <a:off x="6934320" y="1081080"/>
              <a:ext cx="1280880" cy="2286000"/>
              <a:chOff x="6934320" y="1081080"/>
              <a:chExt cx="1280880" cy="2286000"/>
            </a:xfrm>
          </p:grpSpPr>
          <p:sp>
            <p:nvSpPr>
              <p:cNvPr id="89" name=""/>
              <p:cNvSpPr/>
              <p:nvPr/>
            </p:nvSpPr>
            <p:spPr>
              <a:xfrm>
                <a:off x="6934320" y="108108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957720" y="115560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POTIO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580160" y="115560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POTIO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529400" y="1155600"/>
                <a:ext cx="9180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7010280" y="1266840"/>
              <a:ext cx="11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POTION OF IMMUN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985080" y="2637000"/>
              <a:ext cx="12319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You may drink this as needed.  It will allow you to ignore the effect of any Even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5" name="Potion%20Pic" descr=""/>
            <p:cNvPicPr/>
            <p:nvPr/>
          </p:nvPicPr>
          <p:blipFill>
            <a:blip r:embed="rId6"/>
            <a:stretch/>
          </p:blipFill>
          <p:spPr>
            <a:xfrm>
              <a:off x="7243920" y="1509840"/>
              <a:ext cx="682560" cy="1066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96" name=""/>
          <p:cNvGrpSpPr/>
          <p:nvPr/>
        </p:nvGrpSpPr>
        <p:grpSpPr>
          <a:xfrm>
            <a:off x="6948360" y="3519360"/>
            <a:ext cx="1282680" cy="2286000"/>
            <a:chOff x="6948360" y="3519360"/>
            <a:chExt cx="1282680" cy="2286000"/>
          </a:xfrm>
        </p:grpSpPr>
        <p:grpSp>
          <p:nvGrpSpPr>
            <p:cNvPr id="97" name=""/>
            <p:cNvGrpSpPr/>
            <p:nvPr/>
          </p:nvGrpSpPr>
          <p:grpSpPr>
            <a:xfrm>
              <a:off x="6948360" y="3519360"/>
              <a:ext cx="1280880" cy="2286000"/>
              <a:chOff x="6948360" y="3519360"/>
              <a:chExt cx="1280880" cy="2286000"/>
            </a:xfrm>
          </p:grpSpPr>
          <p:sp>
            <p:nvSpPr>
              <p:cNvPr id="98" name=""/>
              <p:cNvSpPr/>
              <p:nvPr/>
            </p:nvSpPr>
            <p:spPr>
              <a:xfrm>
                <a:off x="6948360" y="351936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971760" y="359388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POTIO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594200" y="359388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POTIO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543440" y="3593880"/>
                <a:ext cx="9180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7024320" y="3705120"/>
              <a:ext cx="11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POTION OF FOLLOW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99120" y="5075280"/>
              <a:ext cx="1231920" cy="6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You may drink this as needed.  It will enable you to take on the ability of one Follower anywhere in play.  It lasts for one full Round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4" name="Potion%20Pic" descr=""/>
            <p:cNvPicPr/>
            <p:nvPr/>
          </p:nvPicPr>
          <p:blipFill>
            <a:blip r:embed="rId7"/>
            <a:stretch/>
          </p:blipFill>
          <p:spPr>
            <a:xfrm>
              <a:off x="7257960" y="3948120"/>
              <a:ext cx="682560" cy="1066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5452920" y="3519360"/>
            <a:ext cx="1282680" cy="2286000"/>
            <a:chOff x="5452920" y="3519360"/>
            <a:chExt cx="1282680" cy="2286000"/>
          </a:xfrm>
        </p:grpSpPr>
        <p:grpSp>
          <p:nvGrpSpPr>
            <p:cNvPr id="106" name=""/>
            <p:cNvGrpSpPr/>
            <p:nvPr/>
          </p:nvGrpSpPr>
          <p:grpSpPr>
            <a:xfrm>
              <a:off x="5452920" y="3519360"/>
              <a:ext cx="1280880" cy="2286000"/>
              <a:chOff x="5452920" y="3519360"/>
              <a:chExt cx="1280880" cy="2286000"/>
            </a:xfrm>
          </p:grpSpPr>
          <p:sp>
            <p:nvSpPr>
              <p:cNvPr id="107" name=""/>
              <p:cNvSpPr/>
              <p:nvPr/>
            </p:nvSpPr>
            <p:spPr>
              <a:xfrm>
                <a:off x="5452920" y="351936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476320" y="359388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POTIO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098760" y="359388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POTIO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48000" y="3593880"/>
                <a:ext cx="9180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5528880" y="370512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POTION OF HEAL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03680" y="5075280"/>
              <a:ext cx="12319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You may drink this as needed.  It will Heal you up to your starting quota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3" name="Potion%20Pic" descr=""/>
            <p:cNvPicPr/>
            <p:nvPr/>
          </p:nvPicPr>
          <p:blipFill>
            <a:blip r:embed="rId8"/>
            <a:stretch/>
          </p:blipFill>
          <p:spPr>
            <a:xfrm>
              <a:off x="5762520" y="3948120"/>
              <a:ext cx="682560" cy="1066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114" name=""/>
          <p:cNvGrpSpPr/>
          <p:nvPr/>
        </p:nvGrpSpPr>
        <p:grpSpPr>
          <a:xfrm>
            <a:off x="3976560" y="3519360"/>
            <a:ext cx="1282680" cy="2286000"/>
            <a:chOff x="3976560" y="3519360"/>
            <a:chExt cx="1282680" cy="2286000"/>
          </a:xfrm>
        </p:grpSpPr>
        <p:grpSp>
          <p:nvGrpSpPr>
            <p:cNvPr id="115" name=""/>
            <p:cNvGrpSpPr/>
            <p:nvPr/>
          </p:nvGrpSpPr>
          <p:grpSpPr>
            <a:xfrm>
              <a:off x="3976560" y="3519360"/>
              <a:ext cx="1280880" cy="2286000"/>
              <a:chOff x="3976560" y="3519360"/>
              <a:chExt cx="1280880" cy="2286000"/>
            </a:xfrm>
          </p:grpSpPr>
          <p:sp>
            <p:nvSpPr>
              <p:cNvPr id="116" name=""/>
              <p:cNvSpPr/>
              <p:nvPr/>
            </p:nvSpPr>
            <p:spPr>
              <a:xfrm>
                <a:off x="3976560" y="351936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999960" y="359388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POTIO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622400" y="359388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POTIO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571640" y="3593880"/>
                <a:ext cx="9180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4052520" y="370512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POTION OF LIV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27320" y="5075280"/>
              <a:ext cx="12319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You may drink this as needed.  Roll 1D6.  It will give you this many live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2" name="Potion%20Pic" descr=""/>
            <p:cNvPicPr/>
            <p:nvPr/>
          </p:nvPicPr>
          <p:blipFill>
            <a:blip r:embed="rId9"/>
            <a:stretch/>
          </p:blipFill>
          <p:spPr>
            <a:xfrm>
              <a:off x="4286160" y="3948120"/>
              <a:ext cx="682560" cy="1066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123" name=""/>
          <p:cNvGrpSpPr/>
          <p:nvPr/>
        </p:nvGrpSpPr>
        <p:grpSpPr>
          <a:xfrm>
            <a:off x="2529000" y="3519360"/>
            <a:ext cx="1280880" cy="2286000"/>
            <a:chOff x="2529000" y="3519360"/>
            <a:chExt cx="1280880" cy="2286000"/>
          </a:xfrm>
        </p:grpSpPr>
        <p:grpSp>
          <p:nvGrpSpPr>
            <p:cNvPr id="124" name=""/>
            <p:cNvGrpSpPr/>
            <p:nvPr/>
          </p:nvGrpSpPr>
          <p:grpSpPr>
            <a:xfrm>
              <a:off x="2529000" y="3519360"/>
              <a:ext cx="1280880" cy="2286000"/>
              <a:chOff x="2529000" y="3519360"/>
              <a:chExt cx="1280880" cy="2286000"/>
            </a:xfrm>
          </p:grpSpPr>
          <p:sp>
            <p:nvSpPr>
              <p:cNvPr id="125" name=""/>
              <p:cNvSpPr/>
              <p:nvPr/>
            </p:nvSpPr>
            <p:spPr>
              <a:xfrm>
                <a:off x="2529000" y="351936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552400" y="359388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POTIO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74840" y="359388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POTIO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124080" y="3593880"/>
                <a:ext cx="9180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2590920" y="369108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POTION OF SPELL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2579760" y="5008680"/>
            <a:ext cx="1231920" cy="8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You may drink this just as another Player casts a Spell.  It will allow you to take the discarded Spell, even if you do not have enough Craft, but you must cast it immediatel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otion%20Pic" descr=""/>
          <p:cNvPicPr/>
          <p:nvPr/>
        </p:nvPicPr>
        <p:blipFill>
          <a:blip r:embed="rId10"/>
          <a:stretch/>
        </p:blipFill>
        <p:spPr>
          <a:xfrm>
            <a:off x="2838600" y="3881520"/>
            <a:ext cx="682560" cy="106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1:14:26Z</dcterms:created>
  <dc:creator>Paul &amp; Rosanne Morrow</dc:creator>
  <dc:description/>
  <dc:language>en-US</dc:language>
  <cp:lastModifiedBy>Paul &amp; Rosanne Morrow</cp:lastModifiedBy>
  <dcterms:modified xsi:type="dcterms:W3CDTF">2001-11-11T08:34:35Z</dcterms:modified>
  <cp:revision>11</cp:revision>
  <dc:subject/>
  <dc:title>PowerPoint Presentation</dc:title>
</cp:coreProperties>
</file>