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DE4-2CDB-41D5-A978-C8BD4877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E74-A137-4AA4-A715-209008A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042-0B29-4330-A7E1-1C172357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4E5-B446-454F-8766-7F2B760C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3A-1F2C-4156-BCF4-8FB46B8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E33-A3DD-4DF8-9507-F9300B3F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A00-6618-457A-83CA-32508B19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89E-75F7-49EC-A479-67FCC76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2E5-2477-4B20-8752-D47B99DC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600-B105-4EF9-B60C-1571CAA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596-49D2-4947-9B23-E340369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505-3BE7-4036-88B9-9A8BAD5B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C9A5-7BD7-45DD-8727-C2C51E595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42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1412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365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85800" y="114120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666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OL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54080" y="2565360"/>
            <a:ext cx="1143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This Scroll may be read just before Combat.  You must indicate a target Player or Enemy.   It increases the target's Strength by 1D8 for the duration of one Combat only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olster" descr=""/>
          <p:cNvPicPr/>
          <p:nvPr/>
        </p:nvPicPr>
        <p:blipFill>
          <a:blip r:embed="rId1"/>
          <a:stretch/>
        </p:blipFill>
        <p:spPr>
          <a:xfrm>
            <a:off x="1143000" y="1417680"/>
            <a:ext cx="990720" cy="97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" name=""/>
          <p:cNvGrpSpPr/>
          <p:nvPr/>
        </p:nvGrpSpPr>
        <p:grpSpPr>
          <a:xfrm>
            <a:off x="2514600" y="1066680"/>
            <a:ext cx="1281240" cy="2286000"/>
            <a:chOff x="2514600" y="1066680"/>
            <a:chExt cx="1281240" cy="2286000"/>
          </a:xfrm>
        </p:grpSpPr>
        <p:sp>
          <p:nvSpPr>
            <p:cNvPr id="50" name=""/>
            <p:cNvSpPr/>
            <p:nvPr/>
          </p:nvSpPr>
          <p:spPr>
            <a:xfrm>
              <a:off x="2514600" y="10666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3836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080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10040" y="114120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59092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RANSMU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77960" y="256536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ou may read this Scroll as required.  You must indicate a target Player.  It transmutes all non-magical Swords, Axes, Armor, Shields, Helmets and Gold into wood, rendering them useless.  They must discard all these possessions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08120" y="3537000"/>
            <a:ext cx="1281240" cy="2286000"/>
            <a:chOff x="2508120" y="3537000"/>
            <a:chExt cx="1281240" cy="2286000"/>
          </a:xfrm>
        </p:grpSpPr>
        <p:sp>
          <p:nvSpPr>
            <p:cNvPr id="57" name=""/>
            <p:cNvSpPr/>
            <p:nvPr/>
          </p:nvSpPr>
          <p:spPr>
            <a:xfrm>
              <a:off x="2508120" y="353700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31880" y="36115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54320" y="36115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3560" y="361152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584440" y="3722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LADESHA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71840" y="503568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ou may read this Scroll at the start of any Combat in which a weapon is used.  The weapon will add an additional 2 to the users Strength.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84240" y="3537000"/>
            <a:ext cx="1281240" cy="2286000"/>
            <a:chOff x="984240" y="3537000"/>
            <a:chExt cx="1281240" cy="2286000"/>
          </a:xfrm>
        </p:grpSpPr>
        <p:sp>
          <p:nvSpPr>
            <p:cNvPr id="64" name=""/>
            <p:cNvSpPr/>
            <p:nvPr/>
          </p:nvSpPr>
          <p:spPr>
            <a:xfrm>
              <a:off x="984240" y="353700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8000" y="36115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30440" y="36115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79680" y="361152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60560" y="37227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R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47600" y="5035680"/>
            <a:ext cx="11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ou may read this Scroll as required.  When read you may roll 1D6 and take that many Gold from the stockpil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1073160"/>
            <a:ext cx="1280880" cy="2286000"/>
            <a:chOff x="3962520" y="1073160"/>
            <a:chExt cx="1280880" cy="2286000"/>
          </a:xfrm>
        </p:grpSpPr>
        <p:sp>
          <p:nvSpPr>
            <p:cNvPr id="71" name=""/>
            <p:cNvSpPr/>
            <p:nvPr/>
          </p:nvSpPr>
          <p:spPr>
            <a:xfrm>
              <a:off x="3962520" y="107316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5920" y="114768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08360" y="114768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57600" y="114768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0384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ESSUR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25880" y="256536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ou may read this Scroll as required.  When read it permits you to take a defeated Enemy card held by another Player towards gaining Strength.  The resurrected Enemy will add it Strength to yours for one Combat, after which you must discard it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ransmute" descr=""/>
          <p:cNvPicPr/>
          <p:nvPr/>
        </p:nvPicPr>
        <p:blipFill>
          <a:blip r:embed="rId2"/>
          <a:stretch/>
        </p:blipFill>
        <p:spPr>
          <a:xfrm>
            <a:off x="2616120" y="1403280"/>
            <a:ext cx="1104840" cy="10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Enrich" descr=""/>
          <p:cNvPicPr/>
          <p:nvPr/>
        </p:nvPicPr>
        <p:blipFill>
          <a:blip r:embed="rId3"/>
          <a:stretch/>
        </p:blipFill>
        <p:spPr>
          <a:xfrm>
            <a:off x="1085760" y="3876840"/>
            <a:ext cx="1067040" cy="99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Bladesharp" descr=""/>
          <p:cNvPicPr/>
          <p:nvPr/>
        </p:nvPicPr>
        <p:blipFill>
          <a:blip r:embed="rId4"/>
          <a:stretch/>
        </p:blipFill>
        <p:spPr>
          <a:xfrm>
            <a:off x="2622600" y="3879720"/>
            <a:ext cx="100944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Resurrect" descr=""/>
          <p:cNvPicPr/>
          <p:nvPr/>
        </p:nvPicPr>
        <p:blipFill>
          <a:blip r:embed="rId5"/>
          <a:stretch/>
        </p:blipFill>
        <p:spPr>
          <a:xfrm>
            <a:off x="4102200" y="1384200"/>
            <a:ext cx="10126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0-28T06:11:22Z</dcterms:modified>
  <cp:revision>8</cp:revision>
  <dc:subject/>
  <dc:title>PowerPoint Presentation</dc:title>
</cp:coreProperties>
</file>