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F65A-56A9-4886-882B-E5B79CB1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AA3-8200-4CA6-BA2F-F41A6FC5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D065-9D0B-4E60-AA54-36246AEF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7468-1765-492F-8A6E-17E3C599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CCD9-28B5-4460-9765-5B1DED3B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6223-98B9-4B0F-BD69-CA4B2F30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3062-5E59-4750-9BBC-7C875D07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67C0-C306-486D-B6B0-B1B6AA47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9966-92E5-4309-AB3B-3B1A56B1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97FE-FF7F-4BE6-A4A2-0FB0277E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604-D377-4183-95C4-C623C58B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760F-560D-4AFB-9B60-79FEC41F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61ED-5117-4E65-8FB9-EF4D141A5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6840" y="1076400"/>
            <a:ext cx="1281240" cy="2286000"/>
            <a:chOff x="996840" y="1076400"/>
            <a:chExt cx="1281240" cy="2286000"/>
          </a:xfrm>
        </p:grpSpPr>
        <p:sp>
          <p:nvSpPr>
            <p:cNvPr id="42" name=""/>
            <p:cNvSpPr/>
            <p:nvPr/>
          </p:nvSpPr>
          <p:spPr>
            <a:xfrm>
              <a:off x="996840" y="107640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60200" y="2212920"/>
              <a:ext cx="1143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This location has been RAZED!  Roll 1D6 to choose which deck from which you draw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: Adventu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2: Cit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: Dunge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4: Timescap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5: Storm Riv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6: Underworl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>
              <a:off x="1036440" y="1219320"/>
              <a:ext cx="1104840" cy="83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RAZED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3967200" y="3517920"/>
            <a:ext cx="1281240" cy="2286000"/>
            <a:chOff x="3967200" y="3517920"/>
            <a:chExt cx="1281240" cy="2286000"/>
          </a:xfrm>
        </p:grpSpPr>
        <p:sp>
          <p:nvSpPr>
            <p:cNvPr id="46" name=""/>
            <p:cNvSpPr/>
            <p:nvPr/>
          </p:nvSpPr>
          <p:spPr>
            <a:xfrm>
              <a:off x="3967200" y="351792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30560" y="4654440"/>
              <a:ext cx="1143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This location has been RAZED!  Roll 1D6 to choose which deck from which you draw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: Adventu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2: Cit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: Dunge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4: Timescap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5: Storm Riv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6: Underworl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4006800" y="3660840"/>
              <a:ext cx="1104840" cy="83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RAZED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19280" y="3517920"/>
            <a:ext cx="1281240" cy="2286000"/>
            <a:chOff x="2519280" y="3517920"/>
            <a:chExt cx="1281240" cy="2286000"/>
          </a:xfrm>
        </p:grpSpPr>
        <p:sp>
          <p:nvSpPr>
            <p:cNvPr id="50" name=""/>
            <p:cNvSpPr/>
            <p:nvPr/>
          </p:nvSpPr>
          <p:spPr>
            <a:xfrm>
              <a:off x="2519280" y="351792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82640" y="4654440"/>
              <a:ext cx="1143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This location has been RAZED!  Roll 1D6 to choose which deck from which you draw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: Adventu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2: Cit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: Dunge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4: Timescap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5: Storm Riv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6: Underworl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2558880" y="3660840"/>
              <a:ext cx="1104840" cy="83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RAZED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995400" y="3517920"/>
            <a:ext cx="1281240" cy="2286000"/>
            <a:chOff x="995400" y="3517920"/>
            <a:chExt cx="1281240" cy="2286000"/>
          </a:xfrm>
        </p:grpSpPr>
        <p:sp>
          <p:nvSpPr>
            <p:cNvPr id="54" name=""/>
            <p:cNvSpPr/>
            <p:nvPr/>
          </p:nvSpPr>
          <p:spPr>
            <a:xfrm>
              <a:off x="995400" y="351792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58760" y="4654440"/>
              <a:ext cx="1143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This location has been RAZED!  Roll 1D6 to choose which deck from which you draw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: Adventu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2: Cit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: Dunge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4: Timescap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5: Storm Riv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6: Underworl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1035000" y="3660840"/>
              <a:ext cx="1104840" cy="83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RAZED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962520" y="1079640"/>
            <a:ext cx="1280880" cy="2286000"/>
            <a:chOff x="3962520" y="1079640"/>
            <a:chExt cx="1280880" cy="2286000"/>
          </a:xfrm>
        </p:grpSpPr>
        <p:sp>
          <p:nvSpPr>
            <p:cNvPr id="58" name=""/>
            <p:cNvSpPr/>
            <p:nvPr/>
          </p:nvSpPr>
          <p:spPr>
            <a:xfrm>
              <a:off x="3962520" y="1079640"/>
              <a:ext cx="128088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025520" y="2216160"/>
              <a:ext cx="114264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This location has been RAZED!  Roll 1D6 to choose which deck from which you draw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: Adventu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2: Cit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: Dunge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4: Timescap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5: Storm Riv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6: Underworl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4001760" y="1222560"/>
              <a:ext cx="1104480" cy="83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RAZED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519280" y="1079640"/>
            <a:ext cx="1281240" cy="2286000"/>
            <a:chOff x="2519280" y="1079640"/>
            <a:chExt cx="1281240" cy="2286000"/>
          </a:xfrm>
        </p:grpSpPr>
        <p:sp>
          <p:nvSpPr>
            <p:cNvPr id="62" name=""/>
            <p:cNvSpPr/>
            <p:nvPr/>
          </p:nvSpPr>
          <p:spPr>
            <a:xfrm>
              <a:off x="2519280" y="107964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82640" y="2216160"/>
              <a:ext cx="1143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This location has been RAZED!  Roll 1D6 to choose which deck from which you draw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: Adventur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2: Cit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: Dunge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4: Timescap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5: Storm Riv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6: Underworl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2558880" y="1222560"/>
              <a:ext cx="1104840" cy="83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RAZED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2-01-20T16:01:45Z</dcterms:modified>
  <cp:revision>7</cp:revision>
  <dc:subject/>
  <dc:title>PowerPoint Presentation</dc:title>
</cp:coreProperties>
</file>