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740-54CC-4D0E-9B1F-B6AD6ED8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FAC-3EE2-45D9-ADC2-D53DC7BD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18A-12E8-4CB6-897C-5B6B8BBD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6E2-E2B1-4AB6-A5F0-EA738E1A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2090-5DEE-4620-A0CB-FEF7AEAC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874-1F75-4895-8D2F-EC7EF0C7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059-91E6-411A-88DA-50581F11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CB6-D382-4690-97DA-B1378C7C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91AF-D8D3-4F37-884A-677EF484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A2A-C4A5-4A8D-8A56-515650E0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BA8-CB58-4FA7-A6F8-0C43686D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B85E-4EFC-4415-9E9E-A4C9B12E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6BD4-86DE-436A-B0C0-14CCB5447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52280"/>
            <a:ext cx="7238880" cy="5681880"/>
            <a:chOff x="990720" y="152280"/>
            <a:chExt cx="7238880" cy="5681880"/>
          </a:xfrm>
        </p:grpSpPr>
        <p:grpSp>
          <p:nvGrpSpPr>
            <p:cNvPr id="42" name=""/>
            <p:cNvGrpSpPr/>
            <p:nvPr/>
          </p:nvGrpSpPr>
          <p:grpSpPr>
            <a:xfrm>
              <a:off x="990720" y="1066680"/>
              <a:ext cx="7238880" cy="4767480"/>
              <a:chOff x="990720" y="1066680"/>
              <a:chExt cx="7238880" cy="4767480"/>
            </a:xfrm>
          </p:grpSpPr>
          <p:pic>
            <p:nvPicPr>
              <p:cNvPr id="43" name="Scrolls%20Card%20Back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1066680"/>
                <a:ext cx="128592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Scrolls%20Card%20Back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720" y="3533760"/>
                <a:ext cx="128592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Scrolls%20Card%20Back" descr=""/>
              <p:cNvPicPr/>
              <p:nvPr/>
            </p:nvPicPr>
            <p:blipFill>
              <a:blip r:embed="rId3"/>
              <a:stretch/>
            </p:blipFill>
            <p:spPr>
              <a:xfrm>
                <a:off x="2514600" y="1066680"/>
                <a:ext cx="128592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Scrolls%20Card%20Back" descr=""/>
              <p:cNvPicPr/>
              <p:nvPr/>
            </p:nvPicPr>
            <p:blipFill>
              <a:blip r:embed="rId4"/>
              <a:stretch/>
            </p:blipFill>
            <p:spPr>
              <a:xfrm>
                <a:off x="2495520" y="3543480"/>
                <a:ext cx="1285920" cy="228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Scrolls%20Card%20Back" descr=""/>
              <p:cNvPicPr/>
              <p:nvPr/>
            </p:nvPicPr>
            <p:blipFill>
              <a:blip r:embed="rId5"/>
              <a:stretch/>
            </p:blipFill>
            <p:spPr>
              <a:xfrm>
                <a:off x="3971880" y="1076400"/>
                <a:ext cx="128592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Scrolls%20Card%20Back" descr=""/>
              <p:cNvPicPr/>
              <p:nvPr/>
            </p:nvPicPr>
            <p:blipFill>
              <a:blip r:embed="rId6"/>
              <a:stretch/>
            </p:blipFill>
            <p:spPr>
              <a:xfrm>
                <a:off x="3971880" y="3543480"/>
                <a:ext cx="1285920" cy="228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Scrolls%20Card%20Back" descr=""/>
              <p:cNvPicPr/>
              <p:nvPr/>
            </p:nvPicPr>
            <p:blipFill>
              <a:blip r:embed="rId7"/>
              <a:stretch/>
            </p:blipFill>
            <p:spPr>
              <a:xfrm>
                <a:off x="5495760" y="1076400"/>
                <a:ext cx="128592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Scrolls%20Card%20Back" descr=""/>
              <p:cNvPicPr/>
              <p:nvPr/>
            </p:nvPicPr>
            <p:blipFill>
              <a:blip r:embed="rId8"/>
              <a:stretch/>
            </p:blipFill>
            <p:spPr>
              <a:xfrm>
                <a:off x="5477040" y="3552840"/>
                <a:ext cx="128556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Scrolls%20Card%20Back" descr=""/>
              <p:cNvPicPr/>
              <p:nvPr/>
            </p:nvPicPr>
            <p:blipFill>
              <a:blip r:embed="rId9"/>
              <a:stretch/>
            </p:blipFill>
            <p:spPr>
              <a:xfrm>
                <a:off x="6943680" y="1066680"/>
                <a:ext cx="128592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Scrolls%20Card%20Back" descr=""/>
              <p:cNvPicPr/>
              <p:nvPr/>
            </p:nvPicPr>
            <p:blipFill>
              <a:blip r:embed="rId10"/>
              <a:stretch/>
            </p:blipFill>
            <p:spPr>
              <a:xfrm>
                <a:off x="6943680" y="3533760"/>
                <a:ext cx="1285920" cy="2281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" name=""/>
            <p:cNvSpPr/>
            <p:nvPr/>
          </p:nvSpPr>
          <p:spPr>
            <a:xfrm>
              <a:off x="2133720" y="15228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1-10-28T15:37:27Z</dcterms:modified>
  <cp:revision>8</cp:revision>
  <dc:subject/>
  <dc:title>PowerPoint Presentation</dc:title>
</cp:coreProperties>
</file>