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5070600" y="1981080"/>
            <a:ext cx="2965680" cy="1068840"/>
          </a:xfrm>
          <a:custGeom>
            <a:avLst/>
            <a:gdLst/>
            <a:ahLst/>
            <a:rect l="0" t="0" r="r" b="b"/>
            <a:pathLst>
              <a:path w="8238" h="2969">
                <a:moveTo>
                  <a:pt x="0" y="2969"/>
                </a:moveTo>
                <a:lnTo>
                  <a:pt x="5767" y="2969"/>
                </a:lnTo>
                <a:lnTo>
                  <a:pt x="8238" y="0"/>
                </a:lnTo>
                <a:lnTo>
                  <a:pt x="2471" y="0"/>
                </a:lnTo>
                <a:lnTo>
                  <a:pt x="0" y="296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5762520" y="2009880"/>
            <a:ext cx="1581120" cy="103824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4809960" y="914400"/>
            <a:ext cx="2895480" cy="106524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3451320" y="5638680"/>
            <a:ext cx="2965680" cy="1068840"/>
          </a:xfrm>
          <a:custGeom>
            <a:avLst/>
            <a:gdLst/>
            <a:ahLst/>
            <a:rect l="0" t="0" r="r" b="b"/>
            <a:pathLst>
              <a:path w="8238" h="2969">
                <a:moveTo>
                  <a:pt x="0" y="2969"/>
                </a:moveTo>
                <a:lnTo>
                  <a:pt x="5767" y="2969"/>
                </a:lnTo>
                <a:lnTo>
                  <a:pt x="8238" y="0"/>
                </a:lnTo>
                <a:lnTo>
                  <a:pt x="2471" y="0"/>
                </a:lnTo>
                <a:lnTo>
                  <a:pt x="0" y="296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3133800" y="4959360"/>
            <a:ext cx="2666880" cy="1822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10160" y="914400"/>
            <a:ext cx="2965680" cy="1068840"/>
          </a:xfrm>
          <a:custGeom>
            <a:avLst/>
            <a:gdLst/>
            <a:ahLst/>
            <a:rect l="0" t="0" r="r" b="b"/>
            <a:pathLst>
              <a:path w="8238" h="2969">
                <a:moveTo>
                  <a:pt x="0" y="2969"/>
                </a:moveTo>
                <a:lnTo>
                  <a:pt x="5767" y="2969"/>
                </a:lnTo>
                <a:lnTo>
                  <a:pt x="8238" y="0"/>
                </a:lnTo>
                <a:lnTo>
                  <a:pt x="2471" y="0"/>
                </a:lnTo>
                <a:lnTo>
                  <a:pt x="0" y="2969"/>
                </a:lnTo>
                <a:close/>
              </a:path>
            </a:pathLst>
          </a:custGeom>
          <a:gradFill rotWithShape="0">
            <a:gsLst>
              <a:gs pos="0">
                <a:srgbClr val="b3b900"/>
              </a:gs>
              <a:gs pos="100000">
                <a:srgbClr val="3537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44520" y="914400"/>
            <a:ext cx="3402000" cy="16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LEVEL 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As there is a little light at this level you may add one to your 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roll for movement if you wish.  If you are unable to mov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the direction shown then you have lost your way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must encounter the same space a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716200" y="14400"/>
            <a:ext cx="434664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Mistral"/>
                <a:ea typeface="Mistral"/>
              </a:rPr>
              <a:t>--- THE BURROWS --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1960" y="914400"/>
            <a:ext cx="2965680" cy="1068840"/>
          </a:xfrm>
          <a:custGeom>
            <a:avLst/>
            <a:gdLst/>
            <a:ahLst/>
            <a:rect l="0" t="0" r="r" b="b"/>
            <a:pathLst>
              <a:path w="8238" h="2969">
                <a:moveTo>
                  <a:pt x="0" y="2969"/>
                </a:moveTo>
                <a:lnTo>
                  <a:pt x="5767" y="2969"/>
                </a:lnTo>
                <a:lnTo>
                  <a:pt x="8238" y="0"/>
                </a:lnTo>
                <a:lnTo>
                  <a:pt x="2471" y="0"/>
                </a:lnTo>
                <a:lnTo>
                  <a:pt x="0" y="2969"/>
                </a:lnTo>
                <a:close/>
              </a:path>
            </a:pathLst>
          </a:custGeom>
          <a:gradFill rotWithShape="0">
            <a:gsLst>
              <a:gs pos="0">
                <a:srgbClr val="b3b900"/>
              </a:gs>
              <a:gs pos="100000">
                <a:srgbClr val="3537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91240" y="914400"/>
            <a:ext cx="2965680" cy="1068840"/>
          </a:xfrm>
          <a:custGeom>
            <a:avLst/>
            <a:gdLst/>
            <a:ahLst/>
            <a:rect l="0" t="0" r="r" b="b"/>
            <a:pathLst>
              <a:path fill="none" w="8238" h="2969">
                <a:moveTo>
                  <a:pt x="0" y="2969"/>
                </a:moveTo>
                <a:lnTo>
                  <a:pt x="5767" y="2969"/>
                </a:lnTo>
                <a:lnTo>
                  <a:pt x="8238" y="0"/>
                </a:lnTo>
                <a:lnTo>
                  <a:pt x="2471" y="0"/>
                </a:lnTo>
                <a:lnTo>
                  <a:pt x="0" y="2969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24200" y="3048120"/>
            <a:ext cx="2965680" cy="1068840"/>
          </a:xfrm>
          <a:custGeom>
            <a:avLst/>
            <a:gdLst/>
            <a:ahLst/>
            <a:rect l="0" t="0" r="r" b="b"/>
            <a:pathLst>
              <a:path w="8238" h="2969">
                <a:moveTo>
                  <a:pt x="0" y="2969"/>
                </a:moveTo>
                <a:lnTo>
                  <a:pt x="5767" y="2969"/>
                </a:lnTo>
                <a:lnTo>
                  <a:pt x="8238" y="0"/>
                </a:lnTo>
                <a:lnTo>
                  <a:pt x="2471" y="0"/>
                </a:lnTo>
                <a:lnTo>
                  <a:pt x="0" y="2969"/>
                </a:lnTo>
                <a:close/>
              </a:path>
            </a:pathLst>
          </a:custGeom>
          <a:gradFill rotWithShape="0">
            <a:gsLst>
              <a:gs pos="0">
                <a:srgbClr val="b3b900"/>
              </a:gs>
              <a:gs pos="100000">
                <a:srgbClr val="3537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5640" y="3048120"/>
            <a:ext cx="2965680" cy="1068840"/>
          </a:xfrm>
          <a:custGeom>
            <a:avLst/>
            <a:gdLst/>
            <a:ahLst/>
            <a:rect l="0" t="0" r="r" b="b"/>
            <a:pathLst>
              <a:path w="8238" h="2969">
                <a:moveTo>
                  <a:pt x="0" y="2969"/>
                </a:moveTo>
                <a:lnTo>
                  <a:pt x="5767" y="2969"/>
                </a:lnTo>
                <a:lnTo>
                  <a:pt x="8238" y="0"/>
                </a:lnTo>
                <a:lnTo>
                  <a:pt x="2471" y="0"/>
                </a:lnTo>
                <a:lnTo>
                  <a:pt x="0" y="2969"/>
                </a:lnTo>
                <a:close/>
              </a:path>
            </a:pathLst>
          </a:custGeom>
          <a:gradFill rotWithShape="0">
            <a:gsLst>
              <a:gs pos="0">
                <a:srgbClr val="b3b900"/>
              </a:gs>
              <a:gs pos="100000">
                <a:srgbClr val="3537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04920" y="3048120"/>
            <a:ext cx="2965680" cy="1068840"/>
          </a:xfrm>
          <a:custGeom>
            <a:avLst/>
            <a:gdLst/>
            <a:ahLst/>
            <a:rect l="0" t="0" r="r" b="b"/>
            <a:pathLst>
              <a:path w="8238" h="2969">
                <a:moveTo>
                  <a:pt x="0" y="2969"/>
                </a:moveTo>
                <a:lnTo>
                  <a:pt x="5767" y="2969"/>
                </a:lnTo>
                <a:lnTo>
                  <a:pt x="8238" y="0"/>
                </a:lnTo>
                <a:lnTo>
                  <a:pt x="2471" y="0"/>
                </a:lnTo>
                <a:lnTo>
                  <a:pt x="0" y="2969"/>
                </a:lnTo>
                <a:close/>
              </a:path>
            </a:pathLst>
          </a:custGeom>
          <a:gradFill rotWithShape="0">
            <a:gsLst>
              <a:gs pos="0">
                <a:srgbClr val="b3b900"/>
              </a:gs>
              <a:gs pos="100000">
                <a:srgbClr val="3537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32040" y="1981080"/>
            <a:ext cx="2965680" cy="1068840"/>
          </a:xfrm>
          <a:custGeom>
            <a:avLst/>
            <a:gdLst/>
            <a:ahLst/>
            <a:rect l="0" t="0" r="r" b="b"/>
            <a:pathLst>
              <a:path w="8238" h="2969">
                <a:moveTo>
                  <a:pt x="0" y="2969"/>
                </a:moveTo>
                <a:lnTo>
                  <a:pt x="5767" y="2969"/>
                </a:lnTo>
                <a:lnTo>
                  <a:pt x="8238" y="0"/>
                </a:lnTo>
                <a:lnTo>
                  <a:pt x="2471" y="0"/>
                </a:lnTo>
                <a:lnTo>
                  <a:pt x="0" y="2969"/>
                </a:lnTo>
                <a:close/>
              </a:path>
            </a:pathLst>
          </a:custGeom>
          <a:gradFill rotWithShape="0">
            <a:gsLst>
              <a:gs pos="0">
                <a:srgbClr val="b3b900"/>
              </a:gs>
              <a:gs pos="100000">
                <a:srgbClr val="3537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51320" y="1981080"/>
            <a:ext cx="2965680" cy="1068840"/>
          </a:xfrm>
          <a:custGeom>
            <a:avLst/>
            <a:gdLst/>
            <a:ahLst/>
            <a:rect l="0" t="0" r="r" b="b"/>
            <a:pathLst>
              <a:path w="8238" h="2969">
                <a:moveTo>
                  <a:pt x="0" y="2969"/>
                </a:moveTo>
                <a:lnTo>
                  <a:pt x="5767" y="2969"/>
                </a:lnTo>
                <a:lnTo>
                  <a:pt x="8238" y="0"/>
                </a:lnTo>
                <a:lnTo>
                  <a:pt x="2471" y="0"/>
                </a:lnTo>
                <a:lnTo>
                  <a:pt x="0" y="2969"/>
                </a:lnTo>
                <a:close/>
              </a:path>
            </a:pathLst>
          </a:custGeom>
          <a:gradFill rotWithShape="0">
            <a:gsLst>
              <a:gs pos="0">
                <a:srgbClr val="b3b900"/>
              </a:gs>
              <a:gs pos="100000">
                <a:srgbClr val="3537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10160" y="4572000"/>
            <a:ext cx="2965680" cy="1068840"/>
          </a:xfrm>
          <a:custGeom>
            <a:avLst/>
            <a:gdLst/>
            <a:ahLst/>
            <a:rect l="0" t="0" r="r" b="b"/>
            <a:pathLst>
              <a:path w="8238" h="2969">
                <a:moveTo>
                  <a:pt x="0" y="2969"/>
                </a:moveTo>
                <a:lnTo>
                  <a:pt x="5767" y="2969"/>
                </a:lnTo>
                <a:lnTo>
                  <a:pt x="8238" y="0"/>
                </a:lnTo>
                <a:lnTo>
                  <a:pt x="2471" y="0"/>
                </a:lnTo>
                <a:lnTo>
                  <a:pt x="0" y="2969"/>
                </a:lnTo>
                <a:close/>
              </a:path>
            </a:pathLst>
          </a:custGeom>
          <a:gradFill rotWithShape="0">
            <a:gsLst>
              <a:gs pos="0">
                <a:srgbClr val="b3b900"/>
              </a:gs>
              <a:gs pos="100000">
                <a:srgbClr val="3537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1960" y="4572000"/>
            <a:ext cx="2965680" cy="1068840"/>
          </a:xfrm>
          <a:custGeom>
            <a:avLst/>
            <a:gdLst/>
            <a:ahLst/>
            <a:rect l="0" t="0" r="r" b="b"/>
            <a:pathLst>
              <a:path w="8238" h="2969">
                <a:moveTo>
                  <a:pt x="0" y="2969"/>
                </a:moveTo>
                <a:lnTo>
                  <a:pt x="5767" y="2969"/>
                </a:lnTo>
                <a:lnTo>
                  <a:pt x="8238" y="0"/>
                </a:lnTo>
                <a:lnTo>
                  <a:pt x="2471" y="0"/>
                </a:lnTo>
                <a:lnTo>
                  <a:pt x="0" y="2969"/>
                </a:lnTo>
                <a:close/>
              </a:path>
            </a:pathLst>
          </a:custGeom>
          <a:gradFill rotWithShape="0">
            <a:gsLst>
              <a:gs pos="0">
                <a:srgbClr val="b3b900"/>
              </a:gs>
              <a:gs pos="100000">
                <a:srgbClr val="3537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91240" y="4572000"/>
            <a:ext cx="2965680" cy="1068840"/>
          </a:xfrm>
          <a:custGeom>
            <a:avLst/>
            <a:gdLst/>
            <a:ahLst/>
            <a:rect l="0" t="0" r="r" b="b"/>
            <a:pathLst>
              <a:path w="8238" h="2969">
                <a:moveTo>
                  <a:pt x="0" y="2969"/>
                </a:moveTo>
                <a:lnTo>
                  <a:pt x="5767" y="2969"/>
                </a:lnTo>
                <a:lnTo>
                  <a:pt x="8238" y="0"/>
                </a:lnTo>
                <a:lnTo>
                  <a:pt x="2471" y="0"/>
                </a:lnTo>
                <a:lnTo>
                  <a:pt x="0" y="2969"/>
                </a:lnTo>
                <a:close/>
              </a:path>
            </a:pathLst>
          </a:custGeom>
          <a:gradFill rotWithShape="0">
            <a:gsLst>
              <a:gs pos="0">
                <a:srgbClr val="b3b900"/>
              </a:gs>
              <a:gs pos="100000">
                <a:srgbClr val="3537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70600" y="5638680"/>
            <a:ext cx="2965680" cy="1068840"/>
          </a:xfrm>
          <a:custGeom>
            <a:avLst/>
            <a:gdLst/>
            <a:ahLst/>
            <a:rect l="0" t="0" r="r" b="b"/>
            <a:pathLst>
              <a:path w="8238" h="2969">
                <a:moveTo>
                  <a:pt x="0" y="2969"/>
                </a:moveTo>
                <a:lnTo>
                  <a:pt x="5767" y="2969"/>
                </a:lnTo>
                <a:lnTo>
                  <a:pt x="8238" y="0"/>
                </a:lnTo>
                <a:lnTo>
                  <a:pt x="2471" y="0"/>
                </a:lnTo>
                <a:lnTo>
                  <a:pt x="0" y="2969"/>
                </a:lnTo>
                <a:close/>
              </a:path>
            </a:pathLst>
          </a:custGeom>
          <a:gradFill rotWithShape="0">
            <a:gsLst>
              <a:gs pos="0">
                <a:srgbClr val="b3b900"/>
              </a:gs>
              <a:gs pos="100000">
                <a:srgbClr val="3537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32040" y="5638680"/>
            <a:ext cx="2965680" cy="1068840"/>
          </a:xfrm>
          <a:custGeom>
            <a:avLst/>
            <a:gdLst/>
            <a:ahLst/>
            <a:rect l="0" t="0" r="r" b="b"/>
            <a:pathLst>
              <a:path w="8238" h="2969">
                <a:moveTo>
                  <a:pt x="0" y="2969"/>
                </a:moveTo>
                <a:lnTo>
                  <a:pt x="5767" y="2969"/>
                </a:lnTo>
                <a:lnTo>
                  <a:pt x="8238" y="0"/>
                </a:lnTo>
                <a:lnTo>
                  <a:pt x="2471" y="0"/>
                </a:lnTo>
                <a:lnTo>
                  <a:pt x="0" y="2969"/>
                </a:lnTo>
                <a:close/>
              </a:path>
            </a:pathLst>
          </a:custGeom>
          <a:gradFill rotWithShape="0">
            <a:gsLst>
              <a:gs pos="0">
                <a:srgbClr val="b3b900"/>
              </a:gs>
              <a:gs pos="100000">
                <a:srgbClr val="3537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773520" y="1981080"/>
            <a:ext cx="2023920" cy="145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ENT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You may go from her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the Hills on your next 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401920" y="3048120"/>
            <a:ext cx="2097000" cy="145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GOLD FA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Roll 1 d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1-2 = You find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3-4 = You find 1 G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5-6 = You find 2 G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002120" y="3048120"/>
            <a:ext cx="22035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DRAW 1 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Do not draw a Card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there is already on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this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25400" y="3048120"/>
            <a:ext cx="22035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DRAW 1 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Do not draw a Card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there is already on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this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468600" y="914400"/>
            <a:ext cx="22035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DRAW 1 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Do not draw a Card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there is already on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this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669000" y="914400"/>
            <a:ext cx="22035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DRAW 1 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Do not draw a Card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there is already on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this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173320" y="5638680"/>
            <a:ext cx="2220840" cy="145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DRAW 2 C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If there are any C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already in this spa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draw only enough to t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the total to 2 Ca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373720" y="5638680"/>
            <a:ext cx="2220840" cy="145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DRAW 2 C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If there are any C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already in this spa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draw only enough to t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the total to 2 Ca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068800" y="4572000"/>
            <a:ext cx="2276640" cy="145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NARROW PA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DRAW 1 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No weapons or Foll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can be used while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Narrow Pa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468600" y="4572000"/>
            <a:ext cx="22035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DRAW 1 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Do not draw a Card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there is already on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this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745320" y="4572000"/>
            <a:ext cx="22035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DRAW 1 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Do not draw a Card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there is already on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this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450040" y="5638680"/>
            <a:ext cx="63180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7fff00"/>
                </a:solidFill>
                <a:latin typeface="Mistral"/>
                <a:ea typeface="Mistral"/>
              </a:rPr>
              <a:t>DRA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7fff00"/>
                </a:solidFill>
                <a:latin typeface="Mistral"/>
                <a:ea typeface="Mistral"/>
              </a:rPr>
              <a:t>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38360" y="67057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621240" y="6431040"/>
            <a:ext cx="847800" cy="4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STRENGTH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288120" y="914400"/>
            <a:ext cx="925560" cy="4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7fff00"/>
                </a:solidFill>
                <a:latin typeface="Mistral"/>
                <a:ea typeface="Mistral"/>
              </a:rPr>
              <a:t>LAVA PUD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202520" y="1981080"/>
            <a:ext cx="642960" cy="4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DENIZ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297400" y="2773440"/>
            <a:ext cx="571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Craft 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097000" y="1981080"/>
            <a:ext cx="22035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DRAW 1 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Do not draw a Card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there is already on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this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33600" y="4572000"/>
            <a:ext cx="2965680" cy="1068840"/>
          </a:xfrm>
          <a:custGeom>
            <a:avLst/>
            <a:gdLst/>
            <a:ahLst/>
            <a:rect l="0" t="0" r="r" b="b"/>
            <a:pathLst>
              <a:path w="8238" h="2969">
                <a:moveTo>
                  <a:pt x="0" y="2969"/>
                </a:moveTo>
                <a:lnTo>
                  <a:pt x="5767" y="2969"/>
                </a:lnTo>
                <a:lnTo>
                  <a:pt x="8238" y="0"/>
                </a:lnTo>
                <a:lnTo>
                  <a:pt x="2471" y="0"/>
                </a:lnTo>
                <a:lnTo>
                  <a:pt x="0" y="2969"/>
                </a:lnTo>
                <a:close/>
              </a:path>
            </a:pathLst>
          </a:custGeom>
          <a:solidFill>
            <a:srgbClr val="7fff00"/>
          </a:solidFill>
          <a:ln w="12600">
            <a:solidFill>
              <a:srgbClr val="7f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44520" y="4572000"/>
            <a:ext cx="3200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LEVEL TW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Movement is per the die roll.  If you are unable to move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direction shown then you have lost your way and m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encounter the same space a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96000" y="1981080"/>
            <a:ext cx="2279880" cy="1068840"/>
          </a:xfrm>
          <a:custGeom>
            <a:avLst/>
            <a:gdLst/>
            <a:ahLst/>
            <a:rect l="0" t="0" r="r" b="b"/>
            <a:pathLst>
              <a:path w="6333" h="2969">
                <a:moveTo>
                  <a:pt x="0" y="2969"/>
                </a:moveTo>
                <a:lnTo>
                  <a:pt x="4433" y="2969"/>
                </a:lnTo>
                <a:lnTo>
                  <a:pt x="6333" y="0"/>
                </a:lnTo>
                <a:lnTo>
                  <a:pt x="1899" y="0"/>
                </a:lnTo>
                <a:lnTo>
                  <a:pt x="0" y="2969"/>
                </a:lnTo>
                <a:close/>
              </a:path>
            </a:pathLst>
          </a:custGeom>
          <a:solidFill>
            <a:srgbClr val="7fff00"/>
          </a:solidFill>
          <a:ln w="12600">
            <a:solidFill>
              <a:srgbClr val="7f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248600" y="35812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086680" y="30481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818480" y="2789280"/>
            <a:ext cx="525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1 =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688080" y="3424320"/>
            <a:ext cx="614520" cy="4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5 =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765920" y="4084560"/>
            <a:ext cx="669960" cy="4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6 =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740640" y="4084560"/>
            <a:ext cx="662040" cy="4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4 = 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8640720" y="2789280"/>
            <a:ext cx="676440" cy="4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2 = No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834400" y="3424320"/>
            <a:ext cx="606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3 =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337520" y="2560680"/>
            <a:ext cx="1454040" cy="4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MOVEMENT BY DIE ROL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400880" y="3048120"/>
            <a:ext cx="1333440" cy="10666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57480" y="6711840"/>
            <a:ext cx="2895480" cy="76320"/>
          </a:xfrm>
          <a:prstGeom prst="rect">
            <a:avLst/>
          </a:prstGeom>
          <a:solidFill>
            <a:srgbClr val="7fff00"/>
          </a:solidFill>
          <a:ln w="12600">
            <a:solidFill>
              <a:srgbClr val="7fff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6696000" y="2533680"/>
            <a:ext cx="647640" cy="514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068800" y="1523880"/>
            <a:ext cx="173844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If your Strength or Craf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less than 4, miss 1 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724200" y="1219320"/>
            <a:ext cx="2965680" cy="1068840"/>
          </a:xfrm>
          <a:custGeom>
            <a:avLst/>
            <a:gdLst/>
            <a:ahLst/>
            <a:rect l="0" t="0" r="r" b="b"/>
            <a:pathLst>
              <a:path w="8238" h="2969">
                <a:moveTo>
                  <a:pt x="0" y="2969"/>
                </a:moveTo>
                <a:lnTo>
                  <a:pt x="5767" y="2969"/>
                </a:lnTo>
                <a:lnTo>
                  <a:pt x="8238" y="0"/>
                </a:lnTo>
                <a:lnTo>
                  <a:pt x="2471" y="0"/>
                </a:lnTo>
                <a:lnTo>
                  <a:pt x="0" y="296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392720" y="723960"/>
            <a:ext cx="1378080" cy="1981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070600" y="152280"/>
            <a:ext cx="2965680" cy="1068840"/>
          </a:xfrm>
          <a:custGeom>
            <a:avLst/>
            <a:gdLst/>
            <a:ahLst/>
            <a:rect l="0" t="0" r="r" b="b"/>
            <a:pathLst>
              <a:path w="8238" h="2969">
                <a:moveTo>
                  <a:pt x="0" y="2969"/>
                </a:moveTo>
                <a:lnTo>
                  <a:pt x="5767" y="2969"/>
                </a:lnTo>
                <a:lnTo>
                  <a:pt x="8238" y="0"/>
                </a:lnTo>
                <a:lnTo>
                  <a:pt x="2471" y="0"/>
                </a:lnTo>
                <a:lnTo>
                  <a:pt x="0" y="2969"/>
                </a:lnTo>
                <a:close/>
              </a:path>
            </a:pathLst>
          </a:custGeom>
          <a:gradFill rotWithShape="0">
            <a:gsLst>
              <a:gs pos="0">
                <a:srgbClr val="b3b900"/>
              </a:gs>
              <a:gs pos="100000">
                <a:srgbClr val="3537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32040" y="152280"/>
            <a:ext cx="2965680" cy="1068840"/>
          </a:xfrm>
          <a:custGeom>
            <a:avLst/>
            <a:gdLst/>
            <a:ahLst/>
            <a:rect l="0" t="0" r="r" b="b"/>
            <a:pathLst>
              <a:path w="8238" h="2969">
                <a:moveTo>
                  <a:pt x="0" y="2969"/>
                </a:moveTo>
                <a:lnTo>
                  <a:pt x="5767" y="2969"/>
                </a:lnTo>
                <a:lnTo>
                  <a:pt x="8238" y="0"/>
                </a:lnTo>
                <a:lnTo>
                  <a:pt x="2471" y="0"/>
                </a:lnTo>
                <a:lnTo>
                  <a:pt x="0" y="2969"/>
                </a:lnTo>
                <a:close/>
              </a:path>
            </a:pathLst>
          </a:custGeom>
          <a:gradFill rotWithShape="0">
            <a:gsLst>
              <a:gs pos="0">
                <a:srgbClr val="b3b900"/>
              </a:gs>
              <a:gs pos="100000">
                <a:srgbClr val="3537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51320" y="152280"/>
            <a:ext cx="2965680" cy="1068840"/>
          </a:xfrm>
          <a:custGeom>
            <a:avLst/>
            <a:gdLst/>
            <a:ahLst/>
            <a:rect l="0" t="0" r="r" b="b"/>
            <a:pathLst>
              <a:path w="8238" h="2969">
                <a:moveTo>
                  <a:pt x="0" y="2969"/>
                </a:moveTo>
                <a:lnTo>
                  <a:pt x="5767" y="2969"/>
                </a:lnTo>
                <a:lnTo>
                  <a:pt x="8238" y="0"/>
                </a:lnTo>
                <a:lnTo>
                  <a:pt x="2471" y="0"/>
                </a:lnTo>
                <a:lnTo>
                  <a:pt x="0" y="2969"/>
                </a:lnTo>
                <a:close/>
              </a:path>
            </a:pathLst>
          </a:custGeom>
          <a:solidFill>
            <a:srgbClr val="7f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173320" y="152280"/>
            <a:ext cx="2220840" cy="145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DRAW 2 C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If there are any C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already in this spa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draw only enough to t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the total to 2 Ca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73720" y="152280"/>
            <a:ext cx="2220840" cy="145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DRAW 2 C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If there are any C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already in this spa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draw only enough to t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the total to 2 Ca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10160" y="2743200"/>
            <a:ext cx="2965680" cy="1068840"/>
          </a:xfrm>
          <a:custGeom>
            <a:avLst/>
            <a:gdLst/>
            <a:ahLst/>
            <a:rect l="0" t="0" r="r" b="b"/>
            <a:pathLst>
              <a:path w="8238" h="2969">
                <a:moveTo>
                  <a:pt x="0" y="2969"/>
                </a:moveTo>
                <a:lnTo>
                  <a:pt x="5767" y="2969"/>
                </a:lnTo>
                <a:lnTo>
                  <a:pt x="8238" y="0"/>
                </a:lnTo>
                <a:lnTo>
                  <a:pt x="2471" y="0"/>
                </a:lnTo>
                <a:lnTo>
                  <a:pt x="0" y="2969"/>
                </a:lnTo>
                <a:close/>
              </a:path>
            </a:pathLst>
          </a:custGeom>
          <a:gradFill rotWithShape="0">
            <a:gsLst>
              <a:gs pos="0">
                <a:srgbClr val="b3b900"/>
              </a:gs>
              <a:gs pos="100000">
                <a:srgbClr val="3537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1960" y="2743200"/>
            <a:ext cx="2965680" cy="1068840"/>
          </a:xfrm>
          <a:custGeom>
            <a:avLst/>
            <a:gdLst/>
            <a:ahLst/>
            <a:rect l="0" t="0" r="r" b="b"/>
            <a:pathLst>
              <a:path w="8238" h="2969">
                <a:moveTo>
                  <a:pt x="0" y="2969"/>
                </a:moveTo>
                <a:lnTo>
                  <a:pt x="5767" y="2969"/>
                </a:lnTo>
                <a:lnTo>
                  <a:pt x="8238" y="0"/>
                </a:lnTo>
                <a:lnTo>
                  <a:pt x="2471" y="0"/>
                </a:lnTo>
                <a:lnTo>
                  <a:pt x="0" y="2969"/>
                </a:lnTo>
                <a:close/>
              </a:path>
            </a:pathLst>
          </a:custGeom>
          <a:gradFill rotWithShape="0">
            <a:gsLst>
              <a:gs pos="0">
                <a:srgbClr val="b3b900"/>
              </a:gs>
              <a:gs pos="100000">
                <a:srgbClr val="3537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91240" y="2743200"/>
            <a:ext cx="2965680" cy="1068840"/>
          </a:xfrm>
          <a:custGeom>
            <a:avLst/>
            <a:gdLst/>
            <a:ahLst/>
            <a:rect l="0" t="0" r="r" b="b"/>
            <a:pathLst>
              <a:path w="8238" h="2969">
                <a:moveTo>
                  <a:pt x="0" y="2969"/>
                </a:moveTo>
                <a:lnTo>
                  <a:pt x="5767" y="2969"/>
                </a:lnTo>
                <a:lnTo>
                  <a:pt x="8238" y="0"/>
                </a:lnTo>
                <a:lnTo>
                  <a:pt x="2471" y="0"/>
                </a:lnTo>
                <a:lnTo>
                  <a:pt x="0" y="2969"/>
                </a:lnTo>
                <a:close/>
              </a:path>
            </a:pathLst>
          </a:custGeom>
          <a:gradFill rotWithShape="0">
            <a:gsLst>
              <a:gs pos="0">
                <a:srgbClr val="b3b900"/>
              </a:gs>
              <a:gs pos="100000">
                <a:srgbClr val="3537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24200" y="4876920"/>
            <a:ext cx="2965680" cy="1068840"/>
          </a:xfrm>
          <a:custGeom>
            <a:avLst/>
            <a:gdLst/>
            <a:ahLst/>
            <a:rect l="0" t="0" r="r" b="b"/>
            <a:pathLst>
              <a:path w="8238" h="2969">
                <a:moveTo>
                  <a:pt x="0" y="2969"/>
                </a:moveTo>
                <a:lnTo>
                  <a:pt x="5767" y="2969"/>
                </a:lnTo>
                <a:lnTo>
                  <a:pt x="8238" y="0"/>
                </a:lnTo>
                <a:lnTo>
                  <a:pt x="2471" y="0"/>
                </a:lnTo>
                <a:lnTo>
                  <a:pt x="0" y="2969"/>
                </a:lnTo>
                <a:close/>
              </a:path>
            </a:pathLst>
          </a:custGeom>
          <a:gradFill rotWithShape="0">
            <a:gsLst>
              <a:gs pos="0">
                <a:srgbClr val="b3b900"/>
              </a:gs>
              <a:gs pos="100000">
                <a:srgbClr val="3537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5640" y="4876920"/>
            <a:ext cx="2965680" cy="1068840"/>
          </a:xfrm>
          <a:custGeom>
            <a:avLst/>
            <a:gdLst/>
            <a:ahLst/>
            <a:rect l="0" t="0" r="r" b="b"/>
            <a:pathLst>
              <a:path w="8238" h="2969">
                <a:moveTo>
                  <a:pt x="0" y="2969"/>
                </a:moveTo>
                <a:lnTo>
                  <a:pt x="5767" y="2969"/>
                </a:lnTo>
                <a:lnTo>
                  <a:pt x="8238" y="0"/>
                </a:lnTo>
                <a:lnTo>
                  <a:pt x="2471" y="0"/>
                </a:lnTo>
                <a:lnTo>
                  <a:pt x="0" y="2969"/>
                </a:lnTo>
                <a:close/>
              </a:path>
            </a:pathLst>
          </a:custGeom>
          <a:gradFill rotWithShape="0">
            <a:gsLst>
              <a:gs pos="0">
                <a:srgbClr val="b3b900"/>
              </a:gs>
              <a:gs pos="100000">
                <a:srgbClr val="3537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04920" y="4876920"/>
            <a:ext cx="2965680" cy="1068840"/>
          </a:xfrm>
          <a:custGeom>
            <a:avLst/>
            <a:gdLst/>
            <a:ahLst/>
            <a:rect l="0" t="0" r="r" b="b"/>
            <a:pathLst>
              <a:path w="8238" h="2969">
                <a:moveTo>
                  <a:pt x="0" y="2969"/>
                </a:moveTo>
                <a:lnTo>
                  <a:pt x="5767" y="2969"/>
                </a:lnTo>
                <a:lnTo>
                  <a:pt x="8238" y="0"/>
                </a:lnTo>
                <a:lnTo>
                  <a:pt x="2471" y="0"/>
                </a:lnTo>
                <a:lnTo>
                  <a:pt x="0" y="2969"/>
                </a:lnTo>
                <a:close/>
              </a:path>
            </a:pathLst>
          </a:custGeom>
          <a:gradFill rotWithShape="0">
            <a:gsLst>
              <a:gs pos="0">
                <a:srgbClr val="b3b900"/>
              </a:gs>
              <a:gs pos="100000">
                <a:srgbClr val="3537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51320" y="3809880"/>
            <a:ext cx="2965680" cy="1068840"/>
          </a:xfrm>
          <a:custGeom>
            <a:avLst/>
            <a:gdLst/>
            <a:ahLst/>
            <a:rect l="0" t="0" r="r" b="b"/>
            <a:pathLst>
              <a:path w="8238" h="2969">
                <a:moveTo>
                  <a:pt x="0" y="2969"/>
                </a:moveTo>
                <a:lnTo>
                  <a:pt x="5767" y="2969"/>
                </a:lnTo>
                <a:lnTo>
                  <a:pt x="8238" y="0"/>
                </a:lnTo>
                <a:lnTo>
                  <a:pt x="2471" y="0"/>
                </a:lnTo>
                <a:lnTo>
                  <a:pt x="0" y="296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5640" y="1219320"/>
            <a:ext cx="2965680" cy="1068840"/>
          </a:xfrm>
          <a:custGeom>
            <a:avLst/>
            <a:gdLst/>
            <a:ahLst/>
            <a:rect l="0" t="0" r="r" b="b"/>
            <a:pathLst>
              <a:path w="8238" h="2969">
                <a:moveTo>
                  <a:pt x="0" y="2969"/>
                </a:moveTo>
                <a:lnTo>
                  <a:pt x="5767" y="2969"/>
                </a:lnTo>
                <a:lnTo>
                  <a:pt x="8238" y="0"/>
                </a:lnTo>
                <a:lnTo>
                  <a:pt x="2471" y="0"/>
                </a:lnTo>
                <a:lnTo>
                  <a:pt x="0" y="2969"/>
                </a:lnTo>
                <a:close/>
              </a:path>
            </a:pathLst>
          </a:custGeom>
          <a:gradFill rotWithShape="0">
            <a:gsLst>
              <a:gs pos="0">
                <a:srgbClr val="b3b900"/>
              </a:gs>
              <a:gs pos="100000">
                <a:srgbClr val="3537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04920" y="1219320"/>
            <a:ext cx="2965680" cy="1068840"/>
          </a:xfrm>
          <a:custGeom>
            <a:avLst/>
            <a:gdLst/>
            <a:ahLst/>
            <a:rect l="0" t="0" r="r" b="b"/>
            <a:pathLst>
              <a:path w="8238" h="2969">
                <a:moveTo>
                  <a:pt x="0" y="2969"/>
                </a:moveTo>
                <a:lnTo>
                  <a:pt x="5767" y="2969"/>
                </a:lnTo>
                <a:lnTo>
                  <a:pt x="8238" y="0"/>
                </a:lnTo>
                <a:lnTo>
                  <a:pt x="2471" y="0"/>
                </a:lnTo>
                <a:lnTo>
                  <a:pt x="0" y="2969"/>
                </a:lnTo>
                <a:close/>
              </a:path>
            </a:pathLst>
          </a:custGeom>
          <a:gradFill rotWithShape="0">
            <a:gsLst>
              <a:gs pos="0">
                <a:srgbClr val="b3b900"/>
              </a:gs>
              <a:gs pos="100000">
                <a:srgbClr val="3537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44520" y="2743200"/>
            <a:ext cx="3200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LEVEL THR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Movement is per the die roll.  If you are unable to move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direction shown then you have lost your way and m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encounter the same space a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228920" y="3962520"/>
            <a:ext cx="1285920" cy="846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832040" y="3809880"/>
            <a:ext cx="2965680" cy="1068840"/>
          </a:xfrm>
          <a:custGeom>
            <a:avLst/>
            <a:gdLst/>
            <a:ahLst/>
            <a:rect l="0" t="0" r="r" b="b"/>
            <a:pathLst>
              <a:path w="8238" h="2969">
                <a:moveTo>
                  <a:pt x="0" y="2969"/>
                </a:moveTo>
                <a:lnTo>
                  <a:pt x="5767" y="2969"/>
                </a:lnTo>
                <a:lnTo>
                  <a:pt x="8238" y="0"/>
                </a:lnTo>
                <a:lnTo>
                  <a:pt x="2471" y="0"/>
                </a:lnTo>
                <a:lnTo>
                  <a:pt x="0" y="2969"/>
                </a:lnTo>
                <a:close/>
              </a:path>
            </a:pathLst>
          </a:custGeom>
          <a:gradFill rotWithShape="0">
            <a:gsLst>
              <a:gs pos="0">
                <a:srgbClr val="b3b900"/>
              </a:gs>
              <a:gs pos="100000">
                <a:srgbClr val="3537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70600" y="3809880"/>
            <a:ext cx="2965680" cy="1068840"/>
          </a:xfrm>
          <a:custGeom>
            <a:avLst/>
            <a:gdLst/>
            <a:ahLst/>
            <a:rect l="0" t="0" r="r" b="b"/>
            <a:pathLst>
              <a:path w="8238" h="2969">
                <a:moveTo>
                  <a:pt x="0" y="2969"/>
                </a:moveTo>
                <a:lnTo>
                  <a:pt x="5767" y="2969"/>
                </a:lnTo>
                <a:lnTo>
                  <a:pt x="8238" y="0"/>
                </a:lnTo>
                <a:lnTo>
                  <a:pt x="2471" y="0"/>
                </a:lnTo>
                <a:lnTo>
                  <a:pt x="0" y="2969"/>
                </a:lnTo>
                <a:close/>
              </a:path>
            </a:pathLst>
          </a:custGeom>
          <a:gradFill rotWithShape="0">
            <a:gsLst>
              <a:gs pos="0">
                <a:srgbClr val="b3b900"/>
              </a:gs>
              <a:gs pos="100000">
                <a:srgbClr val="3537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992840" y="3809880"/>
            <a:ext cx="938160" cy="4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7fff00"/>
                </a:solidFill>
                <a:latin typeface="Mistral"/>
                <a:ea typeface="Mistral"/>
              </a:rPr>
              <a:t>THE DARK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11600" y="3809880"/>
            <a:ext cx="482904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                         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THE DARK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You have reached the heart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the Burrows.  Here lies a source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great power for those mighty enough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seize it.  Roll 1 d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1 = The powers that lie in the Darkwell are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great for you.  Lose 1 L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2 = An ancient terror arises from the Darkwell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attacks you with Strength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3 = A Spirit arrises from the Darkwell.  If you can roll less th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your Craft on 1 die it will show you the top 5 Cards of any de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4 = A Spirit arrises from the Darkwell and offers you a choice of 2 Strengt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2 Craft, 2 Spells, or a teleport to anywhere except the Inner Region or Timesca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5 = The Powers of the Darkwell bless you.  From this point hence, you always have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least 1 Spell.  Whenever you use your last Spell you must draw another to replac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6 = The Powers of the Darkwell infuse you and you become the Undead King (if it is fre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097000" y="3809880"/>
            <a:ext cx="2273400" cy="145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UNSTABLE CE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Roll 1 d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1-2 = Lose 1 random Follo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3-4 = Move up a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5-6 = Sa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478240" y="1219320"/>
            <a:ext cx="2220840" cy="145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DRAW 2 C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If there are any C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already in this spa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draw only enough to t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the total to 2 Ca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01720" y="1219320"/>
            <a:ext cx="2185920" cy="145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BLESSED GROT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To pray, roll 1 d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1-2 = You gain a Str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3-4 = You gain a Cra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5-6 = You gain a Sp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373720" y="3809880"/>
            <a:ext cx="2220840" cy="145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DRAW 2 C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If there are any C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already in this spa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draw only enough to t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the total to 2 Ca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145120" y="2743200"/>
            <a:ext cx="2220840" cy="145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DRAW 2 C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If there are any C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already in this spa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draw only enough to t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the total to 2 Ca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221440" y="1219320"/>
            <a:ext cx="1311120" cy="4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7fff00"/>
                </a:solidFill>
                <a:latin typeface="Mistral"/>
                <a:ea typeface="Mistral"/>
              </a:rPr>
              <a:t>PORTAL OF DARK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99000" y="1219320"/>
            <a:ext cx="2965680" cy="1068840"/>
          </a:xfrm>
          <a:custGeom>
            <a:avLst/>
            <a:gdLst/>
            <a:ahLst/>
            <a:rect l="0" t="0" r="r" b="b"/>
            <a:pathLst>
              <a:path fill="none" w="8238" h="2969">
                <a:moveTo>
                  <a:pt x="0" y="2969"/>
                </a:moveTo>
                <a:lnTo>
                  <a:pt x="5767" y="2969"/>
                </a:lnTo>
                <a:lnTo>
                  <a:pt x="8238" y="0"/>
                </a:lnTo>
                <a:lnTo>
                  <a:pt x="2471" y="0"/>
                </a:lnTo>
                <a:lnTo>
                  <a:pt x="0" y="2969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745320" y="2743200"/>
            <a:ext cx="22161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UNEVEN FOO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Roll 1 d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1-2 = Fall and lose a L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3-4 = Fall and miss a 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5-6 = Sa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468600" y="2743200"/>
            <a:ext cx="22035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DRAW 1 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Do not draw a Card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there is already on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this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002120" y="4876920"/>
            <a:ext cx="22035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DRAW 1 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Do not draw a Card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there is already on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this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01720" y="4876920"/>
            <a:ext cx="22035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DRAW 1 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Do not draw a Card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there is already on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this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401920" y="4876920"/>
            <a:ext cx="2387520" cy="145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UNDERGROUND 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You may choose to drin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1-2 = All your Gold is l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3-4 = Tasty wa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5-6 = Heal 1 L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84760" y="1657440"/>
            <a:ext cx="2616480" cy="1068840"/>
          </a:xfrm>
          <a:custGeom>
            <a:avLst/>
            <a:gdLst/>
            <a:ahLst/>
            <a:rect l="0" t="0" r="r" b="b"/>
            <a:pathLst>
              <a:path w="7268" h="2969">
                <a:moveTo>
                  <a:pt x="0" y="2969"/>
                </a:moveTo>
                <a:lnTo>
                  <a:pt x="5088" y="2969"/>
                </a:lnTo>
                <a:lnTo>
                  <a:pt x="7268" y="0"/>
                </a:lnTo>
                <a:lnTo>
                  <a:pt x="2180" y="0"/>
                </a:lnTo>
                <a:lnTo>
                  <a:pt x="0" y="2969"/>
                </a:lnTo>
                <a:close/>
              </a:path>
            </a:pathLst>
          </a:custGeom>
          <a:solidFill>
            <a:srgbClr val="7fff00"/>
          </a:solidFill>
          <a:ln w="12600">
            <a:solidFill>
              <a:srgbClr val="7f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526000" y="1219320"/>
            <a:ext cx="3854520" cy="207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PORTAL OF DARK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Roll 1 d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1 = Teleport to the Black Hole in the Dungeon. If you 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to leave the Dungeon you will exit  at the Ru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2 = Teleport to the Entrance Hall in the Dark Mage’s To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Mistral"/>
                <a:ea typeface="Mistral"/>
              </a:rPr>
              <a:t>3-6 = The Portal does not appear to work at this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76800" y="2292480"/>
            <a:ext cx="1219320" cy="419040"/>
          </a:xfrm>
          <a:prstGeom prst="rect">
            <a:avLst/>
          </a:prstGeom>
          <a:solidFill>
            <a:srgbClr val="7fff00"/>
          </a:solidFill>
          <a:ln w="12600">
            <a:solidFill>
              <a:srgbClr val="7f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esearch Machine PC</dc:creator>
  <dc:description/>
  <dc:language>en-US</dc:language>
  <cp:lastModifiedBy>Research Machine PC</cp:lastModifiedBy>
  <cp:revision>0</cp:revision>
  <dc:subject/>
  <dc:title/>
</cp:coreProperties>
</file>