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4D25FB-B6CC-4056-8F19-28136F008D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548160" y="1479600"/>
            <a:ext cx="2714760" cy="2298960"/>
          </a:xfrm>
          <a:custGeom>
            <a:avLst/>
            <a:gdLst/>
            <a:ahLst/>
            <a:rect l="0" t="0" r="r" b="b"/>
            <a:pathLst>
              <a:path w="7541" h="6386">
                <a:moveTo>
                  <a:pt x="0" y="3192"/>
                </a:moveTo>
                <a:lnTo>
                  <a:pt x="1508" y="6386"/>
                </a:lnTo>
                <a:lnTo>
                  <a:pt x="6033" y="6386"/>
                </a:lnTo>
                <a:lnTo>
                  <a:pt x="7541" y="3192"/>
                </a:lnTo>
                <a:lnTo>
                  <a:pt x="6033" y="0"/>
                </a:lnTo>
                <a:lnTo>
                  <a:pt x="1508" y="0"/>
                </a:lnTo>
                <a:lnTo>
                  <a:pt x="0" y="319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38720" y="2851200"/>
            <a:ext cx="2714760" cy="2298960"/>
          </a:xfrm>
          <a:custGeom>
            <a:avLst/>
            <a:gdLst/>
            <a:ahLst/>
            <a:rect l="0" t="0" r="r" b="b"/>
            <a:pathLst>
              <a:path w="7541" h="6386">
                <a:moveTo>
                  <a:pt x="0" y="3192"/>
                </a:moveTo>
                <a:lnTo>
                  <a:pt x="1508" y="6386"/>
                </a:lnTo>
                <a:lnTo>
                  <a:pt x="6033" y="6386"/>
                </a:lnTo>
                <a:lnTo>
                  <a:pt x="7541" y="3192"/>
                </a:lnTo>
                <a:lnTo>
                  <a:pt x="6033" y="0"/>
                </a:lnTo>
                <a:lnTo>
                  <a:pt x="1508" y="0"/>
                </a:lnTo>
                <a:lnTo>
                  <a:pt x="0" y="319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38160" y="2851200"/>
            <a:ext cx="2715120" cy="2298960"/>
          </a:xfrm>
          <a:custGeom>
            <a:avLst/>
            <a:gdLst/>
            <a:ahLst/>
            <a:rect l="0" t="0" r="r" b="b"/>
            <a:pathLst>
              <a:path w="7542" h="6386">
                <a:moveTo>
                  <a:pt x="0" y="3192"/>
                </a:moveTo>
                <a:lnTo>
                  <a:pt x="1508" y="6386"/>
                </a:lnTo>
                <a:lnTo>
                  <a:pt x="6034" y="6386"/>
                </a:lnTo>
                <a:lnTo>
                  <a:pt x="7542" y="3192"/>
                </a:lnTo>
                <a:lnTo>
                  <a:pt x="6034" y="0"/>
                </a:lnTo>
                <a:lnTo>
                  <a:pt x="1508" y="0"/>
                </a:lnTo>
                <a:lnTo>
                  <a:pt x="0" y="319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8086680" y="304920"/>
            <a:ext cx="1071720" cy="1079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9200" y="266760"/>
            <a:ext cx="1079640" cy="111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44640" y="4000680"/>
            <a:ext cx="27162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11360" y="4040280"/>
            <a:ext cx="684000" cy="1065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871640" y="363384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3594240" y="1066680"/>
            <a:ext cx="2622600" cy="3124440"/>
            <a:chOff x="3594240" y="1066680"/>
            <a:chExt cx="2622600" cy="3124440"/>
          </a:xfrm>
        </p:grpSpPr>
        <p:sp>
          <p:nvSpPr>
            <p:cNvPr id="55" name=""/>
            <p:cNvSpPr txBox="1"/>
            <p:nvPr/>
          </p:nvSpPr>
          <p:spPr>
            <a:xfrm>
              <a:off x="3594240" y="1676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 txBox="1"/>
            <p:nvPr/>
          </p:nvSpPr>
          <p:spPr>
            <a:xfrm>
              <a:off x="4737240" y="1066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5880240" y="1676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 txBox="1"/>
            <p:nvPr/>
          </p:nvSpPr>
          <p:spPr>
            <a:xfrm>
              <a:off x="5880240" y="31240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4737240" y="37339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3670200" y="31240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184800" y="2438280"/>
            <a:ext cx="2622600" cy="3124440"/>
            <a:chOff x="6184800" y="2438280"/>
            <a:chExt cx="2622600" cy="3124440"/>
          </a:xfrm>
        </p:grpSpPr>
        <p:sp>
          <p:nvSpPr>
            <p:cNvPr id="62" name=""/>
            <p:cNvSpPr txBox="1"/>
            <p:nvPr/>
          </p:nvSpPr>
          <p:spPr>
            <a:xfrm>
              <a:off x="618480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 txBox="1"/>
            <p:nvPr/>
          </p:nvSpPr>
          <p:spPr>
            <a:xfrm>
              <a:off x="7327800" y="24382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 txBox="1"/>
            <p:nvPr/>
          </p:nvSpPr>
          <p:spPr>
            <a:xfrm>
              <a:off x="847080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 txBox="1"/>
            <p:nvPr/>
          </p:nvSpPr>
          <p:spPr>
            <a:xfrm>
              <a:off x="8470800" y="4495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 txBox="1"/>
            <p:nvPr/>
          </p:nvSpPr>
          <p:spPr>
            <a:xfrm>
              <a:off x="7327800" y="5105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6261120" y="4495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923760" y="2438280"/>
            <a:ext cx="2622600" cy="3124440"/>
            <a:chOff x="923760" y="2438280"/>
            <a:chExt cx="2622600" cy="3124440"/>
          </a:xfrm>
        </p:grpSpPr>
        <p:sp>
          <p:nvSpPr>
            <p:cNvPr id="69" name=""/>
            <p:cNvSpPr txBox="1"/>
            <p:nvPr/>
          </p:nvSpPr>
          <p:spPr>
            <a:xfrm>
              <a:off x="92376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066760" y="24382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3209760" y="30481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3209760" y="4495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2066760" y="510552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1000080" y="44956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3575160" y="2625840"/>
            <a:ext cx="1446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040360" y="1467000"/>
            <a:ext cx="531720" cy="9126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4973760" y="2716200"/>
            <a:ext cx="598320" cy="1057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481640" y="226224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57800" y="4000680"/>
            <a:ext cx="26910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7656480" y="2865600"/>
            <a:ext cx="506520" cy="868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7643880" y="4281480"/>
            <a:ext cx="525240" cy="849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7072200" y="363204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79400" y="2946240"/>
            <a:ext cx="12510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he Great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3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70000" y="403848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968480" y="441972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Entrance H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943440" y="175248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Besti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281560" y="2362320"/>
            <a:ext cx="8366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Spe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ha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019400" y="297180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rch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585120" y="2933640"/>
            <a:ext cx="117144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ppren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Quar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7808760" y="342900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885080" y="411480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610320" y="434340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2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822400" y="533520"/>
            <a:ext cx="42051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Dark Mage’s T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685880" y="835200"/>
            <a:ext cx="927000" cy="112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248600" y="835200"/>
            <a:ext cx="927000" cy="1126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3586320" y="4186080"/>
            <a:ext cx="2715120" cy="2298960"/>
          </a:xfrm>
          <a:custGeom>
            <a:avLst/>
            <a:gdLst/>
            <a:ahLst/>
            <a:rect l="0" t="0" r="r" b="b"/>
            <a:pathLst>
              <a:path w="7542" h="6386">
                <a:moveTo>
                  <a:pt x="0" y="3192"/>
                </a:moveTo>
                <a:lnTo>
                  <a:pt x="1508" y="6386"/>
                </a:lnTo>
                <a:lnTo>
                  <a:pt x="6034" y="6386"/>
                </a:lnTo>
                <a:lnTo>
                  <a:pt x="7542" y="3192"/>
                </a:lnTo>
                <a:lnTo>
                  <a:pt x="6034" y="0"/>
                </a:lnTo>
                <a:lnTo>
                  <a:pt x="1508" y="0"/>
                </a:lnTo>
                <a:lnTo>
                  <a:pt x="0" y="319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998880" y="4572000"/>
            <a:ext cx="1882800" cy="55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wer’s awa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78280" y="5049720"/>
            <a:ext cx="6192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02240" y="5049720"/>
            <a:ext cx="6192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26200" y="5049720"/>
            <a:ext cx="619200" cy="6192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064040" y="5715000"/>
            <a:ext cx="16970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1 Craft x 5 Tur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9640" y="1252440"/>
            <a:ext cx="2715120" cy="2449800"/>
          </a:xfrm>
          <a:custGeom>
            <a:avLst/>
            <a:gdLst/>
            <a:ahLst/>
            <a:rect l="0" t="0" r="r" b="b"/>
            <a:pathLst>
              <a:path w="7542" h="6805">
                <a:moveTo>
                  <a:pt x="0" y="3403"/>
                </a:moveTo>
                <a:lnTo>
                  <a:pt x="1508" y="6805"/>
                </a:lnTo>
                <a:lnTo>
                  <a:pt x="6034" y="6805"/>
                </a:lnTo>
                <a:lnTo>
                  <a:pt x="7542" y="3403"/>
                </a:lnTo>
                <a:lnTo>
                  <a:pt x="6034" y="0"/>
                </a:lnTo>
                <a:lnTo>
                  <a:pt x="1508" y="0"/>
                </a:lnTo>
                <a:lnTo>
                  <a:pt x="0" y="340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29080" y="2624040"/>
            <a:ext cx="2715120" cy="2449800"/>
          </a:xfrm>
          <a:custGeom>
            <a:avLst/>
            <a:gdLst/>
            <a:ahLst/>
            <a:rect l="0" t="0" r="r" b="b"/>
            <a:pathLst>
              <a:path w="7542" h="6805">
                <a:moveTo>
                  <a:pt x="0" y="3403"/>
                </a:moveTo>
                <a:lnTo>
                  <a:pt x="1508" y="6805"/>
                </a:lnTo>
                <a:lnTo>
                  <a:pt x="6034" y="6805"/>
                </a:lnTo>
                <a:lnTo>
                  <a:pt x="7542" y="3403"/>
                </a:lnTo>
                <a:lnTo>
                  <a:pt x="6034" y="0"/>
                </a:lnTo>
                <a:lnTo>
                  <a:pt x="1508" y="0"/>
                </a:lnTo>
                <a:lnTo>
                  <a:pt x="0" y="340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9080" y="1252440"/>
            <a:ext cx="2715120" cy="2449800"/>
          </a:xfrm>
          <a:custGeom>
            <a:avLst/>
            <a:gdLst/>
            <a:ahLst/>
            <a:rect l="0" t="0" r="r" b="b"/>
            <a:pathLst>
              <a:path w="7542" h="6805">
                <a:moveTo>
                  <a:pt x="0" y="3403"/>
                </a:moveTo>
                <a:lnTo>
                  <a:pt x="1508" y="6805"/>
                </a:lnTo>
                <a:lnTo>
                  <a:pt x="6034" y="6805"/>
                </a:lnTo>
                <a:lnTo>
                  <a:pt x="7542" y="3403"/>
                </a:lnTo>
                <a:lnTo>
                  <a:pt x="6034" y="0"/>
                </a:lnTo>
                <a:lnTo>
                  <a:pt x="1508" y="0"/>
                </a:lnTo>
                <a:lnTo>
                  <a:pt x="0" y="340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619200" y="5486400"/>
            <a:ext cx="1079640" cy="1098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8086680" y="5486400"/>
            <a:ext cx="109044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9" name=""/>
          <p:cNvGrpSpPr/>
          <p:nvPr/>
        </p:nvGrpSpPr>
        <p:grpSpPr>
          <a:xfrm>
            <a:off x="965160" y="914400"/>
            <a:ext cx="2622600" cy="3124080"/>
            <a:chOff x="965160" y="914400"/>
            <a:chExt cx="2622600" cy="3124080"/>
          </a:xfrm>
        </p:grpSpPr>
        <p:sp>
          <p:nvSpPr>
            <p:cNvPr id="110" name=""/>
            <p:cNvSpPr txBox="1"/>
            <p:nvPr/>
          </p:nvSpPr>
          <p:spPr>
            <a:xfrm>
              <a:off x="965160" y="1523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2108160" y="9144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3251160" y="1523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 txBox="1"/>
            <p:nvPr/>
          </p:nvSpPr>
          <p:spPr>
            <a:xfrm>
              <a:off x="3251160" y="29718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2108160" y="35812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1041480" y="29718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3575160" y="2286000"/>
            <a:ext cx="2622600" cy="3124080"/>
            <a:chOff x="3575160" y="2286000"/>
            <a:chExt cx="2622600" cy="3124080"/>
          </a:xfrm>
        </p:grpSpPr>
        <p:sp>
          <p:nvSpPr>
            <p:cNvPr id="117" name=""/>
            <p:cNvSpPr txBox="1"/>
            <p:nvPr/>
          </p:nvSpPr>
          <p:spPr>
            <a:xfrm>
              <a:off x="3575160" y="28954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4718160" y="22860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5861160" y="28954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5861160" y="43434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4718160" y="4952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3651120" y="43434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6165720" y="914400"/>
            <a:ext cx="2622600" cy="3124080"/>
            <a:chOff x="6165720" y="914400"/>
            <a:chExt cx="2622600" cy="3124080"/>
          </a:xfrm>
        </p:grpSpPr>
        <p:sp>
          <p:nvSpPr>
            <p:cNvPr id="124" name=""/>
            <p:cNvSpPr txBox="1"/>
            <p:nvPr/>
          </p:nvSpPr>
          <p:spPr>
            <a:xfrm>
              <a:off x="6165720" y="1523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7308720" y="9144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8451720" y="15238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8451720" y="29718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 txBox="1"/>
            <p:nvPr/>
          </p:nvSpPr>
          <p:spPr>
            <a:xfrm>
              <a:off x="7308720" y="358128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 txBox="1"/>
            <p:nvPr/>
          </p:nvSpPr>
          <p:spPr>
            <a:xfrm>
              <a:off x="6242040" y="2971800"/>
              <a:ext cx="33660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1598760" y="1258920"/>
            <a:ext cx="1350720" cy="2442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604880" y="1252440"/>
            <a:ext cx="1338480" cy="24433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25560" y="2478240"/>
            <a:ext cx="2703600" cy="4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852560" y="210996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535200" y="3849840"/>
            <a:ext cx="2710080" cy="46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2920" bIns="-52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202280" y="2630520"/>
            <a:ext cx="1344600" cy="2442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 flipV="1">
            <a:off x="5059440" y="4148280"/>
            <a:ext cx="493560" cy="9190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462560" y="348156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38720" y="2489040"/>
            <a:ext cx="267840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7053120" y="2109960"/>
            <a:ext cx="847800" cy="735120"/>
          </a:xfrm>
          <a:prstGeom prst="rect">
            <a:avLst/>
          </a:prstGeom>
          <a:gradFill rotWithShape="0">
            <a:gsLst>
              <a:gs pos="0">
                <a:srgbClr val="8000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218200" y="327672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46600" y="396252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218200" y="4038480"/>
            <a:ext cx="71280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008600" y="2895480"/>
            <a:ext cx="1117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ark Mage’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Quar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8640" y="4495680"/>
            <a:ext cx="8110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Room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Mi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824120" y="1270080"/>
            <a:ext cx="92088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Ruins/D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487600" y="1720800"/>
            <a:ext cx="9158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 Mag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Emporium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604960" y="2527200"/>
            <a:ext cx="85716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Warlock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795320" y="3117960"/>
            <a:ext cx="96192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 Keeper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he Crystal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1092240" y="2514600"/>
            <a:ext cx="91296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 Valley o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Fir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1122480" y="1828800"/>
            <a:ext cx="852480" cy="6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el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to Wa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Gate/D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a C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880320" y="2895480"/>
            <a:ext cx="11714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Libra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Draw 3 C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932520" y="1447920"/>
            <a:ext cx="11383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Lucida Blackletter"/>
                <a:ea typeface="Lucida Blackletter"/>
              </a:rPr>
              <a:t>Spawning P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257880" y="4343400"/>
            <a:ext cx="3622680" cy="186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Spawning Pit : Roll 1 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1. A creature eats a Follow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choose at rand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2. Attacked by a beast, Strength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3. Diseased remains cost you 1 Lif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4. Lose a turn exploring the ro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5. You find 2 Gol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6. You find a Talis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52360" y="4191120"/>
            <a:ext cx="3276720" cy="21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Spell Chamber : Gain a Spell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you do not hav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Dark Mage’s Quarters : Dra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2 Cards, all Spir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double their Cra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Room Of Mirrors : Look at the Sp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of any Character of your 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Matura MT Script Capitals"/>
                <a:ea typeface="Matura MT Script Capitals"/>
              </a:rPr>
              <a:t>Cho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P, Authorized Customer</dc:creator>
  <dc:description/>
  <dc:language>en-US</dc:language>
  <cp:lastModifiedBy>Research Machine PC</cp:lastModifiedBy>
  <cp:revision>0</cp:revision>
  <dc:subject/>
  <dc:title>No Slide Title</dc:title>
</cp:coreProperties>
</file>